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cf5"/>
            </a:gs>
            <a:gs pos="50000">
              <a:srgbClr val="ffffff"/>
            </a:gs>
            <a:gs pos="100000">
              <a:srgbClr val="c3dc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847800" y="865080"/>
            <a:ext cx="8250120" cy="63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F:\교수님\GIST_UI\영문_sky.jpg"/>
          <p:cNvPicPr/>
          <p:nvPr/>
        </p:nvPicPr>
        <p:blipFill>
          <a:blip r:embed="rId3"/>
          <a:stretch/>
        </p:blipFill>
        <p:spPr>
          <a:xfrm>
            <a:off x="546120" y="6343560"/>
            <a:ext cx="1908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8"/>
          <p:cNvSpPr/>
          <p:nvPr/>
        </p:nvSpPr>
        <p:spPr>
          <a:xfrm>
            <a:off x="5346720" y="6362640"/>
            <a:ext cx="295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 Black"/>
                <a:ea typeface="돋움"/>
              </a:rPr>
              <a:t>Intelligent System Design La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9" descr="D:\MYDOC\paper_writing\ppt\lablogo20.jpe"/>
          <p:cNvPicPr/>
          <p:nvPr/>
        </p:nvPicPr>
        <p:blipFill>
          <a:blip r:embed="rId4"/>
          <a:stretch/>
        </p:blipFill>
        <p:spPr>
          <a:xfrm>
            <a:off x="8300880" y="6329520"/>
            <a:ext cx="77184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46"/>
          <p:cNvSpPr/>
          <p:nvPr/>
        </p:nvSpPr>
        <p:spPr>
          <a:xfrm>
            <a:off x="1143720" y="255600"/>
            <a:ext cx="77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3. Harmonically Excited V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147"/>
          <p:cNvSpPr/>
          <p:nvPr/>
        </p:nvSpPr>
        <p:spPr>
          <a:xfrm>
            <a:off x="870120" y="1060560"/>
            <a:ext cx="82706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pure harmonic excitation for understanding the behav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simple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148"/>
              <p:cNvSpPr txBox="1"/>
              <p:nvPr/>
            </p:nvSpPr>
            <p:spPr>
              <a:xfrm>
                <a:off x="2662200" y="1857240"/>
                <a:ext cx="29703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Group 155"/>
          <p:cNvGrpSpPr/>
          <p:nvPr/>
        </p:nvGrpSpPr>
        <p:grpSpPr>
          <a:xfrm>
            <a:off x="925560" y="2308320"/>
            <a:ext cx="8271000" cy="1234440"/>
            <a:chOff x="925560" y="2308320"/>
            <a:chExt cx="8271000" cy="1234440"/>
          </a:xfrm>
        </p:grpSpPr>
        <p:sp>
          <p:nvSpPr>
            <p:cNvPr id="44" name="Text Box 149"/>
            <p:cNvSpPr/>
            <p:nvPr/>
          </p:nvSpPr>
          <p:spPr>
            <a:xfrm>
              <a:off x="925560" y="2308320"/>
              <a:ext cx="8271000" cy="12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omogeneous Soln : complementary fun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rticular         Soln : particular integ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50"/>
            <p:cNvGrpSpPr/>
            <p:nvPr/>
          </p:nvGrpSpPr>
          <p:grpSpPr>
            <a:xfrm>
              <a:off x="1179360" y="2478240"/>
              <a:ext cx="169920" cy="419040"/>
              <a:chOff x="1179360" y="2478240"/>
              <a:chExt cx="169920" cy="419040"/>
            </a:xfrm>
          </p:grpSpPr>
          <p:sp>
            <p:nvSpPr>
              <p:cNvPr id="46" name="Line 151"/>
              <p:cNvSpPr/>
              <p:nvPr/>
            </p:nvSpPr>
            <p:spPr>
              <a:xfrm>
                <a:off x="1190520" y="2478240"/>
                <a:ext cx="15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152"/>
              <p:cNvSpPr/>
              <p:nvPr/>
            </p:nvSpPr>
            <p:spPr>
              <a:xfrm>
                <a:off x="1184400" y="2897280"/>
                <a:ext cx="15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53"/>
              <p:cNvSpPr/>
              <p:nvPr/>
            </p:nvSpPr>
            <p:spPr>
              <a:xfrm>
                <a:off x="1179360" y="2478240"/>
                <a:ext cx="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9" name="Object 154"/>
              <p:cNvSpPr txBox="1"/>
              <p:nvPr/>
            </p:nvSpPr>
            <p:spPr>
              <a:xfrm>
                <a:off x="1990800" y="3324240"/>
                <a:ext cx="5850000" cy="26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m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c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,         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cω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sSup>
                                              <m:e>
                                                <m:r>
                                                  <m:t xml:space="preserve">mω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p>
                                          </m:num>
                                          <m:den>
                                            <m:r>
                                              <m:t xml:space="preserve">k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cω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k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,         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cω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912960" y="3808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Support Mo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1"/>
          <p:cNvGraphicFramePr/>
          <p:nvPr/>
        </p:nvGraphicFramePr>
        <p:xfrm>
          <a:off x="3821040" y="1052640"/>
          <a:ext cx="5418360" cy="12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1040" y="1052640"/>
                    <a:ext cx="54183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3884760" y="2568600"/>
                <a:ext cx="561816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cω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ω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1677960" y="4248000"/>
                <a:ext cx="546120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solu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ϕ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ϕ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8" name="Group 46"/>
          <p:cNvGrpSpPr/>
          <p:nvPr/>
        </p:nvGrpSpPr>
        <p:grpSpPr>
          <a:xfrm>
            <a:off x="774720" y="1214280"/>
            <a:ext cx="2799720" cy="2242440"/>
            <a:chOff x="774720" y="1214280"/>
            <a:chExt cx="2799720" cy="2242440"/>
          </a:xfrm>
        </p:grpSpPr>
        <p:grpSp>
          <p:nvGrpSpPr>
            <p:cNvPr id="129" name="Group 11"/>
            <p:cNvGrpSpPr/>
            <p:nvPr/>
          </p:nvGrpSpPr>
          <p:grpSpPr>
            <a:xfrm>
              <a:off x="774720" y="1214280"/>
              <a:ext cx="2799720" cy="2242440"/>
              <a:chOff x="774720" y="1214280"/>
              <a:chExt cx="2799720" cy="2242440"/>
            </a:xfrm>
          </p:grpSpPr>
          <p:grpSp>
            <p:nvGrpSpPr>
              <p:cNvPr id="130" name="Group 12"/>
              <p:cNvGrpSpPr/>
              <p:nvPr/>
            </p:nvGrpSpPr>
            <p:grpSpPr>
              <a:xfrm>
                <a:off x="774720" y="1214280"/>
                <a:ext cx="2286000" cy="2210040"/>
                <a:chOff x="774720" y="1214280"/>
                <a:chExt cx="2286000" cy="2210040"/>
              </a:xfrm>
            </p:grpSpPr>
            <p:grpSp>
              <p:nvGrpSpPr>
                <p:cNvPr id="131" name="Group 13"/>
                <p:cNvGrpSpPr/>
                <p:nvPr/>
              </p:nvGrpSpPr>
              <p:grpSpPr>
                <a:xfrm>
                  <a:off x="774720" y="1214280"/>
                  <a:ext cx="2286000" cy="2210040"/>
                  <a:chOff x="774720" y="1214280"/>
                  <a:chExt cx="2286000" cy="2210040"/>
                </a:xfrm>
              </p:grpSpPr>
              <p:sp>
                <p:nvSpPr>
                  <p:cNvPr id="132" name="Rectangle 14"/>
                  <p:cNvSpPr/>
                  <p:nvPr/>
                </p:nvSpPr>
                <p:spPr>
                  <a:xfrm>
                    <a:off x="1003320" y="1214280"/>
                    <a:ext cx="1828800" cy="1067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5"/>
                  <p:cNvGrpSpPr/>
                  <p:nvPr/>
                </p:nvGrpSpPr>
                <p:grpSpPr>
                  <a:xfrm>
                    <a:off x="1155960" y="2281320"/>
                    <a:ext cx="304560" cy="990000"/>
                    <a:chOff x="1155960" y="2281320"/>
                    <a:chExt cx="304560" cy="990000"/>
                  </a:xfrm>
                </p:grpSpPr>
                <p:sp>
                  <p:nvSpPr>
                    <p:cNvPr id="134" name="Line 16"/>
                    <p:cNvSpPr/>
                    <p:nvPr/>
                  </p:nvSpPr>
                  <p:spPr>
                    <a:xfrm>
                      <a:off x="1308240" y="2281320"/>
                      <a:ext cx="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Line 17"/>
                    <p:cNvSpPr/>
                    <p:nvPr/>
                  </p:nvSpPr>
                  <p:spPr>
                    <a:xfrm>
                      <a:off x="1308240" y="2585880"/>
                      <a:ext cx="15228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8"/>
                    <p:cNvSpPr/>
                    <p:nvPr/>
                  </p:nvSpPr>
                  <p:spPr>
                    <a:xfrm flipH="1">
                      <a:off x="1155960" y="2662200"/>
                      <a:ext cx="30456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19"/>
                    <p:cNvSpPr/>
                    <p:nvPr/>
                  </p:nvSpPr>
                  <p:spPr>
                    <a:xfrm>
                      <a:off x="1155960" y="2738160"/>
                      <a:ext cx="30456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0"/>
                    <p:cNvSpPr/>
                    <p:nvPr/>
                  </p:nvSpPr>
                  <p:spPr>
                    <a:xfrm flipH="1">
                      <a:off x="1155960" y="2814480"/>
                      <a:ext cx="30456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1"/>
                    <p:cNvSpPr/>
                    <p:nvPr/>
                  </p:nvSpPr>
                  <p:spPr>
                    <a:xfrm>
                      <a:off x="1155960" y="2890800"/>
                      <a:ext cx="15228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2"/>
                    <p:cNvSpPr/>
                    <p:nvPr/>
                  </p:nvSpPr>
                  <p:spPr>
                    <a:xfrm>
                      <a:off x="1308240" y="2966760"/>
                      <a:ext cx="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" name="Group 23"/>
                  <p:cNvGrpSpPr/>
                  <p:nvPr/>
                </p:nvGrpSpPr>
                <p:grpSpPr>
                  <a:xfrm>
                    <a:off x="2374560" y="2281320"/>
                    <a:ext cx="305280" cy="990360"/>
                    <a:chOff x="2374560" y="2281320"/>
                    <a:chExt cx="305280" cy="990360"/>
                  </a:xfrm>
                </p:grpSpPr>
                <p:sp>
                  <p:nvSpPr>
                    <p:cNvPr id="142" name="Line 24"/>
                    <p:cNvSpPr/>
                    <p:nvPr/>
                  </p:nvSpPr>
                  <p:spPr>
                    <a:xfrm>
                      <a:off x="2527560" y="2281320"/>
                      <a:ext cx="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25"/>
                    <p:cNvSpPr/>
                    <p:nvPr/>
                  </p:nvSpPr>
                  <p:spPr>
                    <a:xfrm>
                      <a:off x="2527560" y="2585880"/>
                      <a:ext cx="15228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6"/>
                    <p:cNvSpPr/>
                    <p:nvPr/>
                  </p:nvSpPr>
                  <p:spPr>
                    <a:xfrm flipH="1">
                      <a:off x="2374560" y="2662200"/>
                      <a:ext cx="3049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27"/>
                    <p:cNvSpPr/>
                    <p:nvPr/>
                  </p:nvSpPr>
                  <p:spPr>
                    <a:xfrm>
                      <a:off x="2374920" y="2738520"/>
                      <a:ext cx="304920" cy="7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28"/>
                    <p:cNvSpPr/>
                    <p:nvPr/>
                  </p:nvSpPr>
                  <p:spPr>
                    <a:xfrm flipH="1">
                      <a:off x="2374560" y="2814480"/>
                      <a:ext cx="30492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29"/>
                    <p:cNvSpPr/>
                    <p:nvPr/>
                  </p:nvSpPr>
                  <p:spPr>
                    <a:xfrm>
                      <a:off x="2374920" y="2890800"/>
                      <a:ext cx="15264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"/>
                    <p:cNvSpPr/>
                    <p:nvPr/>
                  </p:nvSpPr>
                  <p:spPr>
                    <a:xfrm>
                      <a:off x="2527560" y="2967120"/>
                      <a:ext cx="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" name="Line 31"/>
                  <p:cNvSpPr/>
                  <p:nvPr/>
                </p:nvSpPr>
                <p:spPr>
                  <a:xfrm>
                    <a:off x="1917720" y="2281320"/>
                    <a:ext cx="0" cy="53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32"/>
                  <p:cNvSpPr/>
                  <p:nvPr/>
                </p:nvSpPr>
                <p:spPr>
                  <a:xfrm>
                    <a:off x="1765440" y="281448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33"/>
                  <p:cNvSpPr/>
                  <p:nvPr/>
                </p:nvSpPr>
                <p:spPr>
                  <a:xfrm>
                    <a:off x="1765440" y="27385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34"/>
                  <p:cNvSpPr/>
                  <p:nvPr/>
                </p:nvSpPr>
                <p:spPr>
                  <a:xfrm>
                    <a:off x="2070360" y="27385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35"/>
                  <p:cNvSpPr/>
                  <p:nvPr/>
                </p:nvSpPr>
                <p:spPr>
                  <a:xfrm>
                    <a:off x="1765440" y="2967120"/>
                    <a:ext cx="3049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36"/>
                  <p:cNvSpPr/>
                  <p:nvPr/>
                </p:nvSpPr>
                <p:spPr>
                  <a:xfrm>
                    <a:off x="1917720" y="29671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Rectangle 37"/>
                  <p:cNvSpPr/>
                  <p:nvPr/>
                </p:nvSpPr>
                <p:spPr>
                  <a:xfrm>
                    <a:off x="774720" y="3271680"/>
                    <a:ext cx="2286000" cy="152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56" name="Object 5"/>
                    <p:cNvSpPr txBox="1"/>
                    <p:nvPr/>
                  </p:nvSpPr>
                  <p:spPr>
                    <a:xfrm>
                      <a:off x="927360" y="2585880"/>
                      <a:ext cx="152280" cy="393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157" name="Object 6"/>
                    <p:cNvSpPr txBox="1"/>
                    <p:nvPr/>
                  </p:nvSpPr>
                  <p:spPr>
                    <a:xfrm>
                      <a:off x="2679840" y="2585880"/>
                      <a:ext cx="152280" cy="3938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158" name="Text Box 40"/>
                <p:cNvSpPr/>
                <p:nvPr/>
              </p:nvSpPr>
              <p:spPr>
                <a:xfrm>
                  <a:off x="1989000" y="24066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굴림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Line 41"/>
              <p:cNvSpPr/>
              <p:nvPr/>
            </p:nvSpPr>
            <p:spPr>
              <a:xfrm flipV="1">
                <a:off x="3213360" y="3042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42"/>
              <p:cNvSpPr/>
              <p:nvPr/>
            </p:nvSpPr>
            <p:spPr>
              <a:xfrm flipV="1">
                <a:off x="3137040" y="1519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43"/>
              <p:cNvSpPr/>
              <p:nvPr/>
            </p:nvSpPr>
            <p:spPr>
              <a:xfrm>
                <a:off x="3212640" y="1595520"/>
                <a:ext cx="28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굴림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4"/>
              <p:cNvSpPr/>
              <p:nvPr/>
            </p:nvSpPr>
            <p:spPr>
              <a:xfrm>
                <a:off x="3290040" y="311940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굴림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3" name="Object 4"/>
                <p:cNvSpPr txBox="1"/>
                <p:nvPr/>
              </p:nvSpPr>
              <p:spPr>
                <a:xfrm>
                  <a:off x="1704960" y="1635120"/>
                  <a:ext cx="258840" cy="2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450720" y="1038240"/>
                <a:ext cx="9244080" cy="505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φ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φ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ω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φ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φ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φ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c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φ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</m:t>
                            </m:r>
                          </m:e>
                          <m:sup>
                            <m:r>
                              <m:t xml:space="preserve">i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c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mω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c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ζ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num>
                                                    <m:r>
                                                      <m:t xml:space="preserve">ω</m:t>
                                                    </m:r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n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ζ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E:\temp\교수님 수업자료\f4.jpg"/>
          <p:cNvPicPr/>
          <p:nvPr/>
        </p:nvPicPr>
        <p:blipFill>
          <a:blip r:embed="rId1"/>
          <a:stretch/>
        </p:blipFill>
        <p:spPr>
          <a:xfrm>
            <a:off x="3394080" y="1093680"/>
            <a:ext cx="6048360" cy="439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Object 0"/>
              <p:cNvSpPr txBox="1"/>
              <p:nvPr/>
            </p:nvSpPr>
            <p:spPr>
              <a:xfrm>
                <a:off x="380880" y="1677960"/>
                <a:ext cx="2779920" cy="30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ζ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num>
                                                    <m:r>
                                                      <m:t xml:space="preserve">ω</m:t>
                                                    </m:r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n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ζ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타원 1"/>
          <p:cNvSpPr/>
          <p:nvPr/>
        </p:nvSpPr>
        <p:spPr>
          <a:xfrm>
            <a:off x="5245200" y="4735440"/>
            <a:ext cx="361800" cy="354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852480" y="417600"/>
            <a:ext cx="73152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6 Vibratio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tect a delicate object from transmitted forc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0"/>
              <p:cNvSpPr txBox="1"/>
              <p:nvPr/>
            </p:nvSpPr>
            <p:spPr>
              <a:xfrm>
                <a:off x="4275000" y="1338120"/>
                <a:ext cx="5119920" cy="507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cω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ς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num>
                                                    <m:r>
                                                      <m:t xml:space="preserve">ω</m:t>
                                                    </m:r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n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ς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missibility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ς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num>
                                                    <m:r>
                                                      <m:t xml:space="preserve">ω</m:t>
                                                    </m:r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2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ς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glect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mp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Δ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Δ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"/>
              <p:cNvSpPr txBox="1"/>
              <p:nvPr/>
            </p:nvSpPr>
            <p:spPr>
              <a:xfrm>
                <a:off x="936720" y="1306440"/>
                <a:ext cx="26589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ϖ</m:t>
                        </m:r>
                      </m:num>
                      <m:den>
                        <m:sSub>
                          <m:e>
                            <m:r>
                              <m:t xml:space="preserve">ϖ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→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" name="Group 8"/>
          <p:cNvGrpSpPr/>
          <p:nvPr/>
        </p:nvGrpSpPr>
        <p:grpSpPr>
          <a:xfrm>
            <a:off x="817560" y="2217600"/>
            <a:ext cx="2122560" cy="1970280"/>
            <a:chOff x="817560" y="2217600"/>
            <a:chExt cx="2122560" cy="1970280"/>
          </a:xfrm>
        </p:grpSpPr>
        <p:grpSp>
          <p:nvGrpSpPr>
            <p:cNvPr id="172" name="Group 9"/>
            <p:cNvGrpSpPr/>
            <p:nvPr/>
          </p:nvGrpSpPr>
          <p:grpSpPr>
            <a:xfrm>
              <a:off x="817560" y="2217600"/>
              <a:ext cx="2122560" cy="1970280"/>
              <a:chOff x="817560" y="2217600"/>
              <a:chExt cx="2122560" cy="1970280"/>
            </a:xfrm>
          </p:grpSpPr>
          <p:grpSp>
            <p:nvGrpSpPr>
              <p:cNvPr id="173" name="Group 10"/>
              <p:cNvGrpSpPr/>
              <p:nvPr/>
            </p:nvGrpSpPr>
            <p:grpSpPr>
              <a:xfrm>
                <a:off x="817560" y="2217600"/>
                <a:ext cx="2122560" cy="1970280"/>
                <a:chOff x="817560" y="2217600"/>
                <a:chExt cx="2122560" cy="1970280"/>
              </a:xfrm>
            </p:grpSpPr>
            <p:sp>
              <p:nvSpPr>
                <p:cNvPr id="174" name="Rectangle 11"/>
                <p:cNvSpPr/>
                <p:nvPr/>
              </p:nvSpPr>
              <p:spPr>
                <a:xfrm>
                  <a:off x="1029600" y="2217600"/>
                  <a:ext cx="1697760" cy="951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12"/>
                <p:cNvGrpSpPr/>
                <p:nvPr/>
              </p:nvGrpSpPr>
              <p:grpSpPr>
                <a:xfrm>
                  <a:off x="1171080" y="3168720"/>
                  <a:ext cx="282960" cy="882360"/>
                  <a:chOff x="1171080" y="3168720"/>
                  <a:chExt cx="282960" cy="882360"/>
                </a:xfrm>
              </p:grpSpPr>
              <p:sp>
                <p:nvSpPr>
                  <p:cNvPr id="176" name="Line 13"/>
                  <p:cNvSpPr/>
                  <p:nvPr/>
                </p:nvSpPr>
                <p:spPr>
                  <a:xfrm>
                    <a:off x="1312560" y="3168720"/>
                    <a:ext cx="0" cy="27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14"/>
                  <p:cNvSpPr/>
                  <p:nvPr/>
                </p:nvSpPr>
                <p:spPr>
                  <a:xfrm>
                    <a:off x="1312560" y="3440160"/>
                    <a:ext cx="14112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15"/>
                  <p:cNvSpPr/>
                  <p:nvPr/>
                </p:nvSpPr>
                <p:spPr>
                  <a:xfrm flipH="1">
                    <a:off x="1171080" y="3508200"/>
                    <a:ext cx="28260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16"/>
                  <p:cNvSpPr/>
                  <p:nvPr/>
                </p:nvSpPr>
                <p:spPr>
                  <a:xfrm>
                    <a:off x="1171440" y="3575880"/>
                    <a:ext cx="28260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7"/>
                  <p:cNvSpPr/>
                  <p:nvPr/>
                </p:nvSpPr>
                <p:spPr>
                  <a:xfrm flipH="1">
                    <a:off x="1171080" y="3643920"/>
                    <a:ext cx="28260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8"/>
                  <p:cNvSpPr/>
                  <p:nvPr/>
                </p:nvSpPr>
                <p:spPr>
                  <a:xfrm>
                    <a:off x="1171440" y="3711960"/>
                    <a:ext cx="14112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9"/>
                  <p:cNvSpPr/>
                  <p:nvPr/>
                </p:nvSpPr>
                <p:spPr>
                  <a:xfrm>
                    <a:off x="1312560" y="3779640"/>
                    <a:ext cx="0" cy="27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20"/>
                <p:cNvGrpSpPr/>
                <p:nvPr/>
              </p:nvGrpSpPr>
              <p:grpSpPr>
                <a:xfrm>
                  <a:off x="2303280" y="3168720"/>
                  <a:ext cx="282960" cy="882720"/>
                  <a:chOff x="2303280" y="3168720"/>
                  <a:chExt cx="282960" cy="882720"/>
                </a:xfrm>
              </p:grpSpPr>
              <p:sp>
                <p:nvSpPr>
                  <p:cNvPr id="184" name="Line 21"/>
                  <p:cNvSpPr/>
                  <p:nvPr/>
                </p:nvSpPr>
                <p:spPr>
                  <a:xfrm>
                    <a:off x="2444760" y="3168720"/>
                    <a:ext cx="0" cy="27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22"/>
                  <p:cNvSpPr/>
                  <p:nvPr/>
                </p:nvSpPr>
                <p:spPr>
                  <a:xfrm>
                    <a:off x="2444760" y="3440160"/>
                    <a:ext cx="14112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23"/>
                  <p:cNvSpPr/>
                  <p:nvPr/>
                </p:nvSpPr>
                <p:spPr>
                  <a:xfrm flipH="1">
                    <a:off x="2303280" y="3508200"/>
                    <a:ext cx="28296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24"/>
                  <p:cNvSpPr/>
                  <p:nvPr/>
                </p:nvSpPr>
                <p:spPr>
                  <a:xfrm>
                    <a:off x="2303280" y="3576240"/>
                    <a:ext cx="28296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25"/>
                  <p:cNvSpPr/>
                  <p:nvPr/>
                </p:nvSpPr>
                <p:spPr>
                  <a:xfrm flipH="1">
                    <a:off x="2303280" y="3643920"/>
                    <a:ext cx="28296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26"/>
                  <p:cNvSpPr/>
                  <p:nvPr/>
                </p:nvSpPr>
                <p:spPr>
                  <a:xfrm>
                    <a:off x="2303280" y="3711960"/>
                    <a:ext cx="141480" cy="67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27"/>
                  <p:cNvSpPr/>
                  <p:nvPr/>
                </p:nvSpPr>
                <p:spPr>
                  <a:xfrm>
                    <a:off x="2444760" y="3780000"/>
                    <a:ext cx="0" cy="27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Line 28"/>
                <p:cNvSpPr/>
                <p:nvPr/>
              </p:nvSpPr>
              <p:spPr>
                <a:xfrm>
                  <a:off x="1878840" y="3168720"/>
                  <a:ext cx="0" cy="47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9"/>
                <p:cNvSpPr/>
                <p:nvPr/>
              </p:nvSpPr>
              <p:spPr>
                <a:xfrm>
                  <a:off x="1737360" y="3643920"/>
                  <a:ext cx="28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30"/>
                <p:cNvSpPr/>
                <p:nvPr/>
              </p:nvSpPr>
              <p:spPr>
                <a:xfrm>
                  <a:off x="1737360" y="3576240"/>
                  <a:ext cx="0" cy="20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31"/>
                <p:cNvSpPr/>
                <p:nvPr/>
              </p:nvSpPr>
              <p:spPr>
                <a:xfrm>
                  <a:off x="2020320" y="3576240"/>
                  <a:ext cx="0" cy="20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32"/>
                <p:cNvSpPr/>
                <p:nvPr/>
              </p:nvSpPr>
              <p:spPr>
                <a:xfrm>
                  <a:off x="1737360" y="3780000"/>
                  <a:ext cx="28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33"/>
                <p:cNvSpPr/>
                <p:nvPr/>
              </p:nvSpPr>
              <p:spPr>
                <a:xfrm>
                  <a:off x="1878840" y="3780000"/>
                  <a:ext cx="0" cy="27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34"/>
                <p:cNvSpPr/>
                <p:nvPr/>
              </p:nvSpPr>
              <p:spPr>
                <a:xfrm>
                  <a:off x="817560" y="4051800"/>
                  <a:ext cx="2122560" cy="136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98" name="Object 6"/>
                  <p:cNvSpPr txBox="1"/>
                  <p:nvPr/>
                </p:nvSpPr>
                <p:spPr>
                  <a:xfrm>
                    <a:off x="959040" y="3440160"/>
                    <a:ext cx="141120" cy="351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9" name="Object 7"/>
                  <p:cNvSpPr txBox="1"/>
                  <p:nvPr/>
                </p:nvSpPr>
                <p:spPr>
                  <a:xfrm>
                    <a:off x="2586240" y="3440160"/>
                    <a:ext cx="141120" cy="351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0" name="Text Box 37"/>
              <p:cNvSpPr/>
              <p:nvPr/>
            </p:nvSpPr>
            <p:spPr>
              <a:xfrm>
                <a:off x="1945800" y="328176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굴림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38"/>
            <p:cNvSpPr/>
            <p:nvPr/>
          </p:nvSpPr>
          <p:spPr>
            <a:xfrm>
              <a:off x="1878840" y="2489400"/>
              <a:ext cx="0" cy="3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9"/>
            <p:cNvSpPr/>
            <p:nvPr/>
          </p:nvSpPr>
          <p:spPr>
            <a:xfrm>
              <a:off x="1944000" y="2465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0"/>
          <p:cNvGrpSpPr/>
          <p:nvPr/>
        </p:nvGrpSpPr>
        <p:grpSpPr>
          <a:xfrm>
            <a:off x="722520" y="4726080"/>
            <a:ext cx="2647440" cy="1772640"/>
            <a:chOff x="722520" y="4726080"/>
            <a:chExt cx="2647440" cy="1772640"/>
          </a:xfrm>
        </p:grpSpPr>
        <p:sp>
          <p:nvSpPr>
            <p:cNvPr id="204" name="Line 41"/>
            <p:cNvSpPr/>
            <p:nvPr/>
          </p:nvSpPr>
          <p:spPr>
            <a:xfrm>
              <a:off x="1517400" y="6210720"/>
              <a:ext cx="14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2"/>
            <p:cNvSpPr/>
            <p:nvPr/>
          </p:nvSpPr>
          <p:spPr>
            <a:xfrm flipH="1" flipV="1">
              <a:off x="855360" y="5266080"/>
              <a:ext cx="66168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3"/>
            <p:cNvSpPr/>
            <p:nvPr/>
          </p:nvSpPr>
          <p:spPr>
            <a:xfrm flipH="1" flipV="1">
              <a:off x="2708640" y="4996080"/>
              <a:ext cx="264240" cy="121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4"/>
            <p:cNvSpPr/>
            <p:nvPr/>
          </p:nvSpPr>
          <p:spPr>
            <a:xfrm flipH="1">
              <a:off x="855000" y="4996080"/>
              <a:ext cx="185292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45"/>
            <p:cNvSpPr/>
            <p:nvPr/>
          </p:nvSpPr>
          <p:spPr>
            <a:xfrm flipV="1">
              <a:off x="1517400" y="5063400"/>
              <a:ext cx="1124640" cy="1146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AutoShape 46"/>
            <p:cNvCxnSpPr/>
            <p:nvPr/>
          </p:nvCxnSpPr>
          <p:spPr>
            <a:xfrm flipV="1" rot="16200000">
              <a:off x="1448640" y="6009840"/>
              <a:ext cx="203040" cy="199080"/>
            </a:xfrm>
            <a:prstGeom prst="curvedConnector5">
              <a:avLst>
                <a:gd name="adj1" fmla="val 86678"/>
                <a:gd name="adj2" fmla="val 50000"/>
                <a:gd name="adj3" fmla="val 866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210" name="Object 2"/>
                <p:cNvSpPr txBox="1"/>
                <p:nvPr/>
              </p:nvSpPr>
              <p:spPr>
                <a:xfrm>
                  <a:off x="2907000" y="5468400"/>
                  <a:ext cx="46296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ω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"/>
                <p:cNvSpPr txBox="1"/>
                <p:nvPr/>
              </p:nvSpPr>
              <p:spPr>
                <a:xfrm>
                  <a:off x="2112840" y="6210720"/>
                  <a:ext cx="363600" cy="28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4"/>
                <p:cNvSpPr txBox="1"/>
                <p:nvPr/>
              </p:nvSpPr>
              <p:spPr>
                <a:xfrm>
                  <a:off x="1517400" y="5738040"/>
                  <a:ext cx="206640" cy="33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3" name="Text Box 50"/>
            <p:cNvSpPr/>
            <p:nvPr/>
          </p:nvSpPr>
          <p:spPr>
            <a:xfrm>
              <a:off x="722520" y="54867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5"/>
                <p:cNvSpPr txBox="1"/>
                <p:nvPr/>
              </p:nvSpPr>
              <p:spPr>
                <a:xfrm>
                  <a:off x="1451160" y="4726080"/>
                  <a:ext cx="667080" cy="29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11"/>
          <p:cNvGrpSpPr/>
          <p:nvPr/>
        </p:nvGrpSpPr>
        <p:grpSpPr>
          <a:xfrm>
            <a:off x="900000" y="3830760"/>
            <a:ext cx="8610840" cy="1631160"/>
            <a:chOff x="900000" y="3830760"/>
            <a:chExt cx="8610840" cy="1631160"/>
          </a:xfrm>
        </p:grpSpPr>
        <p:sp>
          <p:nvSpPr>
            <p:cNvPr id="216" name="Text Box 4"/>
            <p:cNvSpPr/>
            <p:nvPr/>
          </p:nvSpPr>
          <p:spPr>
            <a:xfrm>
              <a:off x="900000" y="3830760"/>
              <a:ext cx="8610840" cy="16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Histeresis loo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: area enclosed by force-displacement cur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portional to the energy lost per cyc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ere         is the energy lost per cycle due to a damping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0"/>
                <p:cNvSpPr txBox="1"/>
                <p:nvPr/>
              </p:nvSpPr>
              <p:spPr>
                <a:xfrm>
                  <a:off x="1066680" y="4707000"/>
                  <a:ext cx="147492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∮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1"/>
                <p:cNvSpPr txBox="1"/>
                <p:nvPr/>
              </p:nvSpPr>
              <p:spPr>
                <a:xfrm>
                  <a:off x="3632040" y="4764240"/>
                  <a:ext cx="37944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2"/>
                <p:cNvSpPr txBox="1"/>
                <p:nvPr/>
              </p:nvSpPr>
              <p:spPr>
                <a:xfrm>
                  <a:off x="3446640" y="5072040"/>
                  <a:ext cx="3189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Text Box 10"/>
          <p:cNvSpPr/>
          <p:nvPr/>
        </p:nvSpPr>
        <p:spPr>
          <a:xfrm>
            <a:off x="855720" y="360360"/>
            <a:ext cx="8610480" cy="34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7 Energy Dissipated by D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ping is present in a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molecular friction –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ructural d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ing fri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ulomb d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id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iscous d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mathematical description of damping is quite complicate, simplified damping modal such as viscous has been developed to evaluate the system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6"/>
          <p:cNvSpPr/>
          <p:nvPr/>
        </p:nvSpPr>
        <p:spPr>
          <a:xfrm>
            <a:off x="719280" y="380880"/>
            <a:ext cx="86104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8 Equivalent Viscous Dam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damping 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quate the energy dissipated by the viscous damping to that of the nonviscous damping force with assumed harmonic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0"/>
              <p:cNvSpPr txBox="1"/>
              <p:nvPr/>
            </p:nvSpPr>
            <p:spPr>
              <a:xfrm>
                <a:off x="1932120" y="2124000"/>
                <a:ext cx="486720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π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sSup>
                          <m:e>
                            <m:r>
                              <m:t xml:space="preserve">ω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πω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iscou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mping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onan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708120" y="363600"/>
            <a:ext cx="86104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9 Structural Da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experiments of most structural metals,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mping is independent of the frequency and proportional to the square of the 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0"/>
              <p:cNvSpPr txBox="1"/>
              <p:nvPr/>
            </p:nvSpPr>
            <p:spPr>
              <a:xfrm>
                <a:off x="878040" y="1633680"/>
                <a:ext cx="704376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sSup>
                          <m:e>
                            <m:r>
                              <m:t xml:space="preserve">ω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πω</m:t>
                            </m:r>
                          </m:den>
                        </m:f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πω</m:t>
                                </m:r>
                              </m:den>
                            </m:f>
                          </m:e>
                        </m:d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le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iffness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ssum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rmon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o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,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iω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ωx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iφ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φ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kπ</m:t>
                                      </m:r>
                                    </m:den>
                                  </m:f>
                                  <m:r>
                                    <m:t xml:space="preserve">: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tructural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amping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facto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iφ</m:t>
                                      </m:r>
                                    </m:e>
                                  </m:d>
                                  <m:r>
                                    <m:t xml:space="preserve">: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mplex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tiffness</m:t>
                                  </m:r>
                                  <m:r>
                                    <m:t xml:space="preserve"> 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φ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5" name="Object 0"/>
              <p:cNvSpPr txBox="1"/>
              <p:nvPr/>
            </p:nvSpPr>
            <p:spPr>
              <a:xfrm>
                <a:off x="801720" y="901800"/>
                <a:ext cx="2711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sonance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φ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Text Box 5"/>
          <p:cNvSpPr/>
          <p:nvPr/>
        </p:nvSpPr>
        <p:spPr>
          <a:xfrm>
            <a:off x="760320" y="1533600"/>
            <a:ext cx="52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viscous damping at reso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"/>
              <p:cNvSpPr txBox="1"/>
              <p:nvPr/>
            </p:nvSpPr>
            <p:spPr>
              <a:xfrm>
                <a:off x="5981760" y="1405080"/>
                <a:ext cx="2244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∴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4160880" y="1879560"/>
                <a:ext cx="433548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F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iφ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3913200" y="4208400"/>
                <a:ext cx="392256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φ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φ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onance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0" name="Group 9"/>
          <p:cNvGrpSpPr/>
          <p:nvPr/>
        </p:nvGrpSpPr>
        <p:grpSpPr>
          <a:xfrm>
            <a:off x="525600" y="2530440"/>
            <a:ext cx="3105720" cy="2775600"/>
            <a:chOff x="525600" y="2530440"/>
            <a:chExt cx="3105720" cy="2775600"/>
          </a:xfrm>
        </p:grpSpPr>
        <p:sp>
          <p:nvSpPr>
            <p:cNvPr id="231" name="Line 10"/>
            <p:cNvSpPr/>
            <p:nvPr/>
          </p:nvSpPr>
          <p:spPr>
            <a:xfrm>
              <a:off x="677880" y="2987640"/>
              <a:ext cx="266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1"/>
            <p:cNvSpPr/>
            <p:nvPr/>
          </p:nvSpPr>
          <p:spPr>
            <a:xfrm>
              <a:off x="1973160" y="298764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>
              <a:off x="1058760" y="2987640"/>
              <a:ext cx="182844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1973160" y="298764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4"/>
            <p:cNvSpPr/>
            <p:nvPr/>
          </p:nvSpPr>
          <p:spPr>
            <a:xfrm flipH="1">
              <a:off x="1896480" y="47401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>
              <a:off x="1896840" y="474012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>
              <a:off x="830160" y="390204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7"/>
            <p:cNvSpPr/>
            <p:nvPr/>
          </p:nvSpPr>
          <p:spPr>
            <a:xfrm>
              <a:off x="906480" y="29876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>
              <a:off x="1973160" y="2987640"/>
              <a:ext cx="6091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9"/>
            <p:cNvSpPr/>
            <p:nvPr/>
          </p:nvSpPr>
          <p:spPr>
            <a:xfrm>
              <a:off x="1822680" y="2530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Object 4"/>
                <p:cNvSpPr txBox="1"/>
                <p:nvPr/>
              </p:nvSpPr>
              <p:spPr>
                <a:xfrm>
                  <a:off x="525600" y="3216240"/>
                  <a:ext cx="393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Text Box 21"/>
            <p:cNvSpPr/>
            <p:nvPr/>
          </p:nvSpPr>
          <p:spPr>
            <a:xfrm>
              <a:off x="2211840" y="3520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</a:rPr>
                <a:t>H(</a:t>
              </a:r>
              <a:r>
                <a:rPr b="0" lang="en-US" sz="1400" spc="-1" strike="noStrike">
                  <a:solidFill>
                    <a:srgbClr val="000000"/>
                  </a:solidFill>
                  <a:latin typeface="굴림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2"/>
            <p:cNvSpPr/>
            <p:nvPr/>
          </p:nvSpPr>
          <p:spPr>
            <a:xfrm>
              <a:off x="1851840" y="4968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-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3"/>
            <p:cNvSpPr/>
            <p:nvPr/>
          </p:nvSpPr>
          <p:spPr>
            <a:xfrm>
              <a:off x="3344040" y="2835000"/>
              <a:ext cx="28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849240" y="36504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0 Sharpness of Res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0"/>
              <p:cNvSpPr txBox="1"/>
              <p:nvPr/>
            </p:nvSpPr>
            <p:spPr>
              <a:xfrm>
                <a:off x="1052640" y="949320"/>
                <a:ext cx="8170560" cy="56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num>
                                                    <m:r>
                                                      <m:t xml:space="preserve">ω</m:t>
                                                    </m:r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n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ς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ω</m:t>
                                                </m:r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ς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debands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lf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wer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oints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ς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num>
                                                    <m:r>
                                                      <m:t xml:space="preserve">ω</m:t>
                                                    </m:r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n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ς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ω</m:t>
                                                </m:r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Object 0"/>
              <p:cNvSpPr txBox="1"/>
              <p:nvPr/>
            </p:nvSpPr>
            <p:spPr>
              <a:xfrm>
                <a:off x="4352760" y="1111320"/>
                <a:ext cx="5185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r>
                          <m:t xml:space="preserve"> </m:t>
                        </m:r>
                        <m:r>
                          <m:t xml:space="preserve">ς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ω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1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sSub>
                                                <m:e>
                                                  <m:r>
                                                    <m:t xml:space="preserve">ω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n</m:t>
                                                  </m:r>
                                                </m:sub>
                                              </m:sSub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ς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ω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2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sSub>
                                                <m:e>
                                                  <m:r>
                                                    <m:t xml:space="preserve">ω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n</m:t>
                                                  </m:r>
                                                </m:sub>
                                              </m:sSub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ς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ς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2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1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"/>
              <p:cNvSpPr txBox="1"/>
              <p:nvPr/>
            </p:nvSpPr>
            <p:spPr>
              <a:xfrm>
                <a:off x="2795760" y="4235400"/>
                <a:ext cx="387504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ς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tructur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mping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Group 6"/>
          <p:cNvGrpSpPr/>
          <p:nvPr/>
        </p:nvGrpSpPr>
        <p:grpSpPr>
          <a:xfrm>
            <a:off x="392040" y="1494000"/>
            <a:ext cx="3581280" cy="2450520"/>
            <a:chOff x="392040" y="1494000"/>
            <a:chExt cx="3581280" cy="2450520"/>
          </a:xfrm>
        </p:grpSpPr>
        <p:grpSp>
          <p:nvGrpSpPr>
            <p:cNvPr id="250" name="Group 7"/>
            <p:cNvGrpSpPr/>
            <p:nvPr/>
          </p:nvGrpSpPr>
          <p:grpSpPr>
            <a:xfrm>
              <a:off x="707400" y="1494000"/>
              <a:ext cx="2905200" cy="1950120"/>
              <a:chOff x="707400" y="1494000"/>
              <a:chExt cx="2905200" cy="1950120"/>
            </a:xfrm>
          </p:grpSpPr>
          <p:sp>
            <p:nvSpPr>
              <p:cNvPr id="251" name="Line 8"/>
              <p:cNvSpPr/>
              <p:nvPr/>
            </p:nvSpPr>
            <p:spPr>
              <a:xfrm>
                <a:off x="707400" y="1504440"/>
                <a:ext cx="0" cy="19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9"/>
              <p:cNvSpPr/>
              <p:nvPr/>
            </p:nvSpPr>
            <p:spPr>
              <a:xfrm>
                <a:off x="707400" y="3444120"/>
                <a:ext cx="290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1086120" y="1494000"/>
                <a:ext cx="2526120" cy="1699920"/>
              </a:xfrm>
              <a:custGeom>
                <a:avLst/>
                <a:gdLst>
                  <a:gd name="textAreaLeft" fmla="*/ 0 w 2526120"/>
                  <a:gd name="textAreaRight" fmla="*/ 2526480 w 2526120"/>
                  <a:gd name="textAreaTop" fmla="*/ 0 h 1699920"/>
                  <a:gd name="textAreaBottom" fmla="*/ 1700280 h 1699920"/>
                </a:gdLst>
                <a:ahLst/>
                <a:rect l="textAreaLeft" t="textAreaTop" r="textAreaRight" b="textAreaBottom"/>
                <a:pathLst>
                  <a:path w="1920" h="1304">
                    <a:moveTo>
                      <a:pt x="0" y="824"/>
                    </a:moveTo>
                    <a:cubicBezTo>
                      <a:pt x="68" y="852"/>
                      <a:pt x="136" y="880"/>
                      <a:pt x="240" y="872"/>
                    </a:cubicBezTo>
                    <a:cubicBezTo>
                      <a:pt x="344" y="864"/>
                      <a:pt x="528" y="880"/>
                      <a:pt x="624" y="776"/>
                    </a:cubicBezTo>
                    <a:cubicBezTo>
                      <a:pt x="720" y="672"/>
                      <a:pt x="752" y="376"/>
                      <a:pt x="816" y="248"/>
                    </a:cubicBezTo>
                    <a:cubicBezTo>
                      <a:pt x="880" y="120"/>
                      <a:pt x="944" y="0"/>
                      <a:pt x="1008" y="8"/>
                    </a:cubicBezTo>
                    <a:cubicBezTo>
                      <a:pt x="1072" y="16"/>
                      <a:pt x="1128" y="136"/>
                      <a:pt x="1200" y="296"/>
                    </a:cubicBezTo>
                    <a:cubicBezTo>
                      <a:pt x="1272" y="456"/>
                      <a:pt x="1320" y="800"/>
                      <a:pt x="1440" y="968"/>
                    </a:cubicBezTo>
                    <a:cubicBezTo>
                      <a:pt x="1560" y="1136"/>
                      <a:pt x="1824" y="1224"/>
                      <a:pt x="1920" y="130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2412360" y="1504440"/>
                <a:ext cx="0" cy="19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2"/>
              <p:cNvSpPr/>
              <p:nvPr/>
            </p:nvSpPr>
            <p:spPr>
              <a:xfrm>
                <a:off x="2096640" y="2004840"/>
                <a:ext cx="0" cy="143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3"/>
              <p:cNvSpPr/>
              <p:nvPr/>
            </p:nvSpPr>
            <p:spPr>
              <a:xfrm>
                <a:off x="2728080" y="2004840"/>
                <a:ext cx="0" cy="143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4"/>
              <p:cNvSpPr/>
              <p:nvPr/>
            </p:nvSpPr>
            <p:spPr>
              <a:xfrm>
                <a:off x="2096640" y="2004840"/>
                <a:ext cx="63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5"/>
              <p:cNvSpPr/>
              <p:nvPr/>
            </p:nvSpPr>
            <p:spPr>
              <a:xfrm>
                <a:off x="3044160" y="1504440"/>
                <a:ext cx="31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16"/>
              <p:cNvSpPr/>
              <p:nvPr/>
            </p:nvSpPr>
            <p:spPr>
              <a:xfrm>
                <a:off x="3233520" y="1504440"/>
                <a:ext cx="0" cy="19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7"/>
              <p:cNvSpPr/>
              <p:nvPr/>
            </p:nvSpPr>
            <p:spPr>
              <a:xfrm flipH="1">
                <a:off x="1149480" y="2004840"/>
                <a:ext cx="37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8"/>
              <p:cNvSpPr/>
              <p:nvPr/>
            </p:nvSpPr>
            <p:spPr>
              <a:xfrm>
                <a:off x="1338840" y="2004840"/>
                <a:ext cx="0" cy="143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62" name="Object 2"/>
                <p:cNvSpPr txBox="1"/>
                <p:nvPr/>
              </p:nvSpPr>
              <p:spPr>
                <a:xfrm>
                  <a:off x="392040" y="2255400"/>
                  <a:ext cx="290520" cy="48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Object 3"/>
                <p:cNvSpPr txBox="1"/>
                <p:nvPr/>
              </p:nvSpPr>
              <p:spPr>
                <a:xfrm>
                  <a:off x="1970640" y="3444120"/>
                  <a:ext cx="260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Object 4"/>
                <p:cNvSpPr txBox="1"/>
                <p:nvPr/>
              </p:nvSpPr>
              <p:spPr>
                <a:xfrm>
                  <a:off x="2593080" y="3444120"/>
                  <a:ext cx="27900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5"/>
                <p:cNvSpPr txBox="1"/>
                <p:nvPr/>
              </p:nvSpPr>
              <p:spPr>
                <a:xfrm>
                  <a:off x="3297240" y="2130120"/>
                  <a:ext cx="335520" cy="54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ζ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Object 6"/>
                <p:cNvSpPr txBox="1"/>
                <p:nvPr/>
              </p:nvSpPr>
              <p:spPr>
                <a:xfrm>
                  <a:off x="2718360" y="1874520"/>
                  <a:ext cx="45792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ζ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Object 7"/>
                <p:cNvSpPr txBox="1"/>
                <p:nvPr/>
              </p:nvSpPr>
              <p:spPr>
                <a:xfrm>
                  <a:off x="1149840" y="1566720"/>
                  <a:ext cx="431280" cy="42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  <m:r>
                            <m:t xml:space="preserve">ζ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8"/>
                <p:cNvSpPr txBox="1"/>
                <p:nvPr/>
              </p:nvSpPr>
              <p:spPr>
                <a:xfrm>
                  <a:off x="3612960" y="3318840"/>
                  <a:ext cx="360360" cy="62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ω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835200" y="403200"/>
            <a:ext cx="827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dimensional Amplit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749160" y="4003560"/>
                <a:ext cx="8305920" cy="23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/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φ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num>
                                                    <m:r>
                                                      <m:t xml:space="preserve">ω</m:t>
                                                    </m:r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n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ζ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ω</m:t>
                                                </m:r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768240" y="984240"/>
                <a:ext cx="8331480" cy="18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num>
                                                    <m:r>
                                                      <m:t xml:space="preserve">ω</m:t>
                                                    </m:r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n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ζ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ω</m:t>
                                                </m:r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ζ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690480" y="2624040"/>
                <a:ext cx="743904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n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ζ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849240" y="36504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1 Vibration Measuring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4"/>
              <p:cNvSpPr txBox="1"/>
              <p:nvPr/>
            </p:nvSpPr>
            <p:spPr>
              <a:xfrm>
                <a:off x="3843360" y="1035000"/>
                <a:ext cx="32702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ame as suppot motion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Let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71" name="Object 57"/>
          <p:cNvGraphicFramePr/>
          <p:nvPr/>
        </p:nvGraphicFramePr>
        <p:xfrm>
          <a:off x="239760" y="2852640"/>
          <a:ext cx="535608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852640"/>
                    <a:ext cx="535608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3" name="Object 61"/>
              <p:cNvSpPr txBox="1"/>
              <p:nvPr/>
            </p:nvSpPr>
            <p:spPr>
              <a:xfrm>
                <a:off x="7172280" y="5514840"/>
                <a:ext cx="1443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requency ratio  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4" name="Picture 62" descr="C:\Documents and Settings\hjlee\바탕 화면\e1.jpg"/>
          <p:cNvPicPr/>
          <p:nvPr/>
        </p:nvPicPr>
        <p:blipFill>
          <a:blip r:embed="rId3"/>
          <a:stretch/>
        </p:blipFill>
        <p:spPr>
          <a:xfrm>
            <a:off x="5657760" y="2714760"/>
            <a:ext cx="4100760" cy="286704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00"/>
          <p:cNvGrpSpPr/>
          <p:nvPr/>
        </p:nvGrpSpPr>
        <p:grpSpPr>
          <a:xfrm>
            <a:off x="773280" y="1147680"/>
            <a:ext cx="2507760" cy="1393920"/>
            <a:chOff x="773280" y="1147680"/>
            <a:chExt cx="2507760" cy="1393920"/>
          </a:xfrm>
        </p:grpSpPr>
        <p:grpSp>
          <p:nvGrpSpPr>
            <p:cNvPr id="276" name="Group 56"/>
            <p:cNvGrpSpPr/>
            <p:nvPr/>
          </p:nvGrpSpPr>
          <p:grpSpPr>
            <a:xfrm>
              <a:off x="773280" y="1147680"/>
              <a:ext cx="2507760" cy="1393920"/>
              <a:chOff x="773280" y="1147680"/>
              <a:chExt cx="2507760" cy="1393920"/>
            </a:xfrm>
          </p:grpSpPr>
          <p:grpSp>
            <p:nvGrpSpPr>
              <p:cNvPr id="277" name="Group 54"/>
              <p:cNvGrpSpPr/>
              <p:nvPr/>
            </p:nvGrpSpPr>
            <p:grpSpPr>
              <a:xfrm>
                <a:off x="2007360" y="1223640"/>
                <a:ext cx="684720" cy="1131840"/>
                <a:chOff x="2007360" y="1223640"/>
                <a:chExt cx="684720" cy="1131840"/>
              </a:xfrm>
            </p:grpSpPr>
            <p:sp>
              <p:nvSpPr>
                <p:cNvPr id="278" name="Rectangle 9"/>
                <p:cNvSpPr/>
                <p:nvPr/>
              </p:nvSpPr>
              <p:spPr>
                <a:xfrm>
                  <a:off x="2007360" y="1637280"/>
                  <a:ext cx="440640" cy="27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" name="Group 10"/>
                <p:cNvGrpSpPr/>
                <p:nvPr/>
              </p:nvGrpSpPr>
              <p:grpSpPr>
                <a:xfrm>
                  <a:off x="2124000" y="1223640"/>
                  <a:ext cx="189360" cy="412200"/>
                  <a:chOff x="2124000" y="1223640"/>
                  <a:chExt cx="189360" cy="412200"/>
                </a:xfrm>
              </p:grpSpPr>
              <p:sp>
                <p:nvSpPr>
                  <p:cNvPr id="280" name="Line 11"/>
                  <p:cNvSpPr/>
                  <p:nvPr/>
                </p:nvSpPr>
                <p:spPr>
                  <a:xfrm>
                    <a:off x="2218680" y="122364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Line 12"/>
                  <p:cNvSpPr/>
                  <p:nvPr/>
                </p:nvSpPr>
                <p:spPr>
                  <a:xfrm>
                    <a:off x="2218680" y="1350360"/>
                    <a:ext cx="94320" cy="3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13"/>
                  <p:cNvSpPr/>
                  <p:nvPr/>
                </p:nvSpPr>
                <p:spPr>
                  <a:xfrm flipH="1">
                    <a:off x="2124000" y="1382400"/>
                    <a:ext cx="189000" cy="3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14"/>
                  <p:cNvSpPr/>
                  <p:nvPr/>
                </p:nvSpPr>
                <p:spPr>
                  <a:xfrm>
                    <a:off x="2124360" y="1414080"/>
                    <a:ext cx="189000" cy="3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15"/>
                  <p:cNvSpPr/>
                  <p:nvPr/>
                </p:nvSpPr>
                <p:spPr>
                  <a:xfrm flipH="1">
                    <a:off x="2124000" y="1445760"/>
                    <a:ext cx="189000" cy="31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16"/>
                  <p:cNvSpPr/>
                  <p:nvPr/>
                </p:nvSpPr>
                <p:spPr>
                  <a:xfrm>
                    <a:off x="2124360" y="1477440"/>
                    <a:ext cx="94320" cy="3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17"/>
                  <p:cNvSpPr/>
                  <p:nvPr/>
                </p:nvSpPr>
                <p:spPr>
                  <a:xfrm>
                    <a:off x="2218680" y="150912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Group 41"/>
                <p:cNvGrpSpPr/>
                <p:nvPr/>
              </p:nvGrpSpPr>
              <p:grpSpPr>
                <a:xfrm>
                  <a:off x="2095560" y="1922760"/>
                  <a:ext cx="252360" cy="432720"/>
                  <a:chOff x="2095560" y="1922760"/>
                  <a:chExt cx="252360" cy="432720"/>
                </a:xfrm>
              </p:grpSpPr>
              <p:sp>
                <p:nvSpPr>
                  <p:cNvPr id="288" name="Line 26"/>
                  <p:cNvSpPr/>
                  <p:nvPr/>
                </p:nvSpPr>
                <p:spPr>
                  <a:xfrm>
                    <a:off x="2221560" y="1922760"/>
                    <a:ext cx="0" cy="19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27"/>
                  <p:cNvSpPr/>
                  <p:nvPr/>
                </p:nvSpPr>
                <p:spPr>
                  <a:xfrm>
                    <a:off x="2095560" y="212184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28"/>
                  <p:cNvSpPr/>
                  <p:nvPr/>
                </p:nvSpPr>
                <p:spPr>
                  <a:xfrm>
                    <a:off x="2095560" y="20739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29"/>
                  <p:cNvSpPr/>
                  <p:nvPr/>
                </p:nvSpPr>
                <p:spPr>
                  <a:xfrm>
                    <a:off x="2347920" y="2073960"/>
                    <a:ext cx="0" cy="14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30"/>
                  <p:cNvSpPr/>
                  <p:nvPr/>
                </p:nvSpPr>
                <p:spPr>
                  <a:xfrm>
                    <a:off x="2095560" y="221832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Line 31"/>
                  <p:cNvSpPr/>
                  <p:nvPr/>
                </p:nvSpPr>
                <p:spPr>
                  <a:xfrm>
                    <a:off x="2221560" y="2218320"/>
                    <a:ext cx="0" cy="137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94" name="Object 40"/>
                    <p:cNvSpPr txBox="1"/>
                    <p:nvPr/>
                  </p:nvSpPr>
                  <p:spPr>
                    <a:xfrm>
                      <a:off x="2477880" y="1716480"/>
                      <a:ext cx="214200" cy="138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m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95" name="Object 45"/>
                    <p:cNvSpPr txBox="1"/>
                    <p:nvPr/>
                  </p:nvSpPr>
                  <p:spPr>
                    <a:xfrm>
                      <a:off x="2420280" y="1338840"/>
                      <a:ext cx="165600" cy="1760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k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96" name="Object 46"/>
                    <p:cNvSpPr txBox="1"/>
                    <p:nvPr/>
                  </p:nvSpPr>
                  <p:spPr>
                    <a:xfrm>
                      <a:off x="2439720" y="2088000"/>
                      <a:ext cx="148680" cy="138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c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297" name="Group 53"/>
              <p:cNvGrpSpPr/>
              <p:nvPr/>
            </p:nvGrpSpPr>
            <p:grpSpPr>
              <a:xfrm>
                <a:off x="1095120" y="1386000"/>
                <a:ext cx="1026000" cy="399960"/>
                <a:chOff x="1095120" y="1386000"/>
                <a:chExt cx="1026000" cy="399960"/>
              </a:xfrm>
            </p:grpSpPr>
            <p:sp>
              <p:nvSpPr>
                <p:cNvPr id="298" name="Line 37"/>
                <p:cNvSpPr/>
                <p:nvPr/>
              </p:nvSpPr>
              <p:spPr>
                <a:xfrm flipV="1">
                  <a:off x="1177920" y="154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43"/>
                <p:cNvSpPr/>
                <p:nvPr/>
              </p:nvSpPr>
              <p:spPr>
                <a:xfrm flipH="1">
                  <a:off x="1174680" y="1783800"/>
                  <a:ext cx="94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00" name="Object 47"/>
                    <p:cNvSpPr txBox="1"/>
                    <p:nvPr/>
                  </p:nvSpPr>
                  <p:spPr>
                    <a:xfrm>
                      <a:off x="1095120" y="1386000"/>
                      <a:ext cx="165600" cy="1382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301" name="Group 52"/>
              <p:cNvGrpSpPr/>
              <p:nvPr/>
            </p:nvGrpSpPr>
            <p:grpSpPr>
              <a:xfrm>
                <a:off x="773280" y="2140200"/>
                <a:ext cx="320400" cy="303840"/>
                <a:chOff x="773280" y="2140200"/>
                <a:chExt cx="320400" cy="303840"/>
              </a:xfrm>
            </p:grpSpPr>
            <p:grpSp>
              <p:nvGrpSpPr>
                <p:cNvPr id="302" name="Group 51"/>
                <p:cNvGrpSpPr/>
                <p:nvPr/>
              </p:nvGrpSpPr>
              <p:grpSpPr>
                <a:xfrm>
                  <a:off x="912240" y="2140200"/>
                  <a:ext cx="181440" cy="303840"/>
                  <a:chOff x="912240" y="2140200"/>
                  <a:chExt cx="181440" cy="303840"/>
                </a:xfrm>
              </p:grpSpPr>
              <p:sp>
                <p:nvSpPr>
                  <p:cNvPr id="303" name="Line 36"/>
                  <p:cNvSpPr/>
                  <p:nvPr/>
                </p:nvSpPr>
                <p:spPr>
                  <a:xfrm flipV="1">
                    <a:off x="997560" y="2140200"/>
                    <a:ext cx="0" cy="3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42"/>
                  <p:cNvSpPr/>
                  <p:nvPr/>
                </p:nvSpPr>
                <p:spPr>
                  <a:xfrm>
                    <a:off x="912240" y="2444040"/>
                    <a:ext cx="18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305" name="Object 48"/>
                    <p:cNvSpPr txBox="1"/>
                    <p:nvPr/>
                  </p:nvSpPr>
                  <p:spPr>
                    <a:xfrm>
                      <a:off x="773280" y="2160360"/>
                      <a:ext cx="181080" cy="16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306" name="Group 55"/>
              <p:cNvGrpSpPr/>
              <p:nvPr/>
            </p:nvGrpSpPr>
            <p:grpSpPr>
              <a:xfrm>
                <a:off x="1162080" y="1147680"/>
                <a:ext cx="2118960" cy="1393920"/>
                <a:chOff x="1162080" y="1147680"/>
                <a:chExt cx="2118960" cy="1393920"/>
              </a:xfrm>
            </p:grpSpPr>
            <p:sp>
              <p:nvSpPr>
                <p:cNvPr id="307" name="Rectangle 49"/>
                <p:cNvSpPr/>
                <p:nvPr/>
              </p:nvSpPr>
              <p:spPr>
                <a:xfrm>
                  <a:off x="1452600" y="1213560"/>
                  <a:ext cx="1523160" cy="114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32"/>
                <p:cNvSpPr/>
                <p:nvPr/>
              </p:nvSpPr>
              <p:spPr>
                <a:xfrm>
                  <a:off x="1162080" y="2439360"/>
                  <a:ext cx="2118960" cy="102240"/>
                </a:xfrm>
                <a:prstGeom prst="rect">
                  <a:avLst/>
                </a:prstGeom>
                <a:solidFill>
                  <a:srgbClr val="cc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50"/>
                <p:cNvSpPr/>
                <p:nvPr/>
              </p:nvSpPr>
              <p:spPr>
                <a:xfrm>
                  <a:off x="1366920" y="1147680"/>
                  <a:ext cx="1704600" cy="1290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0" name="Group 99"/>
            <p:cNvGrpSpPr/>
            <p:nvPr/>
          </p:nvGrpSpPr>
          <p:grpSpPr>
            <a:xfrm>
              <a:off x="1251000" y="2444760"/>
              <a:ext cx="1953000" cy="96840"/>
              <a:chOff x="1251000" y="2444760"/>
              <a:chExt cx="1953000" cy="96840"/>
            </a:xfrm>
          </p:grpSpPr>
          <p:grpSp>
            <p:nvGrpSpPr>
              <p:cNvPr id="311" name="Group 83"/>
              <p:cNvGrpSpPr/>
              <p:nvPr/>
            </p:nvGrpSpPr>
            <p:grpSpPr>
              <a:xfrm>
                <a:off x="1251000" y="2444760"/>
                <a:ext cx="928080" cy="96840"/>
                <a:chOff x="1251000" y="2444760"/>
                <a:chExt cx="928080" cy="96840"/>
              </a:xfrm>
            </p:grpSpPr>
            <p:grpSp>
              <p:nvGrpSpPr>
                <p:cNvPr id="312" name="Group 75"/>
                <p:cNvGrpSpPr/>
                <p:nvPr/>
              </p:nvGrpSpPr>
              <p:grpSpPr>
                <a:xfrm>
                  <a:off x="1251000" y="2444760"/>
                  <a:ext cx="442800" cy="95400"/>
                  <a:chOff x="1251000" y="2444760"/>
                  <a:chExt cx="442800" cy="95400"/>
                </a:xfrm>
              </p:grpSpPr>
              <p:grpSp>
                <p:nvGrpSpPr>
                  <p:cNvPr id="313" name="Group 71"/>
                  <p:cNvGrpSpPr/>
                  <p:nvPr/>
                </p:nvGrpSpPr>
                <p:grpSpPr>
                  <a:xfrm>
                    <a:off x="1251000" y="2444760"/>
                    <a:ext cx="196560" cy="95400"/>
                    <a:chOff x="1251000" y="2444760"/>
                    <a:chExt cx="196560" cy="95400"/>
                  </a:xfrm>
                </p:grpSpPr>
                <p:sp>
                  <p:nvSpPr>
                    <p:cNvPr id="314" name="Line 63"/>
                    <p:cNvSpPr/>
                    <p:nvPr/>
                  </p:nvSpPr>
                  <p:spPr>
                    <a:xfrm flipH="1">
                      <a:off x="1251000" y="2444760"/>
                      <a:ext cx="60480" cy="9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64"/>
                    <p:cNvSpPr/>
                    <p:nvPr/>
                  </p:nvSpPr>
                  <p:spPr>
                    <a:xfrm flipH="1">
                      <a:off x="1387440" y="2446200"/>
                      <a:ext cx="60120" cy="93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72"/>
                  <p:cNvGrpSpPr/>
                  <p:nvPr/>
                </p:nvGrpSpPr>
                <p:grpSpPr>
                  <a:xfrm>
                    <a:off x="1497240" y="2444760"/>
                    <a:ext cx="196560" cy="95400"/>
                    <a:chOff x="1497240" y="2444760"/>
                    <a:chExt cx="196560" cy="95400"/>
                  </a:xfrm>
                </p:grpSpPr>
                <p:sp>
                  <p:nvSpPr>
                    <p:cNvPr id="317" name="Line 73"/>
                    <p:cNvSpPr/>
                    <p:nvPr/>
                  </p:nvSpPr>
                  <p:spPr>
                    <a:xfrm flipH="1">
                      <a:off x="1497240" y="2444760"/>
                      <a:ext cx="60480" cy="9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Line 74"/>
                    <p:cNvSpPr/>
                    <p:nvPr/>
                  </p:nvSpPr>
                  <p:spPr>
                    <a:xfrm flipH="1">
                      <a:off x="1633680" y="2446200"/>
                      <a:ext cx="60120" cy="93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9" name="Group 76"/>
                <p:cNvGrpSpPr/>
                <p:nvPr/>
              </p:nvGrpSpPr>
              <p:grpSpPr>
                <a:xfrm>
                  <a:off x="1736640" y="2446200"/>
                  <a:ext cx="442440" cy="95400"/>
                  <a:chOff x="1736640" y="2446200"/>
                  <a:chExt cx="442440" cy="95400"/>
                </a:xfrm>
              </p:grpSpPr>
              <p:grpSp>
                <p:nvGrpSpPr>
                  <p:cNvPr id="320" name="Group 77"/>
                  <p:cNvGrpSpPr/>
                  <p:nvPr/>
                </p:nvGrpSpPr>
                <p:grpSpPr>
                  <a:xfrm>
                    <a:off x="1736640" y="2446200"/>
                    <a:ext cx="196560" cy="95400"/>
                    <a:chOff x="1736640" y="2446200"/>
                    <a:chExt cx="196560" cy="95400"/>
                  </a:xfrm>
                </p:grpSpPr>
                <p:sp>
                  <p:nvSpPr>
                    <p:cNvPr id="321" name="Line 78"/>
                    <p:cNvSpPr/>
                    <p:nvPr/>
                  </p:nvSpPr>
                  <p:spPr>
                    <a:xfrm flipH="1">
                      <a:off x="1736640" y="2446200"/>
                      <a:ext cx="60120" cy="9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79"/>
                    <p:cNvSpPr/>
                    <p:nvPr/>
                  </p:nvSpPr>
                  <p:spPr>
                    <a:xfrm flipH="1">
                      <a:off x="1873440" y="2447640"/>
                      <a:ext cx="59760" cy="93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80"/>
                  <p:cNvGrpSpPr/>
                  <p:nvPr/>
                </p:nvGrpSpPr>
                <p:grpSpPr>
                  <a:xfrm>
                    <a:off x="1982520" y="2446200"/>
                    <a:ext cx="196560" cy="95400"/>
                    <a:chOff x="1982520" y="2446200"/>
                    <a:chExt cx="196560" cy="95400"/>
                  </a:xfrm>
                </p:grpSpPr>
                <p:sp>
                  <p:nvSpPr>
                    <p:cNvPr id="324" name="Line 81"/>
                    <p:cNvSpPr/>
                    <p:nvPr/>
                  </p:nvSpPr>
                  <p:spPr>
                    <a:xfrm flipH="1">
                      <a:off x="1982520" y="2446200"/>
                      <a:ext cx="60120" cy="9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82"/>
                    <p:cNvSpPr/>
                    <p:nvPr/>
                  </p:nvSpPr>
                  <p:spPr>
                    <a:xfrm flipH="1">
                      <a:off x="2119320" y="2447640"/>
                      <a:ext cx="59760" cy="93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6" name="Group 84"/>
              <p:cNvGrpSpPr/>
              <p:nvPr/>
            </p:nvGrpSpPr>
            <p:grpSpPr>
              <a:xfrm>
                <a:off x="2276280" y="2444760"/>
                <a:ext cx="927720" cy="96840"/>
                <a:chOff x="2276280" y="2444760"/>
                <a:chExt cx="927720" cy="96840"/>
              </a:xfrm>
            </p:grpSpPr>
            <p:grpSp>
              <p:nvGrpSpPr>
                <p:cNvPr id="327" name="Group 85"/>
                <p:cNvGrpSpPr/>
                <p:nvPr/>
              </p:nvGrpSpPr>
              <p:grpSpPr>
                <a:xfrm>
                  <a:off x="2276280" y="2444760"/>
                  <a:ext cx="442440" cy="95400"/>
                  <a:chOff x="2276280" y="2444760"/>
                  <a:chExt cx="442440" cy="95400"/>
                </a:xfrm>
              </p:grpSpPr>
              <p:grpSp>
                <p:nvGrpSpPr>
                  <p:cNvPr id="328" name="Group 86"/>
                  <p:cNvGrpSpPr/>
                  <p:nvPr/>
                </p:nvGrpSpPr>
                <p:grpSpPr>
                  <a:xfrm>
                    <a:off x="2276280" y="2444760"/>
                    <a:ext cx="196560" cy="95400"/>
                    <a:chOff x="2276280" y="2444760"/>
                    <a:chExt cx="196560" cy="95400"/>
                  </a:xfrm>
                </p:grpSpPr>
                <p:sp>
                  <p:nvSpPr>
                    <p:cNvPr id="329" name="Line 87"/>
                    <p:cNvSpPr/>
                    <p:nvPr/>
                  </p:nvSpPr>
                  <p:spPr>
                    <a:xfrm flipH="1">
                      <a:off x="2276280" y="2444760"/>
                      <a:ext cx="60120" cy="9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88"/>
                    <p:cNvSpPr/>
                    <p:nvPr/>
                  </p:nvSpPr>
                  <p:spPr>
                    <a:xfrm flipH="1">
                      <a:off x="2413080" y="2446200"/>
                      <a:ext cx="59760" cy="93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Group 89"/>
                  <p:cNvGrpSpPr/>
                  <p:nvPr/>
                </p:nvGrpSpPr>
                <p:grpSpPr>
                  <a:xfrm>
                    <a:off x="2522160" y="2444760"/>
                    <a:ext cx="196560" cy="95400"/>
                    <a:chOff x="2522160" y="2444760"/>
                    <a:chExt cx="196560" cy="95400"/>
                  </a:xfrm>
                </p:grpSpPr>
                <p:sp>
                  <p:nvSpPr>
                    <p:cNvPr id="332" name="Line 90"/>
                    <p:cNvSpPr/>
                    <p:nvPr/>
                  </p:nvSpPr>
                  <p:spPr>
                    <a:xfrm flipH="1">
                      <a:off x="2522160" y="2444760"/>
                      <a:ext cx="60120" cy="9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91"/>
                    <p:cNvSpPr/>
                    <p:nvPr/>
                  </p:nvSpPr>
                  <p:spPr>
                    <a:xfrm flipH="1">
                      <a:off x="2658960" y="2446200"/>
                      <a:ext cx="59760" cy="93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4" name="Group 92"/>
                <p:cNvGrpSpPr/>
                <p:nvPr/>
              </p:nvGrpSpPr>
              <p:grpSpPr>
                <a:xfrm>
                  <a:off x="2761920" y="2446200"/>
                  <a:ext cx="442080" cy="95400"/>
                  <a:chOff x="2761920" y="2446200"/>
                  <a:chExt cx="442080" cy="95400"/>
                </a:xfrm>
              </p:grpSpPr>
              <p:grpSp>
                <p:nvGrpSpPr>
                  <p:cNvPr id="335" name="Group 93"/>
                  <p:cNvGrpSpPr/>
                  <p:nvPr/>
                </p:nvGrpSpPr>
                <p:grpSpPr>
                  <a:xfrm>
                    <a:off x="2761920" y="2446200"/>
                    <a:ext cx="196560" cy="95400"/>
                    <a:chOff x="2761920" y="2446200"/>
                    <a:chExt cx="196560" cy="95400"/>
                  </a:xfrm>
                </p:grpSpPr>
                <p:sp>
                  <p:nvSpPr>
                    <p:cNvPr id="336" name="Line 94"/>
                    <p:cNvSpPr/>
                    <p:nvPr/>
                  </p:nvSpPr>
                  <p:spPr>
                    <a:xfrm flipH="1">
                      <a:off x="2761920" y="2446200"/>
                      <a:ext cx="60120" cy="9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Line 95"/>
                    <p:cNvSpPr/>
                    <p:nvPr/>
                  </p:nvSpPr>
                  <p:spPr>
                    <a:xfrm flipH="1">
                      <a:off x="2898720" y="2447640"/>
                      <a:ext cx="59760" cy="93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96"/>
                  <p:cNvGrpSpPr/>
                  <p:nvPr/>
                </p:nvGrpSpPr>
                <p:grpSpPr>
                  <a:xfrm>
                    <a:off x="3007440" y="2446200"/>
                    <a:ext cx="196560" cy="95400"/>
                    <a:chOff x="3007440" y="2446200"/>
                    <a:chExt cx="196560" cy="95400"/>
                  </a:xfrm>
                </p:grpSpPr>
                <p:sp>
                  <p:nvSpPr>
                    <p:cNvPr id="339" name="Line 97"/>
                    <p:cNvSpPr/>
                    <p:nvPr/>
                  </p:nvSpPr>
                  <p:spPr>
                    <a:xfrm flipH="1">
                      <a:off x="3007440" y="2446200"/>
                      <a:ext cx="60120" cy="93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98"/>
                    <p:cNvSpPr/>
                    <p:nvPr/>
                  </p:nvSpPr>
                  <p:spPr>
                    <a:xfrm flipH="1">
                      <a:off x="3144240" y="2447640"/>
                      <a:ext cx="59760" cy="93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849240" y="36504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1 Vibration Measuring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209600" y="1482840"/>
                <a:ext cx="6859800" cy="31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∘</m:t>
                        </m:r>
                        <m:r>
                          <m:rPr>
                            <m:lit/>
                            <m:nor/>
                          </m:rPr>
                          <m:t xml:space="preserve"> electromagnetic type accelerometer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∘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ezoelectric crystal type accelerometer</m:t>
                        </m:r>
                        <m:r>
                          <m:t xml:space="preserve"> 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most zero damping</m:t>
                        </m:r>
                      </m:e>
                      <m:e/>
                      <m:e>
                        <m:r>
                          <m:t xml:space="preserve">∘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sitivity of cryst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arge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icocoulomb/g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12</m:t>
                                    </m:r>
                                  </m:sup>
                                </m:sSup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ilivolt/g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</m:t>
                                    </m:r>
                                  </m:sup>
                                </m:sSup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392040" y="1050840"/>
                <a:ext cx="39117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f>
                                                  <m:num>
                                                    <m:r>
                                                      <m:t xml:space="preserve">ω</m:t>
                                                    </m:r>
                                                  </m:num>
                                                  <m:den>
                                                    <m:sSub>
                                                      <m:e>
                                                        <m:r>
                                                          <m:t xml:space="preserve">ω</m:t>
                                                        </m:r>
                                                      </m:e>
                                                      <m:sub>
                                                        <m:r>
                                                          <m:t xml:space="preserve">n</m:t>
                                                        </m:r>
                                                      </m:sub>
                                                    </m:sSub>
                                                  </m:den>
                                                </m:f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ζ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ω</m:t>
                                                </m:r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5" name="Group 9"/>
          <p:cNvGrpSpPr/>
          <p:nvPr/>
        </p:nvGrpSpPr>
        <p:grpSpPr>
          <a:xfrm>
            <a:off x="426960" y="1131840"/>
            <a:ext cx="9042480" cy="5172120"/>
            <a:chOff x="426960" y="1131840"/>
            <a:chExt cx="9042480" cy="5172120"/>
          </a:xfrm>
        </p:grpSpPr>
        <p:pic>
          <p:nvPicPr>
            <p:cNvPr id="56" name="Picture 4" descr="E:\temp\교수님 수업자료\f1.jpg"/>
            <p:cNvPicPr/>
            <p:nvPr/>
          </p:nvPicPr>
          <p:blipFill>
            <a:blip r:embed="rId1"/>
            <a:stretch/>
          </p:blipFill>
          <p:spPr>
            <a:xfrm>
              <a:off x="4040280" y="1212840"/>
              <a:ext cx="5429160" cy="50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Group 8"/>
            <p:cNvGrpSpPr/>
            <p:nvPr/>
          </p:nvGrpSpPr>
          <p:grpSpPr>
            <a:xfrm>
              <a:off x="426960" y="1131840"/>
              <a:ext cx="5076720" cy="3358800"/>
              <a:chOff x="426960" y="1131840"/>
              <a:chExt cx="5076720" cy="3358800"/>
            </a:xfrm>
          </p:grpSpPr>
          <mc:AlternateContent>
            <mc:Choice xmlns:a14="http://schemas.microsoft.com/office/drawing/2010/main" Requires="a14">
              <p:sp>
                <p:nvSpPr>
                  <p:cNvPr id="58" name="Object 6"/>
                  <p:cNvSpPr txBox="1"/>
                  <p:nvPr/>
                </p:nvSpPr>
                <p:spPr>
                  <a:xfrm>
                    <a:off x="426960" y="4008240"/>
                    <a:ext cx="2930760" cy="482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ζ</m:t>
                            </m:r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" name="Line 7"/>
              <p:cNvSpPr/>
              <p:nvPr/>
            </p:nvSpPr>
            <p:spPr>
              <a:xfrm flipH="1">
                <a:off x="5493960" y="1131840"/>
                <a:ext cx="9720" cy="3203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959400" y="44928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mplex Frequency Respo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1123920" y="990720"/>
                <a:ext cx="665640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φ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iφ</m:t>
                                </m:r>
                              </m:sup>
                            </m:sSup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mplex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e>
                        </m:d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ζ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Text Box 6"/>
          <p:cNvSpPr/>
          <p:nvPr/>
        </p:nvSpPr>
        <p:spPr>
          <a:xfrm>
            <a:off x="956160" y="2936880"/>
            <a:ext cx="72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 Response Function (System Transfer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1584360" y="3182760"/>
                <a:ext cx="6953040" cy="33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ζ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ω</m:t>
                                                </m:r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t xml:space="preserve">i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ω</m:t>
                                                </m:r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ζ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1562040" y="3429000"/>
                <a:ext cx="4929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Outpu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pu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028"/>
          <p:cNvSpPr/>
          <p:nvPr/>
        </p:nvSpPr>
        <p:spPr>
          <a:xfrm>
            <a:off x="954720" y="307800"/>
            <a:ext cx="42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 Rotating Unbal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029"/>
              <p:cNvSpPr txBox="1"/>
              <p:nvPr/>
            </p:nvSpPr>
            <p:spPr>
              <a:xfrm>
                <a:off x="489600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30"/>
              <p:cNvSpPr txBox="1"/>
              <p:nvPr/>
            </p:nvSpPr>
            <p:spPr>
              <a:xfrm>
                <a:off x="3905280" y="2465280"/>
                <a:ext cx="5373720" cy="35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cω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ω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ζ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ζ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cω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ω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ζ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" name="Picture 1031" descr="E:\temp\교수님 수업자료\f2-15.jpg"/>
          <p:cNvPicPr/>
          <p:nvPr/>
        </p:nvPicPr>
        <p:blipFill>
          <a:blip r:embed="rId1"/>
          <a:stretch/>
        </p:blipFill>
        <p:spPr>
          <a:xfrm>
            <a:off x="268200" y="1814400"/>
            <a:ext cx="3140280" cy="30020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32"/>
          <p:cNvSpPr/>
          <p:nvPr/>
        </p:nvSpPr>
        <p:spPr>
          <a:xfrm>
            <a:off x="601560" y="103356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on of mo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034"/>
              <p:cNvSpPr txBox="1"/>
              <p:nvPr/>
            </p:nvSpPr>
            <p:spPr>
              <a:xfrm>
                <a:off x="3451320" y="874800"/>
                <a:ext cx="39322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Rectangle 1035"/>
          <p:cNvSpPr/>
          <p:nvPr/>
        </p:nvSpPr>
        <p:spPr>
          <a:xfrm>
            <a:off x="3382920" y="2286000"/>
            <a:ext cx="6337440" cy="192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Object 1024"/>
              <p:cNvSpPr txBox="1"/>
              <p:nvPr/>
            </p:nvSpPr>
            <p:spPr>
              <a:xfrm>
                <a:off x="1255680" y="5214960"/>
                <a:ext cx="66168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h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a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fo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placing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025"/>
              <p:cNvSpPr txBox="1"/>
              <p:nvPr/>
            </p:nvSpPr>
            <p:spPr>
              <a:xfrm>
                <a:off x="701640" y="1139760"/>
                <a:ext cx="2583000" cy="21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ζ</m:t>
                                </m:r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026"/>
              <p:cNvSpPr txBox="1"/>
              <p:nvPr/>
            </p:nvSpPr>
            <p:spPr>
              <a:xfrm>
                <a:off x="479520" y="3954600"/>
                <a:ext cx="29304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k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ζ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" name="Group 1040"/>
          <p:cNvGrpSpPr/>
          <p:nvPr/>
        </p:nvGrpSpPr>
        <p:grpSpPr>
          <a:xfrm>
            <a:off x="3927600" y="1060560"/>
            <a:ext cx="5340240" cy="3722400"/>
            <a:chOff x="3927600" y="1060560"/>
            <a:chExt cx="5340240" cy="3722400"/>
          </a:xfrm>
        </p:grpSpPr>
        <mc:AlternateContent>
          <mc:Choice xmlns:a14="http://schemas.microsoft.com/office/drawing/2010/main" Requires="a14">
            <p:sp>
              <p:nvSpPr>
                <p:cNvPr id="76" name="Object 1027"/>
                <p:cNvSpPr txBox="1"/>
                <p:nvPr/>
              </p:nvSpPr>
              <p:spPr>
                <a:xfrm>
                  <a:off x="3927600" y="2754360"/>
                  <a:ext cx="317520" cy="39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m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77" name="Picture 1029" descr="E:\temp\교수님 수업자료\333.jpg"/>
            <p:cNvPicPr/>
            <p:nvPr/>
          </p:nvPicPr>
          <p:blipFill>
            <a:blip r:embed="rId1"/>
            <a:stretch/>
          </p:blipFill>
          <p:spPr>
            <a:xfrm>
              <a:off x="4179960" y="1060560"/>
              <a:ext cx="5087880" cy="37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1036"/>
            <p:cNvSpPr/>
            <p:nvPr/>
          </p:nvSpPr>
          <p:spPr>
            <a:xfrm>
              <a:off x="5345280" y="1085760"/>
              <a:ext cx="7920" cy="35942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22320" y="318960"/>
            <a:ext cx="37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3 Rotor Unbal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489600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" name="Text Box 4"/>
          <p:cNvSpPr/>
          <p:nvPr/>
        </p:nvSpPr>
        <p:spPr>
          <a:xfrm>
            <a:off x="723960" y="1033560"/>
            <a:ext cx="22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Un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28640" y="163836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Un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6"/>
          <p:cNvGrpSpPr/>
          <p:nvPr/>
        </p:nvGrpSpPr>
        <p:grpSpPr>
          <a:xfrm>
            <a:off x="3973680" y="934560"/>
            <a:ext cx="1349280" cy="986400"/>
            <a:chOff x="3973680" y="934560"/>
            <a:chExt cx="1349280" cy="986400"/>
          </a:xfrm>
        </p:grpSpPr>
        <p:grpSp>
          <p:nvGrpSpPr>
            <p:cNvPr id="84" name="Group 7"/>
            <p:cNvGrpSpPr/>
            <p:nvPr/>
          </p:nvGrpSpPr>
          <p:grpSpPr>
            <a:xfrm>
              <a:off x="3973680" y="934560"/>
              <a:ext cx="1349280" cy="891720"/>
              <a:chOff x="3973680" y="934560"/>
              <a:chExt cx="1349280" cy="891720"/>
            </a:xfrm>
          </p:grpSpPr>
          <p:sp>
            <p:nvSpPr>
              <p:cNvPr id="85" name="AutoShape 8"/>
              <p:cNvSpPr/>
              <p:nvPr/>
            </p:nvSpPr>
            <p:spPr>
              <a:xfrm rot="20700000">
                <a:off x="4617000" y="1235520"/>
                <a:ext cx="708120" cy="73080"/>
              </a:xfrm>
              <a:prstGeom prst="roundRect">
                <a:avLst>
                  <a:gd name="adj" fmla="val 16667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9"/>
              <p:cNvSpPr/>
              <p:nvPr/>
            </p:nvSpPr>
            <p:spPr>
              <a:xfrm rot="20700000">
                <a:off x="4315680" y="1000080"/>
                <a:ext cx="608400" cy="760320"/>
              </a:xfrm>
              <a:custGeom>
                <a:avLst/>
                <a:gdLst>
                  <a:gd name="textAreaLeft" fmla="*/ 88560 w 608400"/>
                  <a:gd name="textAreaRight" fmla="*/ 519840 w 608400"/>
                  <a:gd name="textAreaTop" fmla="*/ 110880 h 760320"/>
                  <a:gd name="textAreaBottom" fmla="*/ 649440 h 760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9591" y="10800"/>
                    </a:moveTo>
                    <a:cubicBezTo>
                      <a:pt x="9591" y="11468"/>
                      <a:pt x="10132" y="12009"/>
                      <a:pt x="10800" y="12009"/>
                    </a:cubicBezTo>
                    <a:cubicBezTo>
                      <a:pt x="11468" y="12009"/>
                      <a:pt x="12009" y="11468"/>
                      <a:pt x="12009" y="10800"/>
                    </a:cubicBezTo>
                    <a:cubicBezTo>
                      <a:pt x="12009" y="10132"/>
                      <a:pt x="11468" y="9591"/>
                      <a:pt x="10800" y="9591"/>
                    </a:cubicBezTo>
                    <a:cubicBezTo>
                      <a:pt x="10132" y="9591"/>
                      <a:pt x="9591" y="10132"/>
                      <a:pt x="9591" y="10800"/>
                    </a:cubicBez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10"/>
              <p:cNvSpPr/>
              <p:nvPr/>
            </p:nvSpPr>
            <p:spPr>
              <a:xfrm rot="20700000">
                <a:off x="4321080" y="1013400"/>
                <a:ext cx="553320" cy="746280"/>
              </a:xfrm>
              <a:custGeom>
                <a:avLst/>
                <a:gdLst>
                  <a:gd name="textAreaLeft" fmla="*/ 81360 w 553320"/>
                  <a:gd name="textAreaRight" fmla="*/ 471960 w 553320"/>
                  <a:gd name="textAreaTop" fmla="*/ 109440 h 746280"/>
                  <a:gd name="textAreaBottom" fmla="*/ 636840 h 74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9591" y="10800"/>
                    </a:moveTo>
                    <a:cubicBezTo>
                      <a:pt x="9591" y="11468"/>
                      <a:pt x="10132" y="12009"/>
                      <a:pt x="10800" y="12009"/>
                    </a:cubicBezTo>
                    <a:cubicBezTo>
                      <a:pt x="11468" y="12009"/>
                      <a:pt x="12009" y="11468"/>
                      <a:pt x="12009" y="10800"/>
                    </a:cubicBezTo>
                    <a:cubicBezTo>
                      <a:pt x="12009" y="10132"/>
                      <a:pt x="11468" y="9591"/>
                      <a:pt x="10800" y="9591"/>
                    </a:cubicBezTo>
                    <a:cubicBezTo>
                      <a:pt x="10132" y="9591"/>
                      <a:pt x="9591" y="10132"/>
                      <a:pt x="9591" y="10800"/>
                    </a:cubicBez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11"/>
              <p:cNvSpPr/>
              <p:nvPr/>
            </p:nvSpPr>
            <p:spPr>
              <a:xfrm rot="20700000">
                <a:off x="3971880" y="1431000"/>
                <a:ext cx="679320" cy="76680"/>
              </a:xfrm>
              <a:prstGeom prst="roundRect">
                <a:avLst>
                  <a:gd name="adj" fmla="val 16667"/>
                </a:avLst>
              </a:prstGeom>
              <a:solidFill>
                <a:srgbClr val="cc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Line 12"/>
            <p:cNvSpPr/>
            <p:nvPr/>
          </p:nvSpPr>
          <p:spPr>
            <a:xfrm>
              <a:off x="4674960" y="1612800"/>
              <a:ext cx="0" cy="3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25"/>
          <p:cNvSpPr/>
          <p:nvPr/>
        </p:nvSpPr>
        <p:spPr>
          <a:xfrm>
            <a:off x="341280" y="2433600"/>
            <a:ext cx="3686040" cy="36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3.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hin disk is supported on spring on spring-mounted bearing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run at 300 rpm counterclockwise (ccw), the original disk indicates a maximum amplitude of 3.2 mm at 30˚ ccw from a reference mark on the disk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, a trial weight of 2.5 oz is added to the rim at 143˚ ccw from the reference mark, and the wheel is again run at 300 rpm ccw.  The new amplitude of 7 mm is then found at 77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5"/>
          <p:cNvGrpSpPr/>
          <p:nvPr/>
        </p:nvGrpSpPr>
        <p:grpSpPr>
          <a:xfrm>
            <a:off x="5275440" y="1015920"/>
            <a:ext cx="2288160" cy="1290960"/>
            <a:chOff x="5275440" y="1015920"/>
            <a:chExt cx="2288160" cy="1290960"/>
          </a:xfrm>
        </p:grpSpPr>
        <p:grpSp>
          <p:nvGrpSpPr>
            <p:cNvPr id="92" name="Group 13"/>
            <p:cNvGrpSpPr/>
            <p:nvPr/>
          </p:nvGrpSpPr>
          <p:grpSpPr>
            <a:xfrm>
              <a:off x="5275440" y="1015920"/>
              <a:ext cx="2288160" cy="1290960"/>
              <a:chOff x="5275440" y="1015920"/>
              <a:chExt cx="2288160" cy="1290960"/>
            </a:xfrm>
          </p:grpSpPr>
          <p:grpSp>
            <p:nvGrpSpPr>
              <p:cNvPr id="93" name="Group 14"/>
              <p:cNvGrpSpPr/>
              <p:nvPr/>
            </p:nvGrpSpPr>
            <p:grpSpPr>
              <a:xfrm>
                <a:off x="5275440" y="1089720"/>
                <a:ext cx="2288160" cy="1177200"/>
                <a:chOff x="5275440" y="1089720"/>
                <a:chExt cx="2288160" cy="1177200"/>
              </a:xfrm>
            </p:grpSpPr>
            <p:sp>
              <p:nvSpPr>
                <p:cNvPr id="94" name="AutoShape 15"/>
                <p:cNvSpPr/>
                <p:nvPr/>
              </p:nvSpPr>
              <p:spPr>
                <a:xfrm rot="20700000">
                  <a:off x="6857640" y="1391760"/>
                  <a:ext cx="708120" cy="7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16"/>
                <p:cNvSpPr/>
                <p:nvPr/>
              </p:nvSpPr>
              <p:spPr>
                <a:xfrm rot="20700000">
                  <a:off x="6555960" y="1155240"/>
                  <a:ext cx="608040" cy="760680"/>
                </a:xfrm>
                <a:custGeom>
                  <a:avLst/>
                  <a:gdLst>
                    <a:gd name="textAreaLeft" fmla="*/ 88920 w 608040"/>
                    <a:gd name="textAreaRight" fmla="*/ 519120 w 608040"/>
                    <a:gd name="textAreaTop" fmla="*/ 110880 h 760680"/>
                    <a:gd name="textAreaBottom" fmla="*/ 649800 h 760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9591" y="10800"/>
                      </a:moveTo>
                      <a:cubicBezTo>
                        <a:pt x="9591" y="11468"/>
                        <a:pt x="10132" y="12009"/>
                        <a:pt x="10800" y="12009"/>
                      </a:cubicBezTo>
                      <a:cubicBezTo>
                        <a:pt x="11468" y="12009"/>
                        <a:pt x="12009" y="11468"/>
                        <a:pt x="12009" y="10800"/>
                      </a:cubicBezTo>
                      <a:cubicBezTo>
                        <a:pt x="12009" y="10132"/>
                        <a:pt x="11468" y="9591"/>
                        <a:pt x="10800" y="9591"/>
                      </a:cubicBezTo>
                      <a:cubicBezTo>
                        <a:pt x="10132" y="9591"/>
                        <a:pt x="9591" y="10132"/>
                        <a:pt x="9591" y="10800"/>
                      </a:cubicBez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17"/>
                <p:cNvSpPr/>
                <p:nvPr/>
              </p:nvSpPr>
              <p:spPr>
                <a:xfrm rot="20700000">
                  <a:off x="6561360" y="1169640"/>
                  <a:ext cx="554040" cy="746280"/>
                </a:xfrm>
                <a:custGeom>
                  <a:avLst/>
                  <a:gdLst>
                    <a:gd name="textAreaLeft" fmla="*/ 81000 w 554040"/>
                    <a:gd name="textAreaRight" fmla="*/ 473040 w 554040"/>
                    <a:gd name="textAreaTop" fmla="*/ 109440 h 746280"/>
                    <a:gd name="textAreaBottom" fmla="*/ 636840 h 74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9591" y="10800"/>
                      </a:moveTo>
                      <a:cubicBezTo>
                        <a:pt x="9591" y="11468"/>
                        <a:pt x="10132" y="12009"/>
                        <a:pt x="10800" y="12009"/>
                      </a:cubicBezTo>
                      <a:cubicBezTo>
                        <a:pt x="11468" y="12009"/>
                        <a:pt x="12009" y="11468"/>
                        <a:pt x="12009" y="10800"/>
                      </a:cubicBezTo>
                      <a:cubicBezTo>
                        <a:pt x="12009" y="10132"/>
                        <a:pt x="11468" y="9591"/>
                        <a:pt x="10800" y="9591"/>
                      </a:cubicBezTo>
                      <a:cubicBezTo>
                        <a:pt x="10132" y="9591"/>
                        <a:pt x="9591" y="10132"/>
                        <a:pt x="9591" y="10800"/>
                      </a:cubicBezTo>
                      <a:close/>
                    </a:path>
                  </a:pathLst>
                </a:custGeom>
                <a:solidFill>
                  <a:srgbClr val="ccff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18"/>
                <p:cNvSpPr/>
                <p:nvPr/>
              </p:nvSpPr>
              <p:spPr>
                <a:xfrm rot="20700000">
                  <a:off x="6073560" y="1619280"/>
                  <a:ext cx="801720" cy="76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c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" name="Group 19"/>
                <p:cNvGrpSpPr/>
                <p:nvPr/>
              </p:nvGrpSpPr>
              <p:grpSpPr>
                <a:xfrm>
                  <a:off x="5275440" y="1371240"/>
                  <a:ext cx="1067760" cy="895680"/>
                  <a:chOff x="5275440" y="1371240"/>
                  <a:chExt cx="1067760" cy="895680"/>
                </a:xfrm>
              </p:grpSpPr>
              <p:sp>
                <p:nvSpPr>
                  <p:cNvPr id="99" name="AutoShape 20"/>
                  <p:cNvSpPr/>
                  <p:nvPr/>
                </p:nvSpPr>
                <p:spPr>
                  <a:xfrm rot="20700000">
                    <a:off x="5701680" y="1429920"/>
                    <a:ext cx="554040" cy="745920"/>
                  </a:xfrm>
                  <a:custGeom>
                    <a:avLst/>
                    <a:gdLst>
                      <a:gd name="textAreaLeft" fmla="*/ 81000 w 554040"/>
                      <a:gd name="textAreaRight" fmla="*/ 473040 w 554040"/>
                      <a:gd name="textAreaTop" fmla="*/ 109440 h 745920"/>
                      <a:gd name="textAreaBottom" fmla="*/ 636480 h 7459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9591" y="10800"/>
                        </a:moveTo>
                        <a:cubicBezTo>
                          <a:pt x="9591" y="11468"/>
                          <a:pt x="10132" y="12009"/>
                          <a:pt x="10800" y="12009"/>
                        </a:cubicBezTo>
                        <a:cubicBezTo>
                          <a:pt x="11468" y="12009"/>
                          <a:pt x="12009" y="11468"/>
                          <a:pt x="12009" y="10800"/>
                        </a:cubicBezTo>
                        <a:cubicBezTo>
                          <a:pt x="12009" y="10132"/>
                          <a:pt x="11468" y="9591"/>
                          <a:pt x="10800" y="9591"/>
                        </a:cubicBezTo>
                        <a:cubicBezTo>
                          <a:pt x="10132" y="9591"/>
                          <a:pt x="9591" y="10132"/>
                          <a:pt x="9591" y="10800"/>
                        </a:cubicBezTo>
                        <a:close/>
                      </a:path>
                    </a:pathLst>
                  </a:cu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utoShape 21"/>
                  <p:cNvSpPr/>
                  <p:nvPr/>
                </p:nvSpPr>
                <p:spPr>
                  <a:xfrm rot="20700000">
                    <a:off x="5603400" y="1440720"/>
                    <a:ext cx="608040" cy="760320"/>
                  </a:xfrm>
                  <a:custGeom>
                    <a:avLst/>
                    <a:gdLst>
                      <a:gd name="textAreaLeft" fmla="*/ 88920 w 608040"/>
                      <a:gd name="textAreaRight" fmla="*/ 519120 w 608040"/>
                      <a:gd name="textAreaTop" fmla="*/ 110880 h 760320"/>
                      <a:gd name="textAreaBottom" fmla="*/ 649440 h 760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9591" y="10800"/>
                        </a:moveTo>
                        <a:cubicBezTo>
                          <a:pt x="9591" y="11468"/>
                          <a:pt x="10132" y="12009"/>
                          <a:pt x="10800" y="12009"/>
                        </a:cubicBezTo>
                        <a:cubicBezTo>
                          <a:pt x="11468" y="12009"/>
                          <a:pt x="12009" y="11468"/>
                          <a:pt x="12009" y="10800"/>
                        </a:cubicBezTo>
                        <a:cubicBezTo>
                          <a:pt x="12009" y="10132"/>
                          <a:pt x="11468" y="9591"/>
                          <a:pt x="10800" y="9591"/>
                        </a:cubicBezTo>
                        <a:cubicBezTo>
                          <a:pt x="10132" y="9591"/>
                          <a:pt x="9591" y="10132"/>
                          <a:pt x="9591" y="10800"/>
                        </a:cubicBezTo>
                        <a:close/>
                      </a:path>
                    </a:pathLst>
                  </a:cu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AutoShape 22"/>
                  <p:cNvSpPr/>
                  <p:nvPr/>
                </p:nvSpPr>
                <p:spPr>
                  <a:xfrm rot="20700000">
                    <a:off x="5273640" y="1863360"/>
                    <a:ext cx="679320" cy="75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cffff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" name="Line 23"/>
              <p:cNvSpPr/>
              <p:nvPr/>
            </p:nvSpPr>
            <p:spPr>
              <a:xfrm>
                <a:off x="5997240" y="2060280"/>
                <a:ext cx="19080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24"/>
              <p:cNvSpPr/>
              <p:nvPr/>
            </p:nvSpPr>
            <p:spPr>
              <a:xfrm flipH="1" flipV="1">
                <a:off x="6638760" y="1015920"/>
                <a:ext cx="1368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Group 34"/>
            <p:cNvGrpSpPr/>
            <p:nvPr/>
          </p:nvGrpSpPr>
          <p:grpSpPr>
            <a:xfrm>
              <a:off x="6279840" y="1566720"/>
              <a:ext cx="271800" cy="239760"/>
              <a:chOff x="6279840" y="1566720"/>
              <a:chExt cx="271800" cy="239760"/>
            </a:xfrm>
          </p:grpSpPr>
          <p:sp>
            <p:nvSpPr>
              <p:cNvPr id="105" name="Arc 29"/>
              <p:cNvSpPr/>
              <p:nvPr/>
            </p:nvSpPr>
            <p:spPr>
              <a:xfrm>
                <a:off x="6313680" y="1589040"/>
                <a:ext cx="195120" cy="2174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rc 30"/>
              <p:cNvSpPr/>
              <p:nvPr/>
            </p:nvSpPr>
            <p:spPr>
              <a:xfrm>
                <a:off x="6356520" y="1566720"/>
                <a:ext cx="195120" cy="21744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7" name="AutoShape 32"/>
              <p:cNvCxnSpPr/>
              <p:nvPr/>
            </p:nvCxnSpPr>
            <p:spPr>
              <a:xfrm>
                <a:off x="6279840" y="1577520"/>
                <a:ext cx="1080" cy="1080"/>
              </a:xfrm>
              <a:prstGeom prst="straightConnector1">
                <a:avLst/>
              </a:prstGeom>
              <a:ln w="9360">
                <a:solidFill>
                  <a:srgbClr val="800080"/>
                </a:solidFill>
                <a:miter/>
                <a:headEnd len="med" type="triangle" w="med"/>
                <a:tailEnd len="med" type="triangle" w="med"/>
              </a:ln>
            </p:spPr>
          </p:cxnSp>
        </p:grpSp>
      </p:grpSp>
      <p:pic>
        <p:nvPicPr>
          <p:cNvPr id="108" name="Picture 36" descr="C:\Documents and Settings\hjlee\바탕 화면\e4.jpg"/>
          <p:cNvPicPr/>
          <p:nvPr/>
        </p:nvPicPr>
        <p:blipFill>
          <a:blip r:embed="rId1"/>
          <a:stretch/>
        </p:blipFill>
        <p:spPr>
          <a:xfrm>
            <a:off x="4403880" y="2087640"/>
            <a:ext cx="5130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890640" y="318960"/>
            <a:ext cx="53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 Whirling of Rotating sha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489600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Text Box 4"/>
          <p:cNvSpPr/>
          <p:nvPr/>
        </p:nvSpPr>
        <p:spPr>
          <a:xfrm>
            <a:off x="763560" y="1041480"/>
            <a:ext cx="8493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ir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rotation of the plane in which the center of geometry is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534000" y="4408560"/>
            <a:ext cx="19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rling of s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7"/>
          <p:cNvGraphicFramePr/>
          <p:nvPr/>
        </p:nvGraphicFramePr>
        <p:xfrm>
          <a:off x="465120" y="3362400"/>
          <a:ext cx="4700520" cy="27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3362400"/>
                    <a:ext cx="470052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12"/>
              <p:cNvSpPr txBox="1"/>
              <p:nvPr/>
            </p:nvSpPr>
            <p:spPr>
              <a:xfrm>
                <a:off x="1181160" y="2268360"/>
                <a:ext cx="16732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G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G</m:t>
                        </m:r>
                        <m:r>
                          <m:t xml:space="preserve">+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f>
                          <m:fPr>
                            <m:type m:val="lin"/>
                          </m:fPr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6" name="Picture 13" descr="C:\Documents and Settings\hjlee\바탕 화면\e2.jpg"/>
          <p:cNvPicPr/>
          <p:nvPr/>
        </p:nvPicPr>
        <p:blipFill>
          <a:blip r:embed="rId3"/>
          <a:stretch/>
        </p:blipFill>
        <p:spPr>
          <a:xfrm>
            <a:off x="5084640" y="1463760"/>
            <a:ext cx="46134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4896000" y="33195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Text Box 5"/>
          <p:cNvSpPr/>
          <p:nvPr/>
        </p:nvSpPr>
        <p:spPr>
          <a:xfrm>
            <a:off x="2600280" y="6256440"/>
            <a:ext cx="32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of different rotation spee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9"/>
              <p:cNvSpPr txBox="1"/>
              <p:nvPr/>
            </p:nvSpPr>
            <p:spPr>
              <a:xfrm>
                <a:off x="1149480" y="952560"/>
                <a:ext cx="3825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ynchronus whirl  </m:t>
                    </m:r>
                    <m:r>
                      <m:t xml:space="preserve">(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855720" y="1347840"/>
                <a:ext cx="70992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eqArr>
                          <m:e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φ</m:t>
                            </m:r>
                          </m:e>
                          <m:e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ωr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φ</m:t>
                            </m:r>
                          </m:e>
                          <m:e/>
                        </m:eqAr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ζ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861840" y="2847960"/>
                <a:ext cx="78710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m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c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ω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ω</m:t>
                                                </m:r>
                                              </m:num>
                                              <m:den>
                                                <m:sSub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n</m:t>
                                                    </m:r>
                                                  </m:sub>
                                                </m:sSub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ζ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ω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n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2" name="Picture 13" descr="C:\Documents and Settings\hjlee\바탕 화면\e3.jpg"/>
          <p:cNvPicPr/>
          <p:nvPr/>
        </p:nvPicPr>
        <p:blipFill>
          <a:blip r:embed="rId1"/>
          <a:stretch/>
        </p:blipFill>
        <p:spPr>
          <a:xfrm>
            <a:off x="2003400" y="4267080"/>
            <a:ext cx="56307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3:46:56Z</dcterms:created>
  <dc:creator>문희곤</dc:creator>
  <dc:description/>
  <dc:language>en-US</dc:language>
  <cp:lastModifiedBy>user</cp:lastModifiedBy>
  <cp:lastPrinted>1999-12-06T14:49:12Z</cp:lastPrinted>
  <dcterms:modified xsi:type="dcterms:W3CDTF">2014-09-24T08:33:30Z</dcterms:modified>
  <cp:revision>231</cp:revision>
  <dc:subject/>
  <dc:title>슬라이드 제목 없음</dc:title>
</cp:coreProperties>
</file>