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cf5"/>
            </a:gs>
            <a:gs pos="50000">
              <a:srgbClr val="ffffff"/>
            </a:gs>
            <a:gs pos="100000">
              <a:srgbClr val="c3dc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847800" y="865080"/>
            <a:ext cx="8250120" cy="63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F:\교수님\GIST_UI\영문_sky.jpg"/>
          <p:cNvPicPr/>
          <p:nvPr/>
        </p:nvPicPr>
        <p:blipFill>
          <a:blip r:embed="rId3"/>
          <a:stretch/>
        </p:blipFill>
        <p:spPr>
          <a:xfrm>
            <a:off x="546120" y="6343560"/>
            <a:ext cx="1908000" cy="5144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8"/>
          <p:cNvSpPr/>
          <p:nvPr/>
        </p:nvSpPr>
        <p:spPr>
          <a:xfrm>
            <a:off x="5346720" y="6362640"/>
            <a:ext cx="295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 Black"/>
                <a:ea typeface="돋움"/>
              </a:rPr>
              <a:t>Intelligent System Design La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9" descr="D:\MYDOC\paper_writing\ppt\lablogo20.jpe"/>
          <p:cNvPicPr/>
          <p:nvPr/>
        </p:nvPicPr>
        <p:blipFill>
          <a:blip r:embed="rId4"/>
          <a:stretch/>
        </p:blipFill>
        <p:spPr>
          <a:xfrm>
            <a:off x="8300880" y="6329520"/>
            <a:ext cx="771840" cy="44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46"/>
          <p:cNvSpPr/>
          <p:nvPr/>
        </p:nvSpPr>
        <p:spPr>
          <a:xfrm>
            <a:off x="1143360" y="255600"/>
            <a:ext cx="79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 6. Properties of Vibra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" name="Object 157"/>
              <p:cNvSpPr txBox="1"/>
              <p:nvPr/>
            </p:nvSpPr>
            <p:spPr>
              <a:xfrm>
                <a:off x="1306440" y="1087560"/>
                <a:ext cx="4973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Κ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DL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Κ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Α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lexibility Matri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Object 159"/>
              <p:cNvSpPr txBox="1"/>
              <p:nvPr/>
            </p:nvSpPr>
            <p:spPr>
              <a:xfrm>
                <a:off x="1171440" y="2166840"/>
                <a:ext cx="2646360" cy="17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(</m:t>
                        </m:r>
                        <m:r>
                          <m:t xml:space="preserve">Κ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multiply    </m:t>
                        </m:r>
                        <m:r>
                          <m:t xml:space="preserve">Α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(</m:t>
                        </m:r>
                        <m:r>
                          <m:t xml:space="preserve">Ι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ΑΜ</m:t>
                        </m:r>
                        <m:r>
                          <m:t xml:space="preserve">)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0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hjlee\바탕 화면\61_3_x.jpg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825480" y="1068480"/>
            <a:ext cx="73486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977760" y="927000"/>
            <a:ext cx="19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n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096920" y="1386000"/>
                <a:ext cx="1532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∭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u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Text Box 7"/>
          <p:cNvSpPr/>
          <p:nvPr/>
        </p:nvSpPr>
        <p:spPr>
          <a:xfrm>
            <a:off x="977760" y="2044800"/>
            <a:ext cx="36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energy dens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8"/>
              <p:cNvSpPr txBox="1"/>
              <p:nvPr/>
            </p:nvSpPr>
            <p:spPr>
              <a:xfrm>
                <a:off x="1430280" y="2449440"/>
                <a:ext cx="533556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d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→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         </m:t>
                          </m:r>
                          <m:r>
                            <m:t xml:space="preserve">(</m:t>
                          </m:r>
                          <m:r>
                            <m:t xml:space="preserve">W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work  done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r>
                                <m:t xml:space="preserve">u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6" name="Text Box 9"/>
          <p:cNvSpPr/>
          <p:nvPr/>
        </p:nvSpPr>
        <p:spPr>
          <a:xfrm>
            <a:off x="876240" y="3695760"/>
            <a:ext cx="48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mentary Energy dens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0"/>
              <p:cNvSpPr txBox="1"/>
              <p:nvPr/>
            </p:nvSpPr>
            <p:spPr>
              <a:xfrm>
                <a:off x="1654200" y="4121280"/>
                <a:ext cx="31971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/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d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609480" y="1066680"/>
            <a:ext cx="31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linear elastic behav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1847880" y="2022480"/>
                <a:ext cx="39178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e>
                        </m:bar>
                      </m:e>
                    </m:nary>
                    <m:r>
                      <m:t xml:space="preserve">⋅</m:t>
                    </m:r>
                    <m:r>
                      <m:t xml:space="preserve">d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U</m:t>
                    </m:r>
                    <m:r>
                      <m:t xml:space="preserve">∗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s</m:t>
                            </m:r>
                          </m:e>
                        </m:bar>
                      </m:e>
                    </m:nary>
                    <m:r>
                      <m:t xml:space="preserve">⋅</m:t>
                    </m:r>
                    <m:r>
                      <m:t xml:space="preserve">d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0" name="Text Box 4"/>
          <p:cNvSpPr/>
          <p:nvPr/>
        </p:nvSpPr>
        <p:spPr>
          <a:xfrm>
            <a:off x="1181160" y="1511280"/>
            <a:ext cx="60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otential energy           Complementary work(ener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95360" y="2921040"/>
            <a:ext cx="349236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rst Castigliano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otential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6"/>
          <p:cNvGrpSpPr/>
          <p:nvPr/>
        </p:nvGrpSpPr>
        <p:grpSpPr>
          <a:xfrm>
            <a:off x="6681960" y="1155600"/>
            <a:ext cx="2247840" cy="1712880"/>
            <a:chOff x="6681960" y="1155600"/>
            <a:chExt cx="2247840" cy="1712880"/>
          </a:xfrm>
        </p:grpSpPr>
        <p:sp>
          <p:nvSpPr>
            <p:cNvPr id="113" name="Line 9"/>
            <p:cNvSpPr/>
            <p:nvPr/>
          </p:nvSpPr>
          <p:spPr>
            <a:xfrm>
              <a:off x="6998040" y="1155600"/>
              <a:ext cx="1440" cy="14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0"/>
            <p:cNvSpPr/>
            <p:nvPr/>
          </p:nvSpPr>
          <p:spPr>
            <a:xfrm flipH="1">
              <a:off x="6999480" y="2576520"/>
              <a:ext cx="193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6998040" y="1346400"/>
              <a:ext cx="1688760" cy="1231920"/>
            </a:xfrm>
            <a:custGeom>
              <a:avLst/>
              <a:gdLst>
                <a:gd name="textAreaLeft" fmla="*/ 0 w 1688760"/>
                <a:gd name="textAreaRight" fmla="*/ 1689120 w 1688760"/>
                <a:gd name="textAreaTop" fmla="*/ 0 h 1231920"/>
                <a:gd name="textAreaBottom" fmla="*/ 1232280 h 1231920"/>
              </a:gdLst>
              <a:ahLst/>
              <a:rect l="textAreaLeft" t="textAreaTop" r="textAreaRight" b="textAreaBottom"/>
              <a:pathLst>
                <a:path w="1080" h="744">
                  <a:moveTo>
                    <a:pt x="0" y="744"/>
                  </a:moveTo>
                  <a:cubicBezTo>
                    <a:pt x="206" y="670"/>
                    <a:pt x="412" y="596"/>
                    <a:pt x="592" y="472"/>
                  </a:cubicBezTo>
                  <a:cubicBezTo>
                    <a:pt x="772" y="348"/>
                    <a:pt x="992" y="73"/>
                    <a:pt x="1080" y="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Object 12"/>
                <p:cNvSpPr txBox="1"/>
                <p:nvPr/>
              </p:nvSpPr>
              <p:spPr>
                <a:xfrm>
                  <a:off x="6681960" y="1357200"/>
                  <a:ext cx="219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7" name="Object 13"/>
                <p:cNvSpPr txBox="1"/>
                <p:nvPr/>
              </p:nvSpPr>
              <p:spPr>
                <a:xfrm>
                  <a:off x="8396280" y="2639880"/>
                  <a:ext cx="219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Object 14"/>
                <p:cNvSpPr txBox="1"/>
                <p:nvPr/>
              </p:nvSpPr>
              <p:spPr>
                <a:xfrm>
                  <a:off x="7634520" y="1487520"/>
                  <a:ext cx="37296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∗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15"/>
                <p:cNvSpPr txBox="1"/>
                <p:nvPr/>
              </p:nvSpPr>
              <p:spPr>
                <a:xfrm>
                  <a:off x="8320320" y="1992240"/>
                  <a:ext cx="218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0" name="Object 17"/>
              <p:cNvSpPr txBox="1"/>
              <p:nvPr/>
            </p:nvSpPr>
            <p:spPr>
              <a:xfrm>
                <a:off x="3867120" y="1170000"/>
                <a:ext cx="817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1"/>
              <p:cNvSpPr txBox="1"/>
              <p:nvPr/>
            </p:nvSpPr>
            <p:spPr>
              <a:xfrm>
                <a:off x="947880" y="3670200"/>
                <a:ext cx="520848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δΠ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Δ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δ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Δ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22"/>
              <p:cNvSpPr txBox="1"/>
              <p:nvPr/>
            </p:nvSpPr>
            <p:spPr>
              <a:xfrm>
                <a:off x="1568520" y="5372280"/>
                <a:ext cx="297648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" name="Group 52"/>
          <p:cNvGrpSpPr/>
          <p:nvPr/>
        </p:nvGrpSpPr>
        <p:grpSpPr>
          <a:xfrm>
            <a:off x="6572160" y="3606480"/>
            <a:ext cx="2687400" cy="2583360"/>
            <a:chOff x="6572160" y="3606480"/>
            <a:chExt cx="2687400" cy="2583360"/>
          </a:xfrm>
        </p:grpSpPr>
        <p:sp>
          <p:nvSpPr>
            <p:cNvPr id="124" name="Oval 23"/>
            <p:cNvSpPr/>
            <p:nvPr/>
          </p:nvSpPr>
          <p:spPr>
            <a:xfrm>
              <a:off x="7048440" y="4064040"/>
              <a:ext cx="1930320" cy="1765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32"/>
            <p:cNvGrpSpPr/>
            <p:nvPr/>
          </p:nvGrpSpPr>
          <p:grpSpPr>
            <a:xfrm>
              <a:off x="8343720" y="5448240"/>
              <a:ext cx="482760" cy="546120"/>
              <a:chOff x="8343720" y="5448240"/>
              <a:chExt cx="482760" cy="546120"/>
            </a:xfrm>
          </p:grpSpPr>
          <p:sp>
            <p:nvSpPr>
              <p:cNvPr id="126" name="Line 24"/>
              <p:cNvSpPr/>
              <p:nvPr/>
            </p:nvSpPr>
            <p:spPr>
              <a:xfrm>
                <a:off x="8343720" y="5448240"/>
                <a:ext cx="482760" cy="54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5"/>
              <p:cNvSpPr/>
              <p:nvPr/>
            </p:nvSpPr>
            <p:spPr>
              <a:xfrm>
                <a:off x="8369280" y="5486400"/>
                <a:ext cx="12672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8" name="Object 26"/>
                <p:cNvSpPr txBox="1"/>
                <p:nvPr/>
              </p:nvSpPr>
              <p:spPr>
                <a:xfrm>
                  <a:off x="8393040" y="5205600"/>
                  <a:ext cx="24768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9" name="Object 28"/>
                <p:cNvSpPr txBox="1"/>
                <p:nvPr/>
              </p:nvSpPr>
              <p:spPr>
                <a:xfrm>
                  <a:off x="6572160" y="4259160"/>
                  <a:ext cx="23184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Object 29"/>
                <p:cNvSpPr txBox="1"/>
                <p:nvPr/>
              </p:nvSpPr>
              <p:spPr>
                <a:xfrm>
                  <a:off x="7359480" y="4525920"/>
                  <a:ext cx="231840" cy="26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" name="Object 30"/>
                <p:cNvSpPr txBox="1"/>
                <p:nvPr/>
              </p:nvSpPr>
              <p:spPr>
                <a:xfrm>
                  <a:off x="8635680" y="4557600"/>
                  <a:ext cx="2178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" name="Object 31"/>
                <p:cNvSpPr txBox="1"/>
                <p:nvPr/>
              </p:nvSpPr>
              <p:spPr>
                <a:xfrm>
                  <a:off x="8901000" y="5967360"/>
                  <a:ext cx="222120" cy="2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3" name="Line 34"/>
            <p:cNvSpPr/>
            <p:nvPr/>
          </p:nvSpPr>
          <p:spPr>
            <a:xfrm flipV="1">
              <a:off x="8498160" y="4177440"/>
              <a:ext cx="629280" cy="36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 flipV="1">
              <a:off x="8593560" y="4401360"/>
              <a:ext cx="120960" cy="9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Object 36"/>
                <p:cNvSpPr txBox="1"/>
                <p:nvPr/>
              </p:nvSpPr>
              <p:spPr>
                <a:xfrm>
                  <a:off x="9042120" y="3948120"/>
                  <a:ext cx="21744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Line 38"/>
            <p:cNvSpPr/>
            <p:nvPr/>
          </p:nvSpPr>
          <p:spPr>
            <a:xfrm flipH="1" flipV="1">
              <a:off x="6843600" y="4278960"/>
              <a:ext cx="508680" cy="52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9"/>
            <p:cNvSpPr/>
            <p:nvPr/>
          </p:nvSpPr>
          <p:spPr>
            <a:xfrm flipH="1" flipV="1">
              <a:off x="6935400" y="437688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1"/>
            <p:cNvSpPr/>
            <p:nvPr/>
          </p:nvSpPr>
          <p:spPr>
            <a:xfrm>
              <a:off x="7149960" y="4584600"/>
              <a:ext cx="182520" cy="1828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259" h="251">
                  <a:moveTo>
                    <a:pt x="0" y="232"/>
                  </a:moveTo>
                  <a:cubicBezTo>
                    <a:pt x="83" y="241"/>
                    <a:pt x="167" y="251"/>
                    <a:pt x="208" y="224"/>
                  </a:cubicBezTo>
                  <a:cubicBezTo>
                    <a:pt x="249" y="197"/>
                    <a:pt x="259" y="109"/>
                    <a:pt x="248" y="72"/>
                  </a:cubicBezTo>
                  <a:cubicBezTo>
                    <a:pt x="237" y="35"/>
                    <a:pt x="163" y="13"/>
                    <a:pt x="144" y="0"/>
                  </a:cubicBezTo>
                </a:path>
              </a:pathLst>
            </a:custGeom>
            <a:noFill/>
            <a:ln w="3240">
              <a:solidFill>
                <a:srgbClr val="80808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51"/>
            <p:cNvGrpSpPr/>
            <p:nvPr/>
          </p:nvGrpSpPr>
          <p:grpSpPr>
            <a:xfrm>
              <a:off x="7607160" y="3606480"/>
              <a:ext cx="799920" cy="457560"/>
              <a:chOff x="7607160" y="3606480"/>
              <a:chExt cx="799920" cy="457560"/>
            </a:xfrm>
          </p:grpSpPr>
          <p:sp>
            <p:nvSpPr>
              <p:cNvPr id="140" name="AutoShape 42"/>
              <p:cNvSpPr/>
              <p:nvPr/>
            </p:nvSpPr>
            <p:spPr>
              <a:xfrm rot="10893600">
                <a:off x="7858800" y="3732840"/>
                <a:ext cx="250560" cy="25092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43"/>
              <p:cNvSpPr/>
              <p:nvPr/>
            </p:nvSpPr>
            <p:spPr>
              <a:xfrm>
                <a:off x="7607160" y="3733560"/>
                <a:ext cx="79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4"/>
              <p:cNvSpPr/>
              <p:nvPr/>
            </p:nvSpPr>
            <p:spPr>
              <a:xfrm flipV="1">
                <a:off x="8165520" y="36190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5"/>
              <p:cNvSpPr/>
              <p:nvPr/>
            </p:nvSpPr>
            <p:spPr>
              <a:xfrm flipV="1">
                <a:off x="8292600" y="36064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6"/>
              <p:cNvSpPr/>
              <p:nvPr/>
            </p:nvSpPr>
            <p:spPr>
              <a:xfrm flipV="1">
                <a:off x="8038440" y="36064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7"/>
              <p:cNvSpPr/>
              <p:nvPr/>
            </p:nvSpPr>
            <p:spPr>
              <a:xfrm flipV="1">
                <a:off x="7898760" y="36064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8"/>
              <p:cNvSpPr/>
              <p:nvPr/>
            </p:nvSpPr>
            <p:spPr>
              <a:xfrm flipV="1">
                <a:off x="7670160" y="3606480"/>
                <a:ext cx="11412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9"/>
              <p:cNvSpPr/>
              <p:nvPr/>
            </p:nvSpPr>
            <p:spPr>
              <a:xfrm flipV="1">
                <a:off x="7784640" y="3606480"/>
                <a:ext cx="11376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50"/>
              <p:cNvSpPr/>
              <p:nvPr/>
            </p:nvSpPr>
            <p:spPr>
              <a:xfrm>
                <a:off x="7936920" y="3975120"/>
                <a:ext cx="88560" cy="88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457200" y="1066680"/>
            <a:ext cx="38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econd Castigliano Theor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11360" y="1498680"/>
            <a:ext cx="30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Complementary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888840" y="4635360"/>
            <a:ext cx="19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linear ela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4"/>
              <p:cNvSpPr txBox="1"/>
              <p:nvPr/>
            </p:nvSpPr>
            <p:spPr>
              <a:xfrm>
                <a:off x="2816280" y="4605480"/>
                <a:ext cx="8874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6"/>
              <p:cNvSpPr txBox="1"/>
              <p:nvPr/>
            </p:nvSpPr>
            <p:spPr>
              <a:xfrm>
                <a:off x="2367000" y="3498840"/>
                <a:ext cx="12254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3"/>
              <p:cNvSpPr txBox="1"/>
              <p:nvPr/>
            </p:nvSpPr>
            <p:spPr>
              <a:xfrm>
                <a:off x="965160" y="1866960"/>
                <a:ext cx="57103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δΠ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/>
                                    </m:s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/>
                                    </m:sSup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4"/>
              <p:cNvSpPr txBox="1"/>
              <p:nvPr/>
            </p:nvSpPr>
            <p:spPr>
              <a:xfrm>
                <a:off x="2387520" y="5205240"/>
                <a:ext cx="11588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Qi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762120" y="888840"/>
            <a:ext cx="31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well’s Reciprocal Theor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47"/>
          <p:cNvGrpSpPr/>
          <p:nvPr/>
        </p:nvGrpSpPr>
        <p:grpSpPr>
          <a:xfrm>
            <a:off x="874440" y="1257480"/>
            <a:ext cx="4088880" cy="3688200"/>
            <a:chOff x="874440" y="1257480"/>
            <a:chExt cx="4088880" cy="3688200"/>
          </a:xfrm>
        </p:grpSpPr>
        <p:sp>
          <p:nvSpPr>
            <p:cNvPr id="158" name="Line 45"/>
            <p:cNvSpPr/>
            <p:nvPr/>
          </p:nvSpPr>
          <p:spPr>
            <a:xfrm>
              <a:off x="2036880" y="1257480"/>
              <a:ext cx="5040" cy="3346560"/>
            </a:xfrm>
            <a:prstGeom prst="line">
              <a:avLst/>
            </a:prstGeom>
            <a:ln w="1908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3332520" y="1270080"/>
              <a:ext cx="5040" cy="3257640"/>
            </a:xfrm>
            <a:prstGeom prst="line">
              <a:avLst/>
            </a:prstGeom>
            <a:ln w="1908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145"/>
            <p:cNvGrpSpPr/>
            <p:nvPr/>
          </p:nvGrpSpPr>
          <p:grpSpPr>
            <a:xfrm>
              <a:off x="886680" y="1506600"/>
              <a:ext cx="4076640" cy="1241640"/>
              <a:chOff x="886680" y="1506600"/>
              <a:chExt cx="4076640" cy="1241640"/>
            </a:xfrm>
          </p:grpSpPr>
          <mc:AlternateContent>
            <mc:Choice xmlns:a14="http://schemas.microsoft.com/office/drawing/2010/main" Requires="a14">
              <p:sp>
                <p:nvSpPr>
                  <p:cNvPr id="161" name="Object 14"/>
                  <p:cNvSpPr txBox="1"/>
                  <p:nvPr/>
                </p:nvSpPr>
                <p:spPr>
                  <a:xfrm>
                    <a:off x="3625200" y="2409840"/>
                    <a:ext cx="734760" cy="338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2" name="Line 44"/>
              <p:cNvSpPr/>
              <p:nvPr/>
            </p:nvSpPr>
            <p:spPr>
              <a:xfrm>
                <a:off x="1206000" y="1816200"/>
                <a:ext cx="3415680" cy="1800"/>
              </a:xfrm>
              <a:prstGeom prst="line">
                <a:avLst/>
              </a:prstGeom>
              <a:ln w="1908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46"/>
              <p:cNvSpPr/>
              <p:nvPr/>
            </p:nvSpPr>
            <p:spPr>
              <a:xfrm rot="21376200">
                <a:off x="1227960" y="1699920"/>
                <a:ext cx="3409920" cy="679680"/>
              </a:xfrm>
              <a:custGeom>
                <a:avLst/>
                <a:gdLst>
                  <a:gd name="textAreaLeft" fmla="*/ 0 w 3409920"/>
                  <a:gd name="textAreaRight" fmla="*/ 3410280 w 3409920"/>
                  <a:gd name="textAreaTop" fmla="*/ 0 h 679680"/>
                  <a:gd name="textAreaBottom" fmla="*/ 680040 h 679680"/>
                </a:gdLst>
                <a:ahLst/>
                <a:rect l="textAreaLeft" t="textAreaTop" r="textAreaRight" b="textAreaBottom"/>
                <a:pathLst>
                  <a:path w="2136" h="407">
                    <a:moveTo>
                      <a:pt x="0" y="0"/>
                    </a:moveTo>
                    <a:cubicBezTo>
                      <a:pt x="174" y="180"/>
                      <a:pt x="348" y="361"/>
                      <a:pt x="704" y="384"/>
                    </a:cubicBezTo>
                    <a:cubicBezTo>
                      <a:pt x="1060" y="407"/>
                      <a:pt x="1837" y="208"/>
                      <a:pt x="2136" y="136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Group 68"/>
              <p:cNvGrpSpPr/>
              <p:nvPr/>
            </p:nvGrpSpPr>
            <p:grpSpPr>
              <a:xfrm>
                <a:off x="886680" y="1828080"/>
                <a:ext cx="571320" cy="341280"/>
                <a:chOff x="886680" y="1828080"/>
                <a:chExt cx="571320" cy="341280"/>
              </a:xfrm>
            </p:grpSpPr>
            <p:sp>
              <p:nvSpPr>
                <p:cNvPr id="165" name="AutoShape 59"/>
                <p:cNvSpPr/>
                <p:nvPr/>
              </p:nvSpPr>
              <p:spPr>
                <a:xfrm rot="93600">
                  <a:off x="1099080" y="1830240"/>
                  <a:ext cx="178920" cy="2253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0"/>
                <p:cNvSpPr/>
                <p:nvPr/>
              </p:nvSpPr>
              <p:spPr>
                <a:xfrm flipH="1">
                  <a:off x="886680" y="205596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61"/>
                <p:cNvSpPr/>
                <p:nvPr/>
              </p:nvSpPr>
              <p:spPr>
                <a:xfrm flipH="1">
                  <a:off x="977760" y="2055960"/>
                  <a:ext cx="81360" cy="10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62"/>
                <p:cNvSpPr/>
                <p:nvPr/>
              </p:nvSpPr>
              <p:spPr>
                <a:xfrm flipH="1">
                  <a:off x="887040" y="2066760"/>
                  <a:ext cx="81360" cy="10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63"/>
                <p:cNvSpPr/>
                <p:nvPr/>
              </p:nvSpPr>
              <p:spPr>
                <a:xfrm flipH="1">
                  <a:off x="1067760" y="2066760"/>
                  <a:ext cx="81720" cy="10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64"/>
                <p:cNvSpPr/>
                <p:nvPr/>
              </p:nvSpPr>
              <p:spPr>
                <a:xfrm flipH="1">
                  <a:off x="1168200" y="2066760"/>
                  <a:ext cx="81360" cy="10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65"/>
                <p:cNvSpPr/>
                <p:nvPr/>
              </p:nvSpPr>
              <p:spPr>
                <a:xfrm flipH="1">
                  <a:off x="1331640" y="2066760"/>
                  <a:ext cx="81360" cy="10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66"/>
                <p:cNvSpPr/>
                <p:nvPr/>
              </p:nvSpPr>
              <p:spPr>
                <a:xfrm flipH="1">
                  <a:off x="1249200" y="2066760"/>
                  <a:ext cx="81720" cy="10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71"/>
              <p:cNvGrpSpPr/>
              <p:nvPr/>
            </p:nvGrpSpPr>
            <p:grpSpPr>
              <a:xfrm>
                <a:off x="4226400" y="1814760"/>
                <a:ext cx="736920" cy="380160"/>
                <a:chOff x="4226400" y="1814760"/>
                <a:chExt cx="736920" cy="380160"/>
              </a:xfrm>
            </p:grpSpPr>
            <p:sp>
              <p:nvSpPr>
                <p:cNvPr id="174" name="AutoShape 49"/>
                <p:cNvSpPr/>
                <p:nvPr/>
              </p:nvSpPr>
              <p:spPr>
                <a:xfrm rot="93600">
                  <a:off x="4498560" y="1817640"/>
                  <a:ext cx="232200" cy="20160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Group 69"/>
                <p:cNvGrpSpPr/>
                <p:nvPr/>
              </p:nvGrpSpPr>
              <p:grpSpPr>
                <a:xfrm>
                  <a:off x="4226400" y="2092680"/>
                  <a:ext cx="736920" cy="102240"/>
                  <a:chOff x="4226400" y="2092680"/>
                  <a:chExt cx="736920" cy="102240"/>
                </a:xfrm>
              </p:grpSpPr>
              <p:sp>
                <p:nvSpPr>
                  <p:cNvPr id="176" name="Line 50"/>
                  <p:cNvSpPr/>
                  <p:nvPr/>
                </p:nvSpPr>
                <p:spPr>
                  <a:xfrm flipH="1">
                    <a:off x="4226760" y="2092680"/>
                    <a:ext cx="736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51"/>
                  <p:cNvSpPr/>
                  <p:nvPr/>
                </p:nvSpPr>
                <p:spPr>
                  <a:xfrm flipH="1">
                    <a:off x="4343400" y="2092680"/>
                    <a:ext cx="1047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52"/>
                  <p:cNvSpPr/>
                  <p:nvPr/>
                </p:nvSpPr>
                <p:spPr>
                  <a:xfrm flipH="1">
                    <a:off x="4226400" y="2102760"/>
                    <a:ext cx="1047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53"/>
                  <p:cNvSpPr/>
                  <p:nvPr/>
                </p:nvSpPr>
                <p:spPr>
                  <a:xfrm flipH="1">
                    <a:off x="4460400" y="2102760"/>
                    <a:ext cx="1047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54"/>
                  <p:cNvSpPr/>
                  <p:nvPr/>
                </p:nvSpPr>
                <p:spPr>
                  <a:xfrm flipH="1">
                    <a:off x="4588920" y="2102760"/>
                    <a:ext cx="1047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55"/>
                  <p:cNvSpPr/>
                  <p:nvPr/>
                </p:nvSpPr>
                <p:spPr>
                  <a:xfrm flipH="1">
                    <a:off x="4799520" y="2102760"/>
                    <a:ext cx="1047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56"/>
                  <p:cNvSpPr/>
                  <p:nvPr/>
                </p:nvSpPr>
                <p:spPr>
                  <a:xfrm flipH="1">
                    <a:off x="4694400" y="2102760"/>
                    <a:ext cx="10512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3" name="Oval 57"/>
                <p:cNvSpPr/>
                <p:nvPr/>
              </p:nvSpPr>
              <p:spPr>
                <a:xfrm rot="10800000">
                  <a:off x="4623840" y="2020320"/>
                  <a:ext cx="81720" cy="71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70"/>
                <p:cNvSpPr/>
                <p:nvPr/>
              </p:nvSpPr>
              <p:spPr>
                <a:xfrm rot="10800000">
                  <a:off x="4506840" y="2020320"/>
                  <a:ext cx="81720" cy="71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Line 72"/>
              <p:cNvSpPr/>
              <p:nvPr/>
            </p:nvSpPr>
            <p:spPr>
              <a:xfrm>
                <a:off x="2044080" y="1587600"/>
                <a:ext cx="1080" cy="749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73"/>
              <p:cNvSpPr/>
              <p:nvPr/>
            </p:nvSpPr>
            <p:spPr>
              <a:xfrm>
                <a:off x="3326760" y="1816200"/>
                <a:ext cx="1440" cy="381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77"/>
              <p:cNvSpPr/>
              <p:nvPr/>
            </p:nvSpPr>
            <p:spPr>
              <a:xfrm>
                <a:off x="3339360" y="1982880"/>
                <a:ext cx="291960" cy="631800"/>
              </a:xfrm>
              <a:custGeom>
                <a:avLst/>
                <a:gdLst>
                  <a:gd name="textAreaLeft" fmla="*/ 0 w 291960"/>
                  <a:gd name="textAreaRight" fmla="*/ 291960 w 291960"/>
                  <a:gd name="textAreaTop" fmla="*/ 0 h 631800"/>
                  <a:gd name="textAreaBottom" fmla="*/ 632160 h 631800"/>
                </a:gdLst>
                <a:ahLst/>
                <a:rect l="textAreaLeft" t="textAreaTop" r="textAreaRight" b="textAreaBottom"/>
                <a:pathLst>
                  <a:path w="184" h="398">
                    <a:moveTo>
                      <a:pt x="0" y="15"/>
                    </a:moveTo>
                    <a:cubicBezTo>
                      <a:pt x="52" y="7"/>
                      <a:pt x="104" y="0"/>
                      <a:pt x="120" y="55"/>
                    </a:cubicBezTo>
                    <a:cubicBezTo>
                      <a:pt x="136" y="110"/>
                      <a:pt x="85" y="288"/>
                      <a:pt x="96" y="343"/>
                    </a:cubicBezTo>
                    <a:cubicBezTo>
                      <a:pt x="107" y="398"/>
                      <a:pt x="151" y="368"/>
                      <a:pt x="184" y="383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8" name="Object 78"/>
                  <p:cNvSpPr txBox="1"/>
                  <p:nvPr/>
                </p:nvSpPr>
                <p:spPr>
                  <a:xfrm>
                    <a:off x="2121840" y="1506600"/>
                    <a:ext cx="209160" cy="238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Ρ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89" name="Group 146"/>
            <p:cNvGrpSpPr/>
            <p:nvPr/>
          </p:nvGrpSpPr>
          <p:grpSpPr>
            <a:xfrm>
              <a:off x="874440" y="3170520"/>
              <a:ext cx="4075920" cy="1253880"/>
              <a:chOff x="874440" y="3170520"/>
              <a:chExt cx="4075920" cy="1253880"/>
            </a:xfrm>
          </p:grpSpPr>
          <mc:AlternateContent>
            <mc:Choice xmlns:a14="http://schemas.microsoft.com/office/drawing/2010/main" Requires="a14">
              <p:sp>
                <p:nvSpPr>
                  <p:cNvPr id="190" name="Object 109"/>
                  <p:cNvSpPr txBox="1"/>
                  <p:nvPr/>
                </p:nvSpPr>
                <p:spPr>
                  <a:xfrm>
                    <a:off x="1123560" y="4086360"/>
                    <a:ext cx="734760" cy="33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1" name="Line 110"/>
              <p:cNvSpPr/>
              <p:nvPr/>
            </p:nvSpPr>
            <p:spPr>
              <a:xfrm>
                <a:off x="1193400" y="3467160"/>
                <a:ext cx="3416040" cy="1800"/>
              </a:xfrm>
              <a:prstGeom prst="line">
                <a:avLst/>
              </a:prstGeom>
              <a:ln w="1908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11"/>
              <p:cNvSpPr/>
              <p:nvPr/>
            </p:nvSpPr>
            <p:spPr>
              <a:xfrm>
                <a:off x="1196640" y="3475080"/>
                <a:ext cx="3419280" cy="563760"/>
              </a:xfrm>
              <a:custGeom>
                <a:avLst/>
                <a:gdLst>
                  <a:gd name="textAreaLeft" fmla="*/ 0 w 3419280"/>
                  <a:gd name="textAreaRight" fmla="*/ 3419640 w 3419280"/>
                  <a:gd name="textAreaTop" fmla="*/ 0 h 563760"/>
                  <a:gd name="textAreaBottom" fmla="*/ 564120 h 563760"/>
                </a:gdLst>
                <a:ahLst/>
                <a:rect l="textAreaLeft" t="textAreaTop" r="textAreaRight" b="textAreaBottom"/>
                <a:pathLst>
                  <a:path w="2154" h="355">
                    <a:moveTo>
                      <a:pt x="0" y="0"/>
                    </a:moveTo>
                    <a:cubicBezTo>
                      <a:pt x="210" y="59"/>
                      <a:pt x="903" y="355"/>
                      <a:pt x="1262" y="355"/>
                    </a:cubicBezTo>
                    <a:cubicBezTo>
                      <a:pt x="1621" y="355"/>
                      <a:pt x="1968" y="76"/>
                      <a:pt x="2154" y="3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Group 112"/>
              <p:cNvGrpSpPr/>
              <p:nvPr/>
            </p:nvGrpSpPr>
            <p:grpSpPr>
              <a:xfrm>
                <a:off x="874440" y="3479040"/>
                <a:ext cx="571320" cy="341280"/>
                <a:chOff x="874440" y="3479040"/>
                <a:chExt cx="571320" cy="341280"/>
              </a:xfrm>
            </p:grpSpPr>
            <p:sp>
              <p:nvSpPr>
                <p:cNvPr id="194" name="AutoShape 113"/>
                <p:cNvSpPr/>
                <p:nvPr/>
              </p:nvSpPr>
              <p:spPr>
                <a:xfrm rot="93600">
                  <a:off x="1086840" y="3481200"/>
                  <a:ext cx="178920" cy="2253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114"/>
                <p:cNvSpPr/>
                <p:nvPr/>
              </p:nvSpPr>
              <p:spPr>
                <a:xfrm flipH="1">
                  <a:off x="874440" y="370692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15"/>
                <p:cNvSpPr/>
                <p:nvPr/>
              </p:nvSpPr>
              <p:spPr>
                <a:xfrm flipH="1">
                  <a:off x="965520" y="3706920"/>
                  <a:ext cx="81360" cy="10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16"/>
                <p:cNvSpPr/>
                <p:nvPr/>
              </p:nvSpPr>
              <p:spPr>
                <a:xfrm flipH="1">
                  <a:off x="874800" y="3717720"/>
                  <a:ext cx="81360" cy="10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117"/>
                <p:cNvSpPr/>
                <p:nvPr/>
              </p:nvSpPr>
              <p:spPr>
                <a:xfrm flipH="1">
                  <a:off x="1055520" y="3717720"/>
                  <a:ext cx="81720" cy="10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118"/>
                <p:cNvSpPr/>
                <p:nvPr/>
              </p:nvSpPr>
              <p:spPr>
                <a:xfrm flipH="1">
                  <a:off x="1155960" y="3717720"/>
                  <a:ext cx="81360" cy="10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119"/>
                <p:cNvSpPr/>
                <p:nvPr/>
              </p:nvSpPr>
              <p:spPr>
                <a:xfrm flipH="1">
                  <a:off x="1319400" y="3717720"/>
                  <a:ext cx="81360" cy="10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20"/>
                <p:cNvSpPr/>
                <p:nvPr/>
              </p:nvSpPr>
              <p:spPr>
                <a:xfrm flipH="1">
                  <a:off x="1236960" y="3717720"/>
                  <a:ext cx="81720" cy="10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121"/>
              <p:cNvGrpSpPr/>
              <p:nvPr/>
            </p:nvGrpSpPr>
            <p:grpSpPr>
              <a:xfrm>
                <a:off x="4214160" y="3465720"/>
                <a:ext cx="736200" cy="380160"/>
                <a:chOff x="4214160" y="3465720"/>
                <a:chExt cx="736200" cy="380160"/>
              </a:xfrm>
            </p:grpSpPr>
            <p:sp>
              <p:nvSpPr>
                <p:cNvPr id="203" name="AutoShape 122"/>
                <p:cNvSpPr/>
                <p:nvPr/>
              </p:nvSpPr>
              <p:spPr>
                <a:xfrm rot="93600">
                  <a:off x="4485960" y="3468600"/>
                  <a:ext cx="232200" cy="20160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4" name="Group 123"/>
                <p:cNvGrpSpPr/>
                <p:nvPr/>
              </p:nvGrpSpPr>
              <p:grpSpPr>
                <a:xfrm>
                  <a:off x="4214160" y="3743640"/>
                  <a:ext cx="736200" cy="102240"/>
                  <a:chOff x="4214160" y="3743640"/>
                  <a:chExt cx="736200" cy="102240"/>
                </a:xfrm>
              </p:grpSpPr>
              <p:sp>
                <p:nvSpPr>
                  <p:cNvPr id="205" name="Line 124"/>
                  <p:cNvSpPr/>
                  <p:nvPr/>
                </p:nvSpPr>
                <p:spPr>
                  <a:xfrm flipH="1">
                    <a:off x="4214160" y="3743640"/>
                    <a:ext cx="736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125"/>
                  <p:cNvSpPr/>
                  <p:nvPr/>
                </p:nvSpPr>
                <p:spPr>
                  <a:xfrm flipH="1">
                    <a:off x="4330800" y="3743640"/>
                    <a:ext cx="1047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126"/>
                  <p:cNvSpPr/>
                  <p:nvPr/>
                </p:nvSpPr>
                <p:spPr>
                  <a:xfrm flipH="1">
                    <a:off x="4214160" y="3753720"/>
                    <a:ext cx="1047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127"/>
                  <p:cNvSpPr/>
                  <p:nvPr/>
                </p:nvSpPr>
                <p:spPr>
                  <a:xfrm flipH="1">
                    <a:off x="4447800" y="3753720"/>
                    <a:ext cx="1047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28"/>
                  <p:cNvSpPr/>
                  <p:nvPr/>
                </p:nvSpPr>
                <p:spPr>
                  <a:xfrm flipH="1">
                    <a:off x="4576320" y="3753720"/>
                    <a:ext cx="1047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29"/>
                  <p:cNvSpPr/>
                  <p:nvPr/>
                </p:nvSpPr>
                <p:spPr>
                  <a:xfrm flipH="1">
                    <a:off x="4786920" y="3753720"/>
                    <a:ext cx="1047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30"/>
                  <p:cNvSpPr/>
                  <p:nvPr/>
                </p:nvSpPr>
                <p:spPr>
                  <a:xfrm flipH="1">
                    <a:off x="4681800" y="3753720"/>
                    <a:ext cx="10512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" name="Oval 131"/>
                <p:cNvSpPr/>
                <p:nvPr/>
              </p:nvSpPr>
              <p:spPr>
                <a:xfrm rot="10800000">
                  <a:off x="4611240" y="3671280"/>
                  <a:ext cx="81720" cy="71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132"/>
                <p:cNvSpPr/>
                <p:nvPr/>
              </p:nvSpPr>
              <p:spPr>
                <a:xfrm rot="10800000">
                  <a:off x="4494600" y="3671280"/>
                  <a:ext cx="81720" cy="71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Line 133"/>
              <p:cNvSpPr/>
              <p:nvPr/>
            </p:nvSpPr>
            <p:spPr>
              <a:xfrm>
                <a:off x="3339720" y="3289320"/>
                <a:ext cx="1440" cy="749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34"/>
              <p:cNvSpPr/>
              <p:nvPr/>
            </p:nvSpPr>
            <p:spPr>
              <a:xfrm>
                <a:off x="2031840" y="3441960"/>
                <a:ext cx="13680" cy="342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35"/>
              <p:cNvSpPr/>
              <p:nvPr/>
            </p:nvSpPr>
            <p:spPr>
              <a:xfrm>
                <a:off x="1663560" y="3606840"/>
                <a:ext cx="380520" cy="520920"/>
              </a:xfrm>
              <a:custGeom>
                <a:avLst/>
                <a:gdLst>
                  <a:gd name="textAreaLeft" fmla="*/ 0 w 380520"/>
                  <a:gd name="textAreaRight" fmla="*/ 380880 w 380520"/>
                  <a:gd name="textAreaTop" fmla="*/ 0 h 520920"/>
                  <a:gd name="textAreaBottom" fmla="*/ 521280 h 520920"/>
                </a:gdLst>
                <a:ahLst/>
                <a:rect l="textAreaLeft" t="textAreaTop" r="textAreaRight" b="textAreaBottom"/>
                <a:pathLst>
                  <a:path w="240" h="328">
                    <a:moveTo>
                      <a:pt x="0" y="328"/>
                    </a:moveTo>
                    <a:cubicBezTo>
                      <a:pt x="20" y="319"/>
                      <a:pt x="101" y="313"/>
                      <a:pt x="120" y="272"/>
                    </a:cubicBezTo>
                    <a:cubicBezTo>
                      <a:pt x="139" y="231"/>
                      <a:pt x="92" y="125"/>
                      <a:pt x="112" y="80"/>
                    </a:cubicBezTo>
                    <a:cubicBezTo>
                      <a:pt x="132" y="35"/>
                      <a:pt x="213" y="17"/>
                      <a:pt x="240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7" name="Object 136"/>
                  <p:cNvSpPr txBox="1"/>
                  <p:nvPr/>
                </p:nvSpPr>
                <p:spPr>
                  <a:xfrm>
                    <a:off x="3392280" y="3170520"/>
                    <a:ext cx="209160" cy="237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Ρ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18" name="Text Box 138"/>
            <p:cNvSpPr/>
            <p:nvPr/>
          </p:nvSpPr>
          <p:spPr>
            <a:xfrm>
              <a:off x="1828440" y="45468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39"/>
            <p:cNvSpPr/>
            <p:nvPr/>
          </p:nvSpPr>
          <p:spPr>
            <a:xfrm>
              <a:off x="3124080" y="4521240"/>
              <a:ext cx="4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0" name="Object 142"/>
              <p:cNvSpPr txBox="1"/>
              <p:nvPr/>
            </p:nvSpPr>
            <p:spPr>
              <a:xfrm>
                <a:off x="5346720" y="1933560"/>
                <a:ext cx="22604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1" name="Text Box 148"/>
          <p:cNvSpPr/>
          <p:nvPr/>
        </p:nvSpPr>
        <p:spPr>
          <a:xfrm>
            <a:off x="596880" y="4978440"/>
            <a:ext cx="31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ti’s Reciprocal Theor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49"/>
              <p:cNvSpPr txBox="1"/>
              <p:nvPr/>
            </p:nvSpPr>
            <p:spPr>
              <a:xfrm>
                <a:off x="1177920" y="5551560"/>
                <a:ext cx="39164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nary>
                      <m:naryPr>
                        <m:chr m:val="∭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p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890280" y="318960"/>
            <a:ext cx="64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2 Reciprocity Theorem  (Maxwell’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4565520" y="29257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1211400" y="1004760"/>
                <a:ext cx="328932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linear system  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ork done by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5"/>
              <p:cNvSpPr txBox="1"/>
              <p:nvPr/>
            </p:nvSpPr>
            <p:spPr>
              <a:xfrm>
                <a:off x="1353960" y="1887480"/>
                <a:ext cx="153036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</m:e>
                        </m:nary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dx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6"/>
              <p:cNvSpPr txBox="1"/>
              <p:nvPr/>
            </p:nvSpPr>
            <p:spPr>
              <a:xfrm>
                <a:off x="3475080" y="1900080"/>
                <a:ext cx="1708200" cy="165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dF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Fd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1295280" y="3619440"/>
                <a:ext cx="5815080" cy="24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and 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j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and  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1" descr="C:\Documents and Settings\hjlee\바탕 화면\62_1.jpg"/>
          <p:cNvPicPr/>
          <p:nvPr/>
        </p:nvPicPr>
        <p:blipFill>
          <a:blip r:embed="rId1"/>
          <a:stretch/>
        </p:blipFill>
        <p:spPr>
          <a:xfrm>
            <a:off x="1046160" y="969840"/>
            <a:ext cx="708984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891000" y="318960"/>
            <a:ext cx="58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3 Stiffness Influence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C:\Documents and Settings\hjlee\바탕 화면\63_1.jp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804960" y="1057320"/>
            <a:ext cx="8066160" cy="1738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C:\Documents and Settings\hjlee\바탕 화면\63_1_x_1.jpg"/>
          <p:cNvPicPr/>
          <p:nvPr/>
        </p:nvPicPr>
        <p:blipFill>
          <a:blip r:embed="rId2"/>
          <a:stretch/>
        </p:blipFill>
        <p:spPr>
          <a:xfrm>
            <a:off x="1300320" y="3097080"/>
            <a:ext cx="7399080" cy="27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C:\Documents and Settings\hjlee\바탕 화면\63_1_x_2.jp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01480" y="1092240"/>
            <a:ext cx="75438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892080" y="31896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6 Othogonality of Eigen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893880" y="831960"/>
                <a:ext cx="5894280" cy="54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neralized EVP                     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sic EVP  </m:t>
                            </m:r>
                            <m:r>
                              <m:t xml:space="preserve">Α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</m:t>
                            </m:r>
                            <m:r>
                              <m:t xml:space="preserve">Κ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Μ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                                 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</m:e>
                        </m:eqArr>
                      </m:e>
                      <m: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r>
                      <m:t xml:space="preserve">Κ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acc>
                          <m:accPr>
                            <m:chr m:val="¯"/>
                          </m:accPr>
                          <m:e/>
                        </m:acc>
                        <m:r>
                          <m:t xml:space="preserve">φ</m:t>
                        </m:r>
                      </m:e>
                      <m:sup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r>
                      <m:t xml:space="preserve">Μ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          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ranspose of Eq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Κ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acc>
                          <m:accPr>
                            <m:chr m:val="¯"/>
                          </m:accPr>
                          <m:e/>
                        </m:acc>
                        <m:r>
                          <m:t xml:space="preserve">φ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acc>
                          <m:accPr>
                            <m:chr m:val="¯"/>
                          </m:accPr>
                          <m:e/>
                        </m:acc>
                        <m:r>
                          <m:t xml:space="preserve">φ</m:t>
                        </m:r>
                      </m:e>
                      <m: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acc>
                          <m:accPr>
                            <m:chr m:val="¯"/>
                          </m:accPr>
                          <m:e/>
                        </m:acc>
                        <m:r>
                          <m:t xml:space="preserve">φ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start with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  and  premultiply   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φ</m:t>
                        </m:r>
                      </m:e>
                    </m:acc>
                    <m:sSup>
                      <m:e/>
                      <m: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r>
                      <m:t xml:space="preserve">Κ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acc>
                          <m:accPr>
                            <m:chr m:val="¯"/>
                          </m:accPr>
                          <m:e/>
                        </m:acc>
                        <m:r>
                          <m:t xml:space="preserve">φ</m:t>
                        </m:r>
                      </m:e>
                      <m: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r>
                      <m:t xml:space="preserve">Μ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          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subtracting Eq 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from Eq 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*  ,  using 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and 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acc>
                      <m:accPr>
                        <m:chr m:val="¯"/>
                      </m:accPr>
                      <m:e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</m:e>
                    </m:acc>
                    <m:r>
                      <m:t xml:space="preserve">Μ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If 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r>
                      <m:t xml:space="preserve">Μ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r>
                          <m:t xml:space="preserve">j</m:t>
                        </m:r>
                      </m:sup>
                    </m:sSup>
                    <m:sSup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r>
                      <m:t xml:space="preserve">Κ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Orthonornal modes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</m:e>
                        </m:acc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</m:acc>
                                  </m:e>
                                  <m:sup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p>
                                </m:sSup>
                                <m:r>
                                  <m:t xml:space="preserve">Μ</m:t>
                                </m:r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acc>
                          <m:accPr>
                            <m:chr m:val="¯"/>
                          </m:acc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r>
                      <m:t xml:space="preserve">Μ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</m:e>
                        </m:acc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Thus     {</m:t>
                        </m:r>
                        <m:acc>
                          <m:accPr>
                            <m:chr m:val="¯"/>
                          </m:acc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r>
                      <m:t xml:space="preserve">Κ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</m:e>
                        </m:acc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89920" y="318960"/>
            <a:ext cx="60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1 Flexibility Influence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3"/>
              <p:cNvSpPr txBox="1"/>
              <p:nvPr/>
            </p:nvSpPr>
            <p:spPr>
              <a:xfrm>
                <a:off x="4896000" y="33195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7"/>
              <p:cNvSpPr txBox="1"/>
              <p:nvPr/>
            </p:nvSpPr>
            <p:spPr>
              <a:xfrm>
                <a:off x="1273320" y="2440080"/>
                <a:ext cx="3848040" cy="38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1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p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)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p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)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  <m:sup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)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8"/>
              <p:cNvSpPr txBox="1"/>
              <p:nvPr/>
            </p:nvSpPr>
            <p:spPr>
              <a:xfrm>
                <a:off x="1474920" y="1028880"/>
                <a:ext cx="443376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exibilit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influence coefficient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disp at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due to a unit force at 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888480" y="318960"/>
            <a:ext cx="3501000" cy="520560"/>
            <a:chOff x="888480" y="318960"/>
            <a:chExt cx="3501000" cy="520560"/>
          </a:xfrm>
        </p:grpSpPr>
        <p:sp>
          <p:nvSpPr>
            <p:cNvPr id="237" name="Text Box 3"/>
            <p:cNvSpPr/>
            <p:nvPr/>
          </p:nvSpPr>
          <p:spPr>
            <a:xfrm>
              <a:off x="888480" y="318960"/>
              <a:ext cx="30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.7 Modal Matrix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" name="Object 4"/>
                <p:cNvSpPr txBox="1"/>
                <p:nvPr/>
              </p:nvSpPr>
              <p:spPr>
                <a:xfrm>
                  <a:off x="3895560" y="382680"/>
                  <a:ext cx="49392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9" name="Object 5"/>
              <p:cNvSpPr txBox="1"/>
              <p:nvPr/>
            </p:nvSpPr>
            <p:spPr>
              <a:xfrm>
                <a:off x="966960" y="946080"/>
                <a:ext cx="6387840" cy="445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e>
                                <m:e>
                                  <m:s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MΦ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p>
                                      <m:sSup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Mφ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p>
                                      <m:sSup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Mφ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KΦ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p>
                                      <m:sSup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Kφ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p>
                                      <m:sSup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p>
                                          <m:r>
                                            <m:t xml:space="preserve">T</m:t>
                                          </m:r>
                                        </m:sup>
                                      </m:sSup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Kφ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0" name="Text Box 6"/>
          <p:cNvSpPr/>
          <p:nvPr/>
        </p:nvSpPr>
        <p:spPr>
          <a:xfrm>
            <a:off x="6489720" y="2543040"/>
            <a:ext cx="18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rthonorm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431120" y="4245120"/>
            <a:ext cx="18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orthog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894240" y="318960"/>
            <a:ext cx="75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8 Decoupling Forced Vibration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1227240" y="1341360"/>
                <a:ext cx="3510000" cy="23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¯"/>
                          </m:accPr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r>
                          <m:t xml:space="preserve">K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t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Φ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  <m:r>
                      <m:t xml:space="preserve">MΦ</m:t>
                    </m:r>
                    <m:acc>
                      <m:accPr>
                        <m:chr m:val="¯"/>
                      </m:acc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acc>
                    <m:r>
                      <m:t xml:space="preserve">+</m:t>
                    </m:r>
                    <m:r>
                      <m:t xml:space="preserve">KΦ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MΦ</m:t>
                        </m:r>
                      </m:e>
                    </m:d>
                    <m:acc>
                      <m:accPr>
                        <m:chr m:val="¯"/>
                      </m:acc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KΦ</m:t>
                        </m:r>
                      </m:e>
                    </m:d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sSub>
                      <m:e>
                        <m:acc>
                          <m:accPr>
                            <m:chr m:val="¯"/>
                          </m:accPr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890640" y="318960"/>
            <a:ext cx="34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9 Modal Da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0"/>
          <p:cNvGraphicFramePr/>
          <p:nvPr/>
        </p:nvGraphicFramePr>
        <p:xfrm>
          <a:off x="414360" y="882720"/>
          <a:ext cx="5478480" cy="22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882720"/>
                    <a:ext cx="547848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7" name="Object 1"/>
              <p:cNvSpPr txBox="1"/>
              <p:nvPr/>
            </p:nvSpPr>
            <p:spPr>
              <a:xfrm>
                <a:off x="824040" y="3633840"/>
                <a:ext cx="518004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αM</m:t>
                            </m:r>
                            <m:r>
                              <m:t xml:space="preserve">+</m:t>
                            </m:r>
                            <m:r>
                              <m:t xml:space="preserve">βK</m:t>
                            </m:r>
                          </m:e>
                          <m:e>
                            <m:sSup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αI</m:t>
                            </m:r>
                            <m:r>
                              <m:t xml:space="preserve">+</m:t>
                            </m:r>
                            <m:r>
                              <m:t xml:space="preserve">β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   thus with  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,    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becomes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{</m:t>
                            </m:r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β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d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∴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βω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8" name="Text Box 5"/>
          <p:cNvSpPr/>
          <p:nvPr/>
        </p:nvSpPr>
        <p:spPr>
          <a:xfrm>
            <a:off x="330120" y="3292560"/>
            <a:ext cx="27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yleigh 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933480" y="5351400"/>
                <a:ext cx="68724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,</m:t>
                        </m:r>
                      </m:e>
                    </m:eqAr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sSup>
                          <m:e/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acc>
                      <m:accPr>
                        <m:chr m:val="¯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sSup>
                          <m:e/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where 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is   modal participation factocr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890280" y="318960"/>
            <a:ext cx="30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11 Equal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0"/>
              <p:cNvSpPr txBox="1"/>
              <p:nvPr/>
            </p:nvSpPr>
            <p:spPr>
              <a:xfrm>
                <a:off x="1576440" y="1357200"/>
                <a:ext cx="4780080" cy="380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eqArr>
                          <m:e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9</m:t>
                                      </m:r>
                                    </m:e>
                                    <m:e>
                                      <m:r>
                                        <m:t xml:space="preserve">6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  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λI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λ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→</m:t>
                            </m:r>
                            <m:r>
                              <m:t xml:space="preserve">λ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Α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-3I</m:t>
                                </m:r>
                              </m:e>
                            </m:d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-3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9</m:t>
                                      </m:r>
                                    </m:e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Α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3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  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Α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Α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-   </m:t>
                    </m:r>
                    <m:r>
                      <m:t xml:space="preserve">①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Α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-   </m:t>
                    </m:r>
                    <m:r>
                      <m:t xml:space="preserve">②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Α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-   </m:t>
                    </m:r>
                    <m:r>
                      <m:t xml:space="preserve">③</m:t>
                    </m:r>
                    <m:r>
                      <m:t xml:space="preserve">①</m:t>
                    </m:r>
                    <m:r>
                      <m:t xml:space="preserve">+</m:t>
                    </m:r>
                    <m:r>
                      <m:t xml:space="preserve">②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Α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  Let   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φ</m:t>
                        </m:r>
                      </m:e>
                    </m:acc>
                    <m:sSup>
                      <m:e/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the   </m:t>
                    </m:r>
                    <m:r>
                      <m:t xml:space="preserve">Α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Object 4"/>
              <p:cNvSpPr txBox="1"/>
              <p:nvPr/>
            </p:nvSpPr>
            <p:spPr>
              <a:xfrm>
                <a:off x="1192320" y="2411280"/>
                <a:ext cx="52038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Group 71"/>
          <p:cNvGrpSpPr/>
          <p:nvPr/>
        </p:nvGrpSpPr>
        <p:grpSpPr>
          <a:xfrm>
            <a:off x="1253880" y="884160"/>
            <a:ext cx="4346640" cy="1469880"/>
            <a:chOff x="1253880" y="884160"/>
            <a:chExt cx="4346640" cy="1469880"/>
          </a:xfrm>
        </p:grpSpPr>
        <p:sp>
          <p:nvSpPr>
            <p:cNvPr id="49" name="Line 8"/>
            <p:cNvSpPr/>
            <p:nvPr/>
          </p:nvSpPr>
          <p:spPr>
            <a:xfrm>
              <a:off x="1404360" y="962280"/>
              <a:ext cx="1800" cy="700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13"/>
            <p:cNvGrpSpPr/>
            <p:nvPr/>
          </p:nvGrpSpPr>
          <p:grpSpPr>
            <a:xfrm>
              <a:off x="1404360" y="1204560"/>
              <a:ext cx="1134360" cy="174960"/>
              <a:chOff x="1404360" y="1204560"/>
              <a:chExt cx="1134360" cy="174960"/>
            </a:xfrm>
          </p:grpSpPr>
          <p:sp>
            <p:nvSpPr>
              <p:cNvPr id="51" name="Line 14"/>
              <p:cNvSpPr/>
              <p:nvPr/>
            </p:nvSpPr>
            <p:spPr>
              <a:xfrm>
                <a:off x="1404360" y="1292040"/>
                <a:ext cx="34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15"/>
              <p:cNvSpPr/>
              <p:nvPr/>
            </p:nvSpPr>
            <p:spPr>
              <a:xfrm flipV="1">
                <a:off x="1753560" y="1204560"/>
                <a:ext cx="8712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6"/>
              <p:cNvSpPr/>
              <p:nvPr/>
            </p:nvSpPr>
            <p:spPr>
              <a:xfrm>
                <a:off x="1840680" y="1204560"/>
                <a:ext cx="86760" cy="17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7"/>
              <p:cNvSpPr/>
              <p:nvPr/>
            </p:nvSpPr>
            <p:spPr>
              <a:xfrm flipV="1">
                <a:off x="1927800" y="1204560"/>
                <a:ext cx="87120" cy="17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8"/>
              <p:cNvSpPr/>
              <p:nvPr/>
            </p:nvSpPr>
            <p:spPr>
              <a:xfrm>
                <a:off x="2015280" y="1204560"/>
                <a:ext cx="87120" cy="17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9"/>
              <p:cNvSpPr/>
              <p:nvPr/>
            </p:nvSpPr>
            <p:spPr>
              <a:xfrm flipV="1">
                <a:off x="2102760" y="1292040"/>
                <a:ext cx="8676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20"/>
              <p:cNvSpPr/>
              <p:nvPr/>
            </p:nvSpPr>
            <p:spPr>
              <a:xfrm>
                <a:off x="2189520" y="1292040"/>
                <a:ext cx="34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51"/>
            <p:cNvGrpSpPr/>
            <p:nvPr/>
          </p:nvGrpSpPr>
          <p:grpSpPr>
            <a:xfrm>
              <a:off x="2502360" y="1093680"/>
              <a:ext cx="803160" cy="404640"/>
              <a:chOff x="2502360" y="1093680"/>
              <a:chExt cx="803160" cy="404640"/>
            </a:xfrm>
          </p:grpSpPr>
          <p:sp>
            <p:nvSpPr>
              <p:cNvPr id="59" name="Rectangle 22"/>
              <p:cNvSpPr/>
              <p:nvPr/>
            </p:nvSpPr>
            <p:spPr>
              <a:xfrm>
                <a:off x="2502360" y="1093680"/>
                <a:ext cx="803160" cy="40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" name="Object 23"/>
                  <p:cNvSpPr txBox="1"/>
                  <p:nvPr/>
                </p:nvSpPr>
                <p:spPr>
                  <a:xfrm>
                    <a:off x="2726280" y="1138680"/>
                    <a:ext cx="462240" cy="30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1" name="Object 25"/>
                <p:cNvSpPr txBox="1"/>
                <p:nvPr/>
              </p:nvSpPr>
              <p:spPr>
                <a:xfrm>
                  <a:off x="1755720" y="884160"/>
                  <a:ext cx="37800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62" name="Group 36"/>
            <p:cNvGrpSpPr/>
            <p:nvPr/>
          </p:nvGrpSpPr>
          <p:grpSpPr>
            <a:xfrm>
              <a:off x="1253880" y="1005840"/>
              <a:ext cx="146520" cy="564840"/>
              <a:chOff x="1253880" y="1005840"/>
              <a:chExt cx="146520" cy="564840"/>
            </a:xfrm>
          </p:grpSpPr>
          <p:grpSp>
            <p:nvGrpSpPr>
              <p:cNvPr id="63" name="Group 37"/>
              <p:cNvGrpSpPr/>
              <p:nvPr/>
            </p:nvGrpSpPr>
            <p:grpSpPr>
              <a:xfrm>
                <a:off x="1253880" y="1005840"/>
                <a:ext cx="140040" cy="259920"/>
                <a:chOff x="1253880" y="1005840"/>
                <a:chExt cx="140040" cy="259920"/>
              </a:xfrm>
            </p:grpSpPr>
            <p:sp>
              <p:nvSpPr>
                <p:cNvPr id="64" name="Line 38"/>
                <p:cNvSpPr/>
                <p:nvPr/>
              </p:nvSpPr>
              <p:spPr>
                <a:xfrm flipH="1" flipV="1">
                  <a:off x="1261080" y="1005840"/>
                  <a:ext cx="132840" cy="6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Line 39"/>
                <p:cNvSpPr/>
                <p:nvPr/>
              </p:nvSpPr>
              <p:spPr>
                <a:xfrm flipH="1" flipV="1">
                  <a:off x="1257480" y="1114200"/>
                  <a:ext cx="132840" cy="6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Line 40"/>
                <p:cNvSpPr/>
                <p:nvPr/>
              </p:nvSpPr>
              <p:spPr>
                <a:xfrm flipH="1" flipV="1">
                  <a:off x="1253880" y="1202040"/>
                  <a:ext cx="132840" cy="6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41"/>
              <p:cNvGrpSpPr/>
              <p:nvPr/>
            </p:nvGrpSpPr>
            <p:grpSpPr>
              <a:xfrm>
                <a:off x="1260360" y="1310760"/>
                <a:ext cx="140040" cy="259920"/>
                <a:chOff x="1260360" y="1310760"/>
                <a:chExt cx="140040" cy="259920"/>
              </a:xfrm>
            </p:grpSpPr>
            <p:sp>
              <p:nvSpPr>
                <p:cNvPr id="68" name="Line 42"/>
                <p:cNvSpPr/>
                <p:nvPr/>
              </p:nvSpPr>
              <p:spPr>
                <a:xfrm flipH="1" flipV="1">
                  <a:off x="1267560" y="1310760"/>
                  <a:ext cx="132840" cy="6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43"/>
                <p:cNvSpPr/>
                <p:nvPr/>
              </p:nvSpPr>
              <p:spPr>
                <a:xfrm flipH="1" flipV="1">
                  <a:off x="1264320" y="1419120"/>
                  <a:ext cx="132480" cy="6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44"/>
                <p:cNvSpPr/>
                <p:nvPr/>
              </p:nvSpPr>
              <p:spPr>
                <a:xfrm flipH="1" flipV="1">
                  <a:off x="1260360" y="1506960"/>
                  <a:ext cx="132840" cy="6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" name="Group 52"/>
            <p:cNvGrpSpPr/>
            <p:nvPr/>
          </p:nvGrpSpPr>
          <p:grpSpPr>
            <a:xfrm>
              <a:off x="4440960" y="1106280"/>
              <a:ext cx="803160" cy="404640"/>
              <a:chOff x="4440960" y="1106280"/>
              <a:chExt cx="803160" cy="404640"/>
            </a:xfrm>
          </p:grpSpPr>
          <p:sp>
            <p:nvSpPr>
              <p:cNvPr id="72" name="Rectangle 49"/>
              <p:cNvSpPr/>
              <p:nvPr/>
            </p:nvSpPr>
            <p:spPr>
              <a:xfrm>
                <a:off x="4440960" y="1106280"/>
                <a:ext cx="803160" cy="40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" name="Object 50"/>
                  <p:cNvSpPr txBox="1"/>
                  <p:nvPr/>
                </p:nvSpPr>
                <p:spPr>
                  <a:xfrm>
                    <a:off x="4650480" y="1151280"/>
                    <a:ext cx="492480" cy="30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4" name="Group 53"/>
            <p:cNvGrpSpPr/>
            <p:nvPr/>
          </p:nvGrpSpPr>
          <p:grpSpPr>
            <a:xfrm>
              <a:off x="3297600" y="1217160"/>
              <a:ext cx="1134360" cy="174960"/>
              <a:chOff x="3297600" y="1217160"/>
              <a:chExt cx="1134360" cy="174960"/>
            </a:xfrm>
          </p:grpSpPr>
          <p:sp>
            <p:nvSpPr>
              <p:cNvPr id="75" name="Line 54"/>
              <p:cNvSpPr/>
              <p:nvPr/>
            </p:nvSpPr>
            <p:spPr>
              <a:xfrm>
                <a:off x="3297600" y="1304640"/>
                <a:ext cx="34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55"/>
              <p:cNvSpPr/>
              <p:nvPr/>
            </p:nvSpPr>
            <p:spPr>
              <a:xfrm flipV="1">
                <a:off x="3646800" y="1217160"/>
                <a:ext cx="8712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56"/>
              <p:cNvSpPr/>
              <p:nvPr/>
            </p:nvSpPr>
            <p:spPr>
              <a:xfrm>
                <a:off x="3733920" y="1217160"/>
                <a:ext cx="86760" cy="17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57"/>
              <p:cNvSpPr/>
              <p:nvPr/>
            </p:nvSpPr>
            <p:spPr>
              <a:xfrm flipV="1">
                <a:off x="3821040" y="1217160"/>
                <a:ext cx="87120" cy="17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58"/>
              <p:cNvSpPr/>
              <p:nvPr/>
            </p:nvSpPr>
            <p:spPr>
              <a:xfrm>
                <a:off x="3908520" y="1217160"/>
                <a:ext cx="87120" cy="17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59"/>
              <p:cNvSpPr/>
              <p:nvPr/>
            </p:nvSpPr>
            <p:spPr>
              <a:xfrm flipV="1">
                <a:off x="3996000" y="1304640"/>
                <a:ext cx="8676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60"/>
              <p:cNvSpPr/>
              <p:nvPr/>
            </p:nvSpPr>
            <p:spPr>
              <a:xfrm>
                <a:off x="4082760" y="1304640"/>
                <a:ext cx="34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2" name="Object 61"/>
                <p:cNvSpPr txBox="1"/>
                <p:nvPr/>
              </p:nvSpPr>
              <p:spPr>
                <a:xfrm>
                  <a:off x="3669840" y="902880"/>
                  <a:ext cx="40932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Object 62"/>
                <p:cNvSpPr txBox="1"/>
                <p:nvPr/>
              </p:nvSpPr>
              <p:spPr>
                <a:xfrm>
                  <a:off x="2993400" y="1739520"/>
                  <a:ext cx="378360" cy="30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Object 63"/>
                <p:cNvSpPr txBox="1"/>
                <p:nvPr/>
              </p:nvSpPr>
              <p:spPr>
                <a:xfrm>
                  <a:off x="4907880" y="1758600"/>
                  <a:ext cx="408600" cy="30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" name="Freeform 65"/>
            <p:cNvSpPr/>
            <p:nvPr/>
          </p:nvSpPr>
          <p:spPr>
            <a:xfrm>
              <a:off x="2781720" y="1494000"/>
              <a:ext cx="370080" cy="26712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67120"/>
                <a:gd name="textAreaBottom" fmla="*/ 267120 h 267120"/>
              </a:gdLst>
              <a:ahLst/>
              <a:rect l="textAreaLeft" t="textAreaTop" r="textAreaRight" b="textAreaBottom"/>
              <a:pathLst>
                <a:path w="149" h="170">
                  <a:moveTo>
                    <a:pt x="0" y="0"/>
                  </a:moveTo>
                  <a:lnTo>
                    <a:pt x="0" y="170"/>
                  </a:lnTo>
                  <a:lnTo>
                    <a:pt x="149" y="17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6"/>
            <p:cNvSpPr/>
            <p:nvPr/>
          </p:nvSpPr>
          <p:spPr>
            <a:xfrm>
              <a:off x="4698000" y="1515960"/>
              <a:ext cx="370080" cy="26712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67120"/>
                <a:gd name="textAreaBottom" fmla="*/ 267120 h 267120"/>
              </a:gdLst>
              <a:ahLst/>
              <a:rect l="textAreaLeft" t="textAreaTop" r="textAreaRight" b="textAreaBottom"/>
              <a:pathLst>
                <a:path w="149" h="170">
                  <a:moveTo>
                    <a:pt x="0" y="0"/>
                  </a:moveTo>
                  <a:lnTo>
                    <a:pt x="0" y="170"/>
                  </a:lnTo>
                  <a:lnTo>
                    <a:pt x="149" y="17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Object 67"/>
                <p:cNvSpPr txBox="1"/>
                <p:nvPr/>
              </p:nvSpPr>
              <p:spPr>
                <a:xfrm>
                  <a:off x="2499840" y="2044440"/>
                  <a:ext cx="95976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Object 69"/>
                <p:cNvSpPr txBox="1"/>
                <p:nvPr/>
              </p:nvSpPr>
              <p:spPr>
                <a:xfrm>
                  <a:off x="4560480" y="2039760"/>
                  <a:ext cx="1040040" cy="30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" name="Text Box 72"/>
          <p:cNvSpPr/>
          <p:nvPr/>
        </p:nvSpPr>
        <p:spPr>
          <a:xfrm>
            <a:off x="1057320" y="3330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t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73"/>
              <p:cNvSpPr txBox="1"/>
              <p:nvPr/>
            </p:nvSpPr>
            <p:spPr>
              <a:xfrm>
                <a:off x="1690560" y="3763800"/>
                <a:ext cx="3000600" cy="258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1704960" y="938160"/>
                <a:ext cx="26020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5"/>
              <p:cNvSpPr txBox="1"/>
              <p:nvPr/>
            </p:nvSpPr>
            <p:spPr>
              <a:xfrm>
                <a:off x="1954080" y="3792600"/>
                <a:ext cx="5227920" cy="27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Κ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46"/>
              <p:cNvSpPr txBox="1"/>
              <p:nvPr/>
            </p:nvSpPr>
            <p:spPr>
              <a:xfrm>
                <a:off x="2409840" y="1739880"/>
                <a:ext cx="39132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ciprocal theorem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Documents and Settings\hjlee\바탕 화면\61_1_1.jpg"/>
          <p:cNvPicPr/>
          <p:nvPr/>
        </p:nvPicPr>
        <p:blipFill>
          <a:blip r:embed="rId1"/>
          <a:stretch/>
        </p:blipFill>
        <p:spPr>
          <a:xfrm>
            <a:off x="785880" y="1143000"/>
            <a:ext cx="7418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28" descr="C:\Documents and Settings\hjlee\바탕 화면\61_1_2.jpg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081080" y="366840"/>
            <a:ext cx="7130880" cy="3314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29" descr="C:\Documents and Settings\hjlee\바탕 화면\61_1_x.jp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1663560" y="3843360"/>
            <a:ext cx="634536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C:\Documents and Settings\hjlee\바탕 화면\61_1_h.jpg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095480" y="993600"/>
            <a:ext cx="6711840" cy="52722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2387520" y="6400800"/>
            <a:ext cx="32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uilibrium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C:\Documents and Settings\hjlee\바탕 화면\61_2.jp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57280" y="1158840"/>
            <a:ext cx="78436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hjlee\바탕 화면\61_3.jp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47560" y="1049400"/>
            <a:ext cx="816948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30T13:46:56Z</dcterms:created>
  <dc:creator>문희곤</dc:creator>
  <dc:description/>
  <dc:language>en-US</dc:language>
  <cp:lastModifiedBy>user</cp:lastModifiedBy>
  <cp:lastPrinted>1999-12-06T14:49:12Z</cp:lastPrinted>
  <dcterms:modified xsi:type="dcterms:W3CDTF">2014-10-15T01:05:26Z</dcterms:modified>
  <cp:revision>268</cp:revision>
  <dc:subject/>
  <dc:title>슬라이드 제목 없음</dc:title>
</cp:coreProperties>
</file>