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11963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cf5"/>
            </a:gs>
            <a:gs pos="50000">
              <a:srgbClr val="ffffff"/>
            </a:gs>
            <a:gs pos="100000">
              <a:srgbClr val="c3dc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847800" y="865080"/>
            <a:ext cx="8250120" cy="63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F:\교수님\GIST_UI\영문_sky.jpg"/>
          <p:cNvPicPr/>
          <p:nvPr/>
        </p:nvPicPr>
        <p:blipFill>
          <a:blip r:embed="rId3"/>
          <a:stretch/>
        </p:blipFill>
        <p:spPr>
          <a:xfrm>
            <a:off x="546120" y="6343560"/>
            <a:ext cx="1908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8"/>
          <p:cNvSpPr/>
          <p:nvPr/>
        </p:nvSpPr>
        <p:spPr>
          <a:xfrm>
            <a:off x="5346720" y="6362640"/>
            <a:ext cx="295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i="1" lang="en-US" sz="1400" spc="-1" strike="noStrike">
                <a:solidFill>
                  <a:srgbClr val="3333cc"/>
                </a:solidFill>
                <a:latin typeface="Arial Black"/>
                <a:ea typeface="돋움"/>
              </a:rPr>
              <a:t>Intelligent System Design La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9" descr="D:\MYDOC\paper_writing\ppt\lablogo20.jpe"/>
          <p:cNvPicPr/>
          <p:nvPr/>
        </p:nvPicPr>
        <p:blipFill>
          <a:blip r:embed="rId4"/>
          <a:stretch/>
        </p:blipFill>
        <p:spPr>
          <a:xfrm>
            <a:off x="8300880" y="6329520"/>
            <a:ext cx="771840" cy="44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yundai-motor.com/cybermall/showroom/passenger/new_xg/index.html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200" y="186840"/>
            <a:ext cx="83822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 1    Oscillatory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47"/>
          <p:cNvSpPr/>
          <p:nvPr/>
        </p:nvSpPr>
        <p:spPr>
          <a:xfrm>
            <a:off x="812880" y="1219320"/>
            <a:ext cx="6899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at is vib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Physics point of view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athematical point of view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48"/>
              <p:cNvSpPr txBox="1"/>
              <p:nvPr/>
            </p:nvSpPr>
            <p:spPr>
              <a:xfrm>
                <a:off x="1190520" y="3189240"/>
                <a:ext cx="762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o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de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fferenti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qu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Text Box 49"/>
          <p:cNvSpPr/>
          <p:nvPr/>
        </p:nvSpPr>
        <p:spPr>
          <a:xfrm>
            <a:off x="932040" y="3843360"/>
            <a:ext cx="720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al Soln = Homogeneous Soln + Particular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1"/>
          <p:cNvSpPr/>
          <p:nvPr/>
        </p:nvSpPr>
        <p:spPr>
          <a:xfrm>
            <a:off x="1203480" y="4564080"/>
            <a:ext cx="325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ector – mode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value -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3"/>
          <p:cNvSpPr/>
          <p:nvPr/>
        </p:nvSpPr>
        <p:spPr>
          <a:xfrm>
            <a:off x="1203480" y="2124000"/>
            <a:ext cx="36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rticle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5"/>
          <p:cNvGrpSpPr/>
          <p:nvPr/>
        </p:nvGrpSpPr>
        <p:grpSpPr>
          <a:xfrm>
            <a:off x="1117440" y="1384200"/>
            <a:ext cx="2651040" cy="939960"/>
            <a:chOff x="1117440" y="1384200"/>
            <a:chExt cx="2651040" cy="939960"/>
          </a:xfrm>
        </p:grpSpPr>
        <p:sp>
          <p:nvSpPr>
            <p:cNvPr id="47" name="Rectangle 2"/>
            <p:cNvSpPr/>
            <p:nvPr/>
          </p:nvSpPr>
          <p:spPr>
            <a:xfrm>
              <a:off x="1117440" y="1384200"/>
              <a:ext cx="279360" cy="939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3"/>
            <p:cNvSpPr/>
            <p:nvPr/>
          </p:nvSpPr>
          <p:spPr>
            <a:xfrm>
              <a:off x="1390320" y="1384200"/>
              <a:ext cx="0" cy="9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1396800" y="1741680"/>
              <a:ext cx="2371680" cy="253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1117440" y="2662200"/>
            <a:ext cx="2781360" cy="939960"/>
            <a:chOff x="1117440" y="2662200"/>
            <a:chExt cx="2781360" cy="939960"/>
          </a:xfrm>
        </p:grpSpPr>
        <p:sp>
          <p:nvSpPr>
            <p:cNvPr id="51" name="Rectangle 7"/>
            <p:cNvSpPr/>
            <p:nvPr/>
          </p:nvSpPr>
          <p:spPr>
            <a:xfrm>
              <a:off x="1117440" y="2662200"/>
              <a:ext cx="279360" cy="93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1390680" y="26622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1396800" y="3019320"/>
              <a:ext cx="2372040" cy="2541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8"/>
            <p:cNvSpPr/>
            <p:nvPr/>
          </p:nvSpPr>
          <p:spPr>
            <a:xfrm>
              <a:off x="3611520" y="3276720"/>
              <a:ext cx="287280" cy="220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30"/>
          <p:cNvGrpSpPr/>
          <p:nvPr/>
        </p:nvGrpSpPr>
        <p:grpSpPr>
          <a:xfrm>
            <a:off x="1135080" y="3881520"/>
            <a:ext cx="2921040" cy="947160"/>
            <a:chOff x="1135080" y="3881520"/>
            <a:chExt cx="2921040" cy="947160"/>
          </a:xfrm>
        </p:grpSpPr>
        <p:sp>
          <p:nvSpPr>
            <p:cNvPr id="56" name="Rectangle 11"/>
            <p:cNvSpPr/>
            <p:nvPr/>
          </p:nvSpPr>
          <p:spPr>
            <a:xfrm>
              <a:off x="1135080" y="3882600"/>
              <a:ext cx="279360" cy="939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408320" y="3882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1414440" y="4240080"/>
              <a:ext cx="2371680" cy="253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3776760" y="3881520"/>
              <a:ext cx="279360" cy="939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>
              <a:off x="3778200" y="389052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9"/>
          <p:cNvGrpSpPr/>
          <p:nvPr/>
        </p:nvGrpSpPr>
        <p:grpSpPr>
          <a:xfrm>
            <a:off x="1274760" y="5322960"/>
            <a:ext cx="2635200" cy="477360"/>
            <a:chOff x="1274760" y="5322960"/>
            <a:chExt cx="2635200" cy="477360"/>
          </a:xfrm>
        </p:grpSpPr>
        <p:sp>
          <p:nvSpPr>
            <p:cNvPr id="62" name="Rectangle 26"/>
            <p:cNvSpPr/>
            <p:nvPr/>
          </p:nvSpPr>
          <p:spPr>
            <a:xfrm>
              <a:off x="1408320" y="5322960"/>
              <a:ext cx="2371680" cy="253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>
              <a:off x="3622680" y="5580000"/>
              <a:ext cx="287280" cy="220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8"/>
            <p:cNvSpPr/>
            <p:nvPr/>
          </p:nvSpPr>
          <p:spPr>
            <a:xfrm>
              <a:off x="1274760" y="5578200"/>
              <a:ext cx="287280" cy="220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" name="Object 37"/>
              <p:cNvSpPr txBox="1"/>
              <p:nvPr/>
            </p:nvSpPr>
            <p:spPr>
              <a:xfrm>
                <a:off x="1981080" y="1057320"/>
                <a:ext cx="906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Text Box 42"/>
          <p:cNvSpPr/>
          <p:nvPr/>
        </p:nvSpPr>
        <p:spPr>
          <a:xfrm>
            <a:off x="1801800" y="28584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Frequency of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3"/>
              <p:cNvSpPr txBox="1"/>
              <p:nvPr/>
            </p:nvSpPr>
            <p:spPr>
              <a:xfrm>
                <a:off x="5740560" y="1452600"/>
                <a:ext cx="1699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ℓ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4"/>
              <p:cNvSpPr txBox="1"/>
              <p:nvPr/>
            </p:nvSpPr>
            <p:spPr>
              <a:xfrm>
                <a:off x="5745240" y="2670120"/>
                <a:ext cx="1809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ℓ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5"/>
              <p:cNvSpPr txBox="1"/>
              <p:nvPr/>
            </p:nvSpPr>
            <p:spPr>
              <a:xfrm>
                <a:off x="5818320" y="3894120"/>
                <a:ext cx="1852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ℓ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6"/>
              <p:cNvSpPr txBox="1"/>
              <p:nvPr/>
            </p:nvSpPr>
            <p:spPr>
              <a:xfrm>
                <a:off x="5945040" y="5102280"/>
                <a:ext cx="1548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ℓ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http://www.hyundai-motor.com/images/main_1/tuscani_img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92600" y="1542960"/>
            <a:ext cx="4989600" cy="1701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http://www.hyundai-motor.com/images/cybermall/showroom/passenger/atoz/line/color_exp03.jpg"/>
          <p:cNvPicPr/>
          <p:nvPr/>
        </p:nvPicPr>
        <p:blipFill>
          <a:blip r:embed="rId3"/>
          <a:stretch/>
        </p:blipFill>
        <p:spPr>
          <a:xfrm>
            <a:off x="828720" y="4276800"/>
            <a:ext cx="3008160" cy="1805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ttp://www.hyundai-motor.com/images/cybermall/showroom/rv/trajet/line/lineup_exp02.jpg"/>
          <p:cNvPicPr/>
          <p:nvPr/>
        </p:nvPicPr>
        <p:blipFill>
          <a:blip r:embed="rId4"/>
          <a:stretch/>
        </p:blipFill>
        <p:spPr>
          <a:xfrm>
            <a:off x="549360" y="1155600"/>
            <a:ext cx="4564080" cy="2739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1"/>
          <p:cNvGrpSpPr/>
          <p:nvPr/>
        </p:nvGrpSpPr>
        <p:grpSpPr>
          <a:xfrm>
            <a:off x="5087880" y="3440160"/>
            <a:ext cx="3632400" cy="2484360"/>
            <a:chOff x="5087880" y="3440160"/>
            <a:chExt cx="3632400" cy="2484360"/>
          </a:xfrm>
        </p:grpSpPr>
        <p:sp>
          <p:nvSpPr>
            <p:cNvPr id="75" name="Line 18"/>
            <p:cNvSpPr/>
            <p:nvPr/>
          </p:nvSpPr>
          <p:spPr>
            <a:xfrm>
              <a:off x="5513400" y="3440160"/>
              <a:ext cx="0" cy="24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087880" y="4678200"/>
              <a:ext cx="36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4"/>
            <p:cNvSpPr/>
            <p:nvPr/>
          </p:nvSpPr>
          <p:spPr>
            <a:xfrm>
              <a:off x="5511960" y="3801960"/>
              <a:ext cx="3106440" cy="1571760"/>
            </a:xfrm>
            <a:custGeom>
              <a:avLst/>
              <a:gdLst>
                <a:gd name="textAreaLeft" fmla="*/ 0 w 3106440"/>
                <a:gd name="textAreaRight" fmla="*/ 3106800 w 3106440"/>
                <a:gd name="textAreaTop" fmla="*/ 0 h 1571760"/>
                <a:gd name="textAreaBottom" fmla="*/ 1572120 h 1571760"/>
              </a:gdLst>
              <a:ahLst/>
              <a:rect l="textAreaLeft" t="textAreaTop" r="textAreaRight" b="textAreaBottom"/>
              <a:pathLst>
                <a:path w="1957" h="990">
                  <a:moveTo>
                    <a:pt x="0" y="556"/>
                  </a:moveTo>
                  <a:cubicBezTo>
                    <a:pt x="98" y="278"/>
                    <a:pt x="197" y="0"/>
                    <a:pt x="299" y="72"/>
                  </a:cubicBezTo>
                  <a:cubicBezTo>
                    <a:pt x="401" y="144"/>
                    <a:pt x="506" y="990"/>
                    <a:pt x="614" y="990"/>
                  </a:cubicBezTo>
                  <a:cubicBezTo>
                    <a:pt x="722" y="990"/>
                    <a:pt x="830" y="73"/>
                    <a:pt x="946" y="72"/>
                  </a:cubicBezTo>
                  <a:cubicBezTo>
                    <a:pt x="1062" y="71"/>
                    <a:pt x="1195" y="983"/>
                    <a:pt x="1310" y="985"/>
                  </a:cubicBezTo>
                  <a:cubicBezTo>
                    <a:pt x="1425" y="987"/>
                    <a:pt x="1528" y="89"/>
                    <a:pt x="1636" y="83"/>
                  </a:cubicBezTo>
                  <a:cubicBezTo>
                    <a:pt x="1744" y="77"/>
                    <a:pt x="1890" y="771"/>
                    <a:pt x="1957" y="952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5511960" y="3506760"/>
              <a:ext cx="3028680" cy="2120760"/>
            </a:xfrm>
            <a:custGeom>
              <a:avLst/>
              <a:gdLst>
                <a:gd name="textAreaLeft" fmla="*/ 0 w 3028680"/>
                <a:gd name="textAreaRight" fmla="*/ 3029040 w 3028680"/>
                <a:gd name="textAreaTop" fmla="*/ 0 h 2120760"/>
                <a:gd name="textAreaBottom" fmla="*/ 2121120 h 2120760"/>
              </a:gdLst>
              <a:ahLst/>
              <a:rect l="textAreaLeft" t="textAreaTop" r="textAreaRight" b="textAreaBottom"/>
              <a:pathLst>
                <a:path w="1908" h="1336">
                  <a:moveTo>
                    <a:pt x="0" y="736"/>
                  </a:moveTo>
                  <a:cubicBezTo>
                    <a:pt x="68" y="630"/>
                    <a:pt x="254" y="0"/>
                    <a:pt x="408" y="100"/>
                  </a:cubicBezTo>
                  <a:cubicBezTo>
                    <a:pt x="562" y="200"/>
                    <a:pt x="761" y="1336"/>
                    <a:pt x="924" y="1334"/>
                  </a:cubicBezTo>
                  <a:cubicBezTo>
                    <a:pt x="1087" y="1332"/>
                    <a:pt x="1222" y="93"/>
                    <a:pt x="1386" y="90"/>
                  </a:cubicBezTo>
                  <a:cubicBezTo>
                    <a:pt x="1550" y="87"/>
                    <a:pt x="1799" y="1062"/>
                    <a:pt x="1908" y="1318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511960" y="4145040"/>
              <a:ext cx="2976480" cy="93816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938160"/>
                <a:gd name="textAreaBottom" fmla="*/ 938160 h 938160"/>
              </a:gdLst>
              <a:ahLst/>
              <a:rect l="textAreaLeft" t="textAreaTop" r="textAreaRight" b="textAreaBottom"/>
              <a:pathLst>
                <a:path w="1875" h="591">
                  <a:moveTo>
                    <a:pt x="0" y="334"/>
                  </a:moveTo>
                  <a:cubicBezTo>
                    <a:pt x="25" y="285"/>
                    <a:pt x="103" y="0"/>
                    <a:pt x="152" y="41"/>
                  </a:cubicBezTo>
                  <a:cubicBezTo>
                    <a:pt x="201" y="82"/>
                    <a:pt x="249" y="578"/>
                    <a:pt x="294" y="579"/>
                  </a:cubicBezTo>
                  <a:cubicBezTo>
                    <a:pt x="339" y="580"/>
                    <a:pt x="379" y="45"/>
                    <a:pt x="424" y="46"/>
                  </a:cubicBezTo>
                  <a:cubicBezTo>
                    <a:pt x="469" y="47"/>
                    <a:pt x="519" y="584"/>
                    <a:pt x="565" y="584"/>
                  </a:cubicBezTo>
                  <a:cubicBezTo>
                    <a:pt x="611" y="584"/>
                    <a:pt x="657" y="47"/>
                    <a:pt x="701" y="46"/>
                  </a:cubicBezTo>
                  <a:cubicBezTo>
                    <a:pt x="745" y="45"/>
                    <a:pt x="788" y="578"/>
                    <a:pt x="832" y="579"/>
                  </a:cubicBezTo>
                  <a:cubicBezTo>
                    <a:pt x="876" y="580"/>
                    <a:pt x="925" y="50"/>
                    <a:pt x="968" y="52"/>
                  </a:cubicBezTo>
                  <a:cubicBezTo>
                    <a:pt x="1011" y="54"/>
                    <a:pt x="1051" y="591"/>
                    <a:pt x="1093" y="590"/>
                  </a:cubicBezTo>
                  <a:cubicBezTo>
                    <a:pt x="1135" y="589"/>
                    <a:pt x="1176" y="47"/>
                    <a:pt x="1218" y="46"/>
                  </a:cubicBezTo>
                  <a:cubicBezTo>
                    <a:pt x="1260" y="45"/>
                    <a:pt x="1304" y="583"/>
                    <a:pt x="1348" y="584"/>
                  </a:cubicBezTo>
                  <a:cubicBezTo>
                    <a:pt x="1392" y="585"/>
                    <a:pt x="1442" y="52"/>
                    <a:pt x="1484" y="52"/>
                  </a:cubicBezTo>
                  <a:cubicBezTo>
                    <a:pt x="1526" y="52"/>
                    <a:pt x="1559" y="584"/>
                    <a:pt x="1598" y="584"/>
                  </a:cubicBezTo>
                  <a:cubicBezTo>
                    <a:pt x="1637" y="584"/>
                    <a:pt x="1671" y="55"/>
                    <a:pt x="1717" y="52"/>
                  </a:cubicBezTo>
                  <a:cubicBezTo>
                    <a:pt x="1763" y="49"/>
                    <a:pt x="1842" y="461"/>
                    <a:pt x="1875" y="5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42"/>
          <p:cNvSpPr/>
          <p:nvPr/>
        </p:nvSpPr>
        <p:spPr>
          <a:xfrm>
            <a:off x="1801800" y="28584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&amp; 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32040" y="1027080"/>
            <a:ext cx="28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e V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917640" y="1519200"/>
                <a:ext cx="7346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λM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natura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equenc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Text Box 4"/>
          <p:cNvSpPr/>
          <p:nvPr/>
        </p:nvSpPr>
        <p:spPr>
          <a:xfrm>
            <a:off x="971640" y="2016000"/>
            <a:ext cx="28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orced V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957240" y="3962520"/>
            <a:ext cx="1238400" cy="1629000"/>
            <a:chOff x="957240" y="3962520"/>
            <a:chExt cx="1238400" cy="1629000"/>
          </a:xfrm>
        </p:grpSpPr>
        <p:sp>
          <p:nvSpPr>
            <p:cNvPr id="85" name="Line 7"/>
            <p:cNvSpPr/>
            <p:nvPr/>
          </p:nvSpPr>
          <p:spPr>
            <a:xfrm>
              <a:off x="957240" y="4038840"/>
              <a:ext cx="12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V="1">
              <a:off x="1204920" y="39625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 flipV="1">
              <a:off x="1370160" y="3962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 flipV="1">
              <a:off x="1535400" y="3962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 flipV="1">
              <a:off x="1700280" y="3962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V="1">
              <a:off x="1865520" y="3962520"/>
              <a:ext cx="824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535400" y="4038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 flipH="1">
              <a:off x="1452600" y="449604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5"/>
            <p:cNvSpPr/>
            <p:nvPr/>
          </p:nvSpPr>
          <p:spPr>
            <a:xfrm>
              <a:off x="1452600" y="457200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 flipH="1">
              <a:off x="1452600" y="46483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1452600" y="4724640"/>
              <a:ext cx="828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 flipH="1">
              <a:off x="1452600" y="480060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1452600" y="4876920"/>
              <a:ext cx="82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1535400" y="4953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1"/>
            <p:cNvSpPr/>
            <p:nvPr/>
          </p:nvSpPr>
          <p:spPr>
            <a:xfrm>
              <a:off x="1452600" y="5334120"/>
              <a:ext cx="1652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2"/>
            <p:cNvSpPr/>
            <p:nvPr/>
          </p:nvSpPr>
          <p:spPr>
            <a:xfrm>
              <a:off x="1536480" y="4556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3"/>
            <p:cNvSpPr/>
            <p:nvPr/>
          </p:nvSpPr>
          <p:spPr>
            <a:xfrm>
              <a:off x="1601640" y="5192640"/>
              <a:ext cx="3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4"/>
          <p:cNvSpPr/>
          <p:nvPr/>
        </p:nvSpPr>
        <p:spPr>
          <a:xfrm>
            <a:off x="985680" y="3281400"/>
            <a:ext cx="28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armonic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5"/>
          <p:cNvSpPr/>
          <p:nvPr/>
        </p:nvSpPr>
        <p:spPr>
          <a:xfrm>
            <a:off x="2847600" y="3692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그룹 52"/>
          <p:cNvGrpSpPr/>
          <p:nvPr/>
        </p:nvGrpSpPr>
        <p:grpSpPr>
          <a:xfrm>
            <a:off x="984240" y="2427120"/>
            <a:ext cx="7032600" cy="2460960"/>
            <a:chOff x="984240" y="2427120"/>
            <a:chExt cx="7032600" cy="2460960"/>
          </a:xfrm>
        </p:grpSpPr>
        <mc:AlternateContent>
          <mc:Choice xmlns:a14="http://schemas.microsoft.com/office/drawing/2010/main" Requires="a14">
            <p:sp>
              <p:nvSpPr>
                <p:cNvPr id="105" name="Object 5"/>
                <p:cNvSpPr txBox="1"/>
                <p:nvPr/>
              </p:nvSpPr>
              <p:spPr>
                <a:xfrm>
                  <a:off x="984240" y="2427120"/>
                  <a:ext cx="703260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acc>
                        <m:accPr>
                          <m:chr m:val="¨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Kx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ωt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f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Xk</m:t>
                          </m:r>
                        </m:num>
                        <m:den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→</m:t>
                      </m:r>
                      <m:r>
                        <m:t xml:space="preserve">∞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esonance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204"/>
                <p:cNvSpPr txBox="1"/>
                <p:nvPr/>
              </p:nvSpPr>
              <p:spPr>
                <a:xfrm>
                  <a:off x="6276960" y="3668760"/>
                  <a:ext cx="170640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2</m:t>
                          </m:r>
                          <m:r>
                            <m:t xml:space="preserve">π</m:t>
                          </m:r>
                          <m:f>
                            <m:num>
                              <m:r>
                                <m:t xml:space="preserve">t</m:t>
                              </m:r>
                            </m:num>
                            <m:den>
                              <m:r>
                                <m:t xml:space="preserve">τ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ω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그룹 51"/>
          <p:cNvGrpSpPr/>
          <p:nvPr/>
        </p:nvGrpSpPr>
        <p:grpSpPr>
          <a:xfrm>
            <a:off x="3083040" y="3616200"/>
            <a:ext cx="3268440" cy="2643480"/>
            <a:chOff x="3083040" y="3616200"/>
            <a:chExt cx="3268440" cy="2643480"/>
          </a:xfrm>
        </p:grpSpPr>
        <p:grpSp>
          <p:nvGrpSpPr>
            <p:cNvPr id="108" name="Group 177"/>
            <p:cNvGrpSpPr/>
            <p:nvPr/>
          </p:nvGrpSpPr>
          <p:grpSpPr>
            <a:xfrm>
              <a:off x="5953320" y="5235840"/>
              <a:ext cx="123480" cy="329760"/>
              <a:chOff x="5953320" y="5235840"/>
              <a:chExt cx="123480" cy="329760"/>
            </a:xfrm>
          </p:grpSpPr>
          <p:sp>
            <p:nvSpPr>
              <p:cNvPr id="109" name="Rectangle 178"/>
              <p:cNvSpPr/>
              <p:nvPr/>
            </p:nvSpPr>
            <p:spPr>
              <a:xfrm>
                <a:off x="6076440" y="526068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79"/>
              <p:cNvSpPr/>
              <p:nvPr/>
            </p:nvSpPr>
            <p:spPr>
              <a:xfrm>
                <a:off x="5953320" y="5235840"/>
                <a:ext cx="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80"/>
            <p:cNvSpPr/>
            <p:nvPr/>
          </p:nvSpPr>
          <p:spPr>
            <a:xfrm>
              <a:off x="6186240" y="5248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81"/>
            <p:cNvGrpSpPr/>
            <p:nvPr/>
          </p:nvGrpSpPr>
          <p:grpSpPr>
            <a:xfrm>
              <a:off x="3327480" y="3616200"/>
              <a:ext cx="115200" cy="2522160"/>
              <a:chOff x="3327480" y="3616200"/>
              <a:chExt cx="115200" cy="2522160"/>
            </a:xfrm>
          </p:grpSpPr>
          <p:sp>
            <p:nvSpPr>
              <p:cNvPr id="113" name="Line 182"/>
              <p:cNvSpPr/>
              <p:nvPr/>
            </p:nvSpPr>
            <p:spPr>
              <a:xfrm flipV="1">
                <a:off x="3384000" y="3744720"/>
                <a:ext cx="2160" cy="23936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83"/>
              <p:cNvSpPr/>
              <p:nvPr/>
            </p:nvSpPr>
            <p:spPr>
              <a:xfrm>
                <a:off x="3327480" y="3616200"/>
                <a:ext cx="115200" cy="1357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19" h="120">
                    <a:moveTo>
                      <a:pt x="119" y="120"/>
                    </a:moveTo>
                    <a:lnTo>
                      <a:pt x="58" y="0"/>
                    </a:lnTo>
                    <a:lnTo>
                      <a:pt x="0" y="120"/>
                    </a:lnTo>
                    <a:lnTo>
                      <a:pt x="1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84"/>
            <p:cNvGrpSpPr/>
            <p:nvPr/>
          </p:nvGrpSpPr>
          <p:grpSpPr>
            <a:xfrm>
              <a:off x="3083040" y="5083200"/>
              <a:ext cx="3150360" cy="131400"/>
              <a:chOff x="3083040" y="5083200"/>
              <a:chExt cx="3150360" cy="131400"/>
            </a:xfrm>
          </p:grpSpPr>
          <p:sp>
            <p:nvSpPr>
              <p:cNvPr id="116" name="Line 185"/>
              <p:cNvSpPr/>
              <p:nvPr/>
            </p:nvSpPr>
            <p:spPr>
              <a:xfrm>
                <a:off x="3083040" y="5147640"/>
                <a:ext cx="3035160" cy="25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86"/>
              <p:cNvSpPr/>
              <p:nvPr/>
            </p:nvSpPr>
            <p:spPr>
              <a:xfrm>
                <a:off x="6113880" y="5083200"/>
                <a:ext cx="119520" cy="1314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121" h="119">
                    <a:moveTo>
                      <a:pt x="0" y="119"/>
                    </a:moveTo>
                    <a:lnTo>
                      <a:pt x="121" y="58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Freeform 191"/>
            <p:cNvSpPr/>
            <p:nvPr/>
          </p:nvSpPr>
          <p:spPr>
            <a:xfrm>
              <a:off x="3219480" y="4365360"/>
              <a:ext cx="2863800" cy="1568520"/>
            </a:xfrm>
            <a:custGeom>
              <a:avLst/>
              <a:gdLst>
                <a:gd name="textAreaLeft" fmla="*/ 0 w 2863800"/>
                <a:gd name="textAreaRight" fmla="*/ 2864160 w 28638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916" h="1405">
                  <a:moveTo>
                    <a:pt x="0" y="701"/>
                  </a:moveTo>
                  <a:lnTo>
                    <a:pt x="5" y="692"/>
                  </a:lnTo>
                  <a:lnTo>
                    <a:pt x="5" y="681"/>
                  </a:lnTo>
                  <a:lnTo>
                    <a:pt x="11" y="669"/>
                  </a:lnTo>
                  <a:lnTo>
                    <a:pt x="11" y="658"/>
                  </a:lnTo>
                  <a:lnTo>
                    <a:pt x="16" y="647"/>
                  </a:lnTo>
                  <a:lnTo>
                    <a:pt x="16" y="637"/>
                  </a:lnTo>
                  <a:lnTo>
                    <a:pt x="22" y="626"/>
                  </a:lnTo>
                  <a:lnTo>
                    <a:pt x="22" y="614"/>
                  </a:lnTo>
                  <a:lnTo>
                    <a:pt x="27" y="603"/>
                  </a:lnTo>
                  <a:lnTo>
                    <a:pt x="27" y="592"/>
                  </a:lnTo>
                  <a:lnTo>
                    <a:pt x="33" y="582"/>
                  </a:lnTo>
                  <a:lnTo>
                    <a:pt x="33" y="571"/>
                  </a:lnTo>
                  <a:lnTo>
                    <a:pt x="40" y="559"/>
                  </a:lnTo>
                  <a:lnTo>
                    <a:pt x="40" y="548"/>
                  </a:lnTo>
                  <a:lnTo>
                    <a:pt x="45" y="537"/>
                  </a:lnTo>
                  <a:lnTo>
                    <a:pt x="45" y="527"/>
                  </a:lnTo>
                  <a:lnTo>
                    <a:pt x="51" y="516"/>
                  </a:lnTo>
                  <a:lnTo>
                    <a:pt x="51" y="507"/>
                  </a:lnTo>
                  <a:lnTo>
                    <a:pt x="56" y="496"/>
                  </a:lnTo>
                  <a:lnTo>
                    <a:pt x="56" y="485"/>
                  </a:lnTo>
                  <a:lnTo>
                    <a:pt x="62" y="476"/>
                  </a:lnTo>
                  <a:lnTo>
                    <a:pt x="62" y="465"/>
                  </a:lnTo>
                  <a:lnTo>
                    <a:pt x="67" y="456"/>
                  </a:lnTo>
                  <a:lnTo>
                    <a:pt x="67" y="445"/>
                  </a:lnTo>
                  <a:lnTo>
                    <a:pt x="73" y="434"/>
                  </a:lnTo>
                  <a:lnTo>
                    <a:pt x="78" y="425"/>
                  </a:lnTo>
                  <a:lnTo>
                    <a:pt x="78" y="414"/>
                  </a:lnTo>
                  <a:lnTo>
                    <a:pt x="84" y="405"/>
                  </a:lnTo>
                  <a:lnTo>
                    <a:pt x="84" y="394"/>
                  </a:lnTo>
                  <a:lnTo>
                    <a:pt x="89" y="383"/>
                  </a:lnTo>
                  <a:lnTo>
                    <a:pt x="89" y="374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100" y="346"/>
                  </a:lnTo>
                  <a:lnTo>
                    <a:pt x="100" y="335"/>
                  </a:lnTo>
                  <a:lnTo>
                    <a:pt x="106" y="326"/>
                  </a:lnTo>
                  <a:lnTo>
                    <a:pt x="106" y="315"/>
                  </a:lnTo>
                  <a:lnTo>
                    <a:pt x="111" y="308"/>
                  </a:lnTo>
                  <a:lnTo>
                    <a:pt x="111" y="298"/>
                  </a:lnTo>
                  <a:lnTo>
                    <a:pt x="117" y="291"/>
                  </a:lnTo>
                  <a:lnTo>
                    <a:pt x="117" y="280"/>
                  </a:lnTo>
                  <a:lnTo>
                    <a:pt x="122" y="271"/>
                  </a:lnTo>
                  <a:lnTo>
                    <a:pt x="122" y="264"/>
                  </a:lnTo>
                  <a:lnTo>
                    <a:pt x="128" y="253"/>
                  </a:lnTo>
                  <a:lnTo>
                    <a:pt x="128" y="245"/>
                  </a:lnTo>
                  <a:lnTo>
                    <a:pt x="135" y="236"/>
                  </a:lnTo>
                  <a:lnTo>
                    <a:pt x="135" y="229"/>
                  </a:lnTo>
                  <a:lnTo>
                    <a:pt x="141" y="222"/>
                  </a:lnTo>
                  <a:lnTo>
                    <a:pt x="141" y="212"/>
                  </a:lnTo>
                  <a:lnTo>
                    <a:pt x="146" y="205"/>
                  </a:lnTo>
                  <a:lnTo>
                    <a:pt x="152" y="198"/>
                  </a:lnTo>
                  <a:lnTo>
                    <a:pt x="152" y="192"/>
                  </a:lnTo>
                  <a:lnTo>
                    <a:pt x="157" y="181"/>
                  </a:lnTo>
                  <a:lnTo>
                    <a:pt x="157" y="174"/>
                  </a:lnTo>
                  <a:lnTo>
                    <a:pt x="163" y="167"/>
                  </a:lnTo>
                  <a:lnTo>
                    <a:pt x="163" y="161"/>
                  </a:lnTo>
                  <a:lnTo>
                    <a:pt x="168" y="154"/>
                  </a:lnTo>
                  <a:lnTo>
                    <a:pt x="168" y="146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9" y="126"/>
                  </a:lnTo>
                  <a:lnTo>
                    <a:pt x="179" y="119"/>
                  </a:lnTo>
                  <a:lnTo>
                    <a:pt x="185" y="115"/>
                  </a:lnTo>
                  <a:lnTo>
                    <a:pt x="185" y="110"/>
                  </a:lnTo>
                  <a:lnTo>
                    <a:pt x="190" y="102"/>
                  </a:lnTo>
                  <a:lnTo>
                    <a:pt x="190" y="99"/>
                  </a:lnTo>
                  <a:lnTo>
                    <a:pt x="196" y="91"/>
                  </a:lnTo>
                  <a:lnTo>
                    <a:pt x="196" y="86"/>
                  </a:lnTo>
                  <a:lnTo>
                    <a:pt x="201" y="82"/>
                  </a:lnTo>
                  <a:lnTo>
                    <a:pt x="201" y="75"/>
                  </a:lnTo>
                  <a:lnTo>
                    <a:pt x="207" y="71"/>
                  </a:lnTo>
                  <a:lnTo>
                    <a:pt x="207" y="68"/>
                  </a:lnTo>
                  <a:lnTo>
                    <a:pt x="212" y="62"/>
                  </a:lnTo>
                  <a:lnTo>
                    <a:pt x="212" y="59"/>
                  </a:lnTo>
                  <a:lnTo>
                    <a:pt x="218" y="55"/>
                  </a:lnTo>
                  <a:lnTo>
                    <a:pt x="225" y="48"/>
                  </a:lnTo>
                  <a:lnTo>
                    <a:pt x="225" y="44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6" y="35"/>
                  </a:lnTo>
                  <a:lnTo>
                    <a:pt x="236" y="31"/>
                  </a:lnTo>
                  <a:lnTo>
                    <a:pt x="241" y="27"/>
                  </a:lnTo>
                  <a:lnTo>
                    <a:pt x="241" y="24"/>
                  </a:lnTo>
                  <a:lnTo>
                    <a:pt x="247" y="20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3" y="9"/>
                  </a:lnTo>
                  <a:lnTo>
                    <a:pt x="269" y="7"/>
                  </a:lnTo>
                  <a:lnTo>
                    <a:pt x="274" y="4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4"/>
                  </a:lnTo>
                  <a:lnTo>
                    <a:pt x="315" y="7"/>
                  </a:lnTo>
                  <a:lnTo>
                    <a:pt x="320" y="9"/>
                  </a:lnTo>
                  <a:lnTo>
                    <a:pt x="326" y="13"/>
                  </a:lnTo>
                  <a:lnTo>
                    <a:pt x="331" y="16"/>
                  </a:lnTo>
                  <a:lnTo>
                    <a:pt x="337" y="20"/>
                  </a:lnTo>
                  <a:lnTo>
                    <a:pt x="342" y="24"/>
                  </a:lnTo>
                  <a:lnTo>
                    <a:pt x="342" y="27"/>
                  </a:lnTo>
                  <a:lnTo>
                    <a:pt x="348" y="31"/>
                  </a:lnTo>
                  <a:lnTo>
                    <a:pt x="348" y="35"/>
                  </a:lnTo>
                  <a:lnTo>
                    <a:pt x="353" y="37"/>
                  </a:lnTo>
                  <a:lnTo>
                    <a:pt x="353" y="40"/>
                  </a:lnTo>
                  <a:lnTo>
                    <a:pt x="359" y="44"/>
                  </a:lnTo>
                  <a:lnTo>
                    <a:pt x="359" y="48"/>
                  </a:lnTo>
                  <a:lnTo>
                    <a:pt x="364" y="55"/>
                  </a:lnTo>
                  <a:lnTo>
                    <a:pt x="370" y="59"/>
                  </a:lnTo>
                  <a:lnTo>
                    <a:pt x="370" y="62"/>
                  </a:lnTo>
                  <a:lnTo>
                    <a:pt x="375" y="68"/>
                  </a:lnTo>
                  <a:lnTo>
                    <a:pt x="375" y="71"/>
                  </a:lnTo>
                  <a:lnTo>
                    <a:pt x="381" y="75"/>
                  </a:lnTo>
                  <a:lnTo>
                    <a:pt x="381" y="82"/>
                  </a:lnTo>
                  <a:lnTo>
                    <a:pt x="386" y="86"/>
                  </a:lnTo>
                  <a:lnTo>
                    <a:pt x="386" y="91"/>
                  </a:lnTo>
                  <a:lnTo>
                    <a:pt x="392" y="99"/>
                  </a:lnTo>
                  <a:lnTo>
                    <a:pt x="392" y="102"/>
                  </a:lnTo>
                  <a:lnTo>
                    <a:pt x="397" y="110"/>
                  </a:lnTo>
                  <a:lnTo>
                    <a:pt x="397" y="115"/>
                  </a:lnTo>
                  <a:lnTo>
                    <a:pt x="404" y="119"/>
                  </a:lnTo>
                  <a:lnTo>
                    <a:pt x="404" y="126"/>
                  </a:lnTo>
                  <a:lnTo>
                    <a:pt x="410" y="134"/>
                  </a:lnTo>
                  <a:lnTo>
                    <a:pt x="410" y="141"/>
                  </a:lnTo>
                  <a:lnTo>
                    <a:pt x="415" y="146"/>
                  </a:lnTo>
                  <a:lnTo>
                    <a:pt x="415" y="154"/>
                  </a:lnTo>
                  <a:lnTo>
                    <a:pt x="421" y="161"/>
                  </a:lnTo>
                  <a:lnTo>
                    <a:pt x="421" y="167"/>
                  </a:lnTo>
                  <a:lnTo>
                    <a:pt x="426" y="174"/>
                  </a:lnTo>
                  <a:lnTo>
                    <a:pt x="426" y="181"/>
                  </a:lnTo>
                  <a:lnTo>
                    <a:pt x="432" y="192"/>
                  </a:lnTo>
                  <a:lnTo>
                    <a:pt x="432" y="198"/>
                  </a:lnTo>
                  <a:lnTo>
                    <a:pt x="437" y="205"/>
                  </a:lnTo>
                  <a:lnTo>
                    <a:pt x="443" y="212"/>
                  </a:lnTo>
                  <a:lnTo>
                    <a:pt x="443" y="222"/>
                  </a:lnTo>
                  <a:lnTo>
                    <a:pt x="448" y="229"/>
                  </a:lnTo>
                  <a:lnTo>
                    <a:pt x="448" y="236"/>
                  </a:lnTo>
                  <a:lnTo>
                    <a:pt x="454" y="245"/>
                  </a:lnTo>
                  <a:lnTo>
                    <a:pt x="454" y="253"/>
                  </a:lnTo>
                  <a:lnTo>
                    <a:pt x="459" y="264"/>
                  </a:lnTo>
                  <a:lnTo>
                    <a:pt x="459" y="271"/>
                  </a:lnTo>
                  <a:lnTo>
                    <a:pt x="465" y="280"/>
                  </a:lnTo>
                  <a:lnTo>
                    <a:pt x="465" y="291"/>
                  </a:lnTo>
                  <a:lnTo>
                    <a:pt x="470" y="298"/>
                  </a:lnTo>
                  <a:lnTo>
                    <a:pt x="470" y="308"/>
                  </a:lnTo>
                  <a:lnTo>
                    <a:pt x="476" y="315"/>
                  </a:lnTo>
                  <a:lnTo>
                    <a:pt x="476" y="326"/>
                  </a:lnTo>
                  <a:lnTo>
                    <a:pt x="481" y="335"/>
                  </a:lnTo>
                  <a:lnTo>
                    <a:pt x="481" y="346"/>
                  </a:lnTo>
                  <a:lnTo>
                    <a:pt x="487" y="353"/>
                  </a:lnTo>
                  <a:lnTo>
                    <a:pt x="487" y="363"/>
                  </a:lnTo>
                  <a:lnTo>
                    <a:pt x="494" y="374"/>
                  </a:lnTo>
                  <a:lnTo>
                    <a:pt x="494" y="383"/>
                  </a:lnTo>
                  <a:lnTo>
                    <a:pt x="500" y="394"/>
                  </a:lnTo>
                  <a:lnTo>
                    <a:pt x="500" y="405"/>
                  </a:lnTo>
                  <a:lnTo>
                    <a:pt x="505" y="414"/>
                  </a:lnTo>
                  <a:lnTo>
                    <a:pt x="505" y="425"/>
                  </a:lnTo>
                  <a:lnTo>
                    <a:pt x="511" y="434"/>
                  </a:lnTo>
                  <a:lnTo>
                    <a:pt x="516" y="445"/>
                  </a:lnTo>
                  <a:lnTo>
                    <a:pt x="516" y="456"/>
                  </a:lnTo>
                  <a:lnTo>
                    <a:pt x="522" y="465"/>
                  </a:lnTo>
                  <a:lnTo>
                    <a:pt x="522" y="476"/>
                  </a:lnTo>
                  <a:lnTo>
                    <a:pt x="527" y="485"/>
                  </a:lnTo>
                  <a:lnTo>
                    <a:pt x="527" y="496"/>
                  </a:lnTo>
                  <a:lnTo>
                    <a:pt x="533" y="507"/>
                  </a:lnTo>
                  <a:lnTo>
                    <a:pt x="533" y="516"/>
                  </a:lnTo>
                  <a:lnTo>
                    <a:pt x="538" y="527"/>
                  </a:lnTo>
                  <a:lnTo>
                    <a:pt x="538" y="537"/>
                  </a:lnTo>
                  <a:lnTo>
                    <a:pt x="544" y="548"/>
                  </a:lnTo>
                  <a:lnTo>
                    <a:pt x="544" y="559"/>
                  </a:lnTo>
                  <a:lnTo>
                    <a:pt x="549" y="571"/>
                  </a:lnTo>
                  <a:lnTo>
                    <a:pt x="549" y="582"/>
                  </a:lnTo>
                  <a:lnTo>
                    <a:pt x="555" y="592"/>
                  </a:lnTo>
                  <a:lnTo>
                    <a:pt x="555" y="603"/>
                  </a:lnTo>
                  <a:lnTo>
                    <a:pt x="560" y="614"/>
                  </a:lnTo>
                  <a:lnTo>
                    <a:pt x="560" y="626"/>
                  </a:lnTo>
                  <a:lnTo>
                    <a:pt x="566" y="637"/>
                  </a:lnTo>
                  <a:lnTo>
                    <a:pt x="566" y="647"/>
                  </a:lnTo>
                  <a:lnTo>
                    <a:pt x="571" y="658"/>
                  </a:lnTo>
                  <a:lnTo>
                    <a:pt x="571" y="669"/>
                  </a:lnTo>
                  <a:lnTo>
                    <a:pt x="577" y="681"/>
                  </a:lnTo>
                  <a:lnTo>
                    <a:pt x="577" y="692"/>
                  </a:lnTo>
                  <a:lnTo>
                    <a:pt x="584" y="701"/>
                  </a:lnTo>
                  <a:lnTo>
                    <a:pt x="588" y="712"/>
                  </a:lnTo>
                  <a:lnTo>
                    <a:pt x="588" y="723"/>
                  </a:lnTo>
                  <a:lnTo>
                    <a:pt x="595" y="736"/>
                  </a:lnTo>
                  <a:lnTo>
                    <a:pt x="595" y="747"/>
                  </a:lnTo>
                  <a:lnTo>
                    <a:pt x="600" y="756"/>
                  </a:lnTo>
                  <a:lnTo>
                    <a:pt x="600" y="767"/>
                  </a:lnTo>
                  <a:lnTo>
                    <a:pt x="606" y="777"/>
                  </a:lnTo>
                  <a:lnTo>
                    <a:pt x="606" y="791"/>
                  </a:lnTo>
                  <a:lnTo>
                    <a:pt x="611" y="800"/>
                  </a:lnTo>
                  <a:lnTo>
                    <a:pt x="611" y="811"/>
                  </a:lnTo>
                  <a:lnTo>
                    <a:pt x="617" y="822"/>
                  </a:lnTo>
                  <a:lnTo>
                    <a:pt x="617" y="832"/>
                  </a:lnTo>
                  <a:lnTo>
                    <a:pt x="622" y="846"/>
                  </a:lnTo>
                  <a:lnTo>
                    <a:pt x="622" y="855"/>
                  </a:lnTo>
                  <a:lnTo>
                    <a:pt x="628" y="866"/>
                  </a:lnTo>
                  <a:lnTo>
                    <a:pt x="628" y="877"/>
                  </a:lnTo>
                  <a:lnTo>
                    <a:pt x="633" y="887"/>
                  </a:lnTo>
                  <a:lnTo>
                    <a:pt x="633" y="898"/>
                  </a:lnTo>
                  <a:lnTo>
                    <a:pt x="639" y="907"/>
                  </a:lnTo>
                  <a:lnTo>
                    <a:pt x="639" y="918"/>
                  </a:lnTo>
                  <a:lnTo>
                    <a:pt x="644" y="929"/>
                  </a:lnTo>
                  <a:lnTo>
                    <a:pt x="644" y="938"/>
                  </a:lnTo>
                  <a:lnTo>
                    <a:pt x="650" y="949"/>
                  </a:lnTo>
                  <a:lnTo>
                    <a:pt x="650" y="958"/>
                  </a:lnTo>
                  <a:lnTo>
                    <a:pt x="655" y="969"/>
                  </a:lnTo>
                  <a:lnTo>
                    <a:pt x="661" y="980"/>
                  </a:lnTo>
                  <a:lnTo>
                    <a:pt x="661" y="989"/>
                  </a:lnTo>
                  <a:lnTo>
                    <a:pt x="666" y="1000"/>
                  </a:lnTo>
                  <a:lnTo>
                    <a:pt x="666" y="1011"/>
                  </a:lnTo>
                  <a:lnTo>
                    <a:pt x="674" y="1020"/>
                  </a:lnTo>
                  <a:lnTo>
                    <a:pt x="674" y="1031"/>
                  </a:lnTo>
                  <a:lnTo>
                    <a:pt x="677" y="1040"/>
                  </a:lnTo>
                  <a:lnTo>
                    <a:pt x="677" y="1051"/>
                  </a:lnTo>
                  <a:lnTo>
                    <a:pt x="685" y="1059"/>
                  </a:lnTo>
                  <a:lnTo>
                    <a:pt x="685" y="1068"/>
                  </a:lnTo>
                  <a:lnTo>
                    <a:pt x="690" y="1079"/>
                  </a:lnTo>
                  <a:lnTo>
                    <a:pt x="690" y="1090"/>
                  </a:lnTo>
                  <a:lnTo>
                    <a:pt x="696" y="1095"/>
                  </a:lnTo>
                  <a:lnTo>
                    <a:pt x="696" y="1106"/>
                  </a:lnTo>
                  <a:lnTo>
                    <a:pt x="701" y="1114"/>
                  </a:lnTo>
                  <a:lnTo>
                    <a:pt x="701" y="1123"/>
                  </a:lnTo>
                  <a:lnTo>
                    <a:pt x="707" y="1134"/>
                  </a:lnTo>
                  <a:lnTo>
                    <a:pt x="707" y="1141"/>
                  </a:lnTo>
                  <a:lnTo>
                    <a:pt x="712" y="1150"/>
                  </a:lnTo>
                  <a:lnTo>
                    <a:pt x="712" y="1158"/>
                  </a:lnTo>
                  <a:lnTo>
                    <a:pt x="718" y="1169"/>
                  </a:lnTo>
                  <a:lnTo>
                    <a:pt x="718" y="1174"/>
                  </a:lnTo>
                  <a:lnTo>
                    <a:pt x="723" y="1181"/>
                  </a:lnTo>
                  <a:lnTo>
                    <a:pt x="723" y="1192"/>
                  </a:lnTo>
                  <a:lnTo>
                    <a:pt x="729" y="1198"/>
                  </a:lnTo>
                  <a:lnTo>
                    <a:pt x="734" y="1205"/>
                  </a:lnTo>
                  <a:lnTo>
                    <a:pt x="734" y="1213"/>
                  </a:lnTo>
                  <a:lnTo>
                    <a:pt x="740" y="1222"/>
                  </a:lnTo>
                  <a:lnTo>
                    <a:pt x="740" y="1229"/>
                  </a:lnTo>
                  <a:lnTo>
                    <a:pt x="745" y="1236"/>
                  </a:lnTo>
                  <a:lnTo>
                    <a:pt x="745" y="1244"/>
                  </a:lnTo>
                  <a:lnTo>
                    <a:pt x="751" y="1249"/>
                  </a:lnTo>
                  <a:lnTo>
                    <a:pt x="751" y="1257"/>
                  </a:lnTo>
                  <a:lnTo>
                    <a:pt x="756" y="1264"/>
                  </a:lnTo>
                  <a:lnTo>
                    <a:pt x="756" y="1271"/>
                  </a:lnTo>
                  <a:lnTo>
                    <a:pt x="764" y="1277"/>
                  </a:lnTo>
                  <a:lnTo>
                    <a:pt x="764" y="1284"/>
                  </a:lnTo>
                  <a:lnTo>
                    <a:pt x="767" y="1288"/>
                  </a:lnTo>
                  <a:lnTo>
                    <a:pt x="767" y="1295"/>
                  </a:lnTo>
                  <a:lnTo>
                    <a:pt x="775" y="1302"/>
                  </a:lnTo>
                  <a:lnTo>
                    <a:pt x="775" y="1304"/>
                  </a:lnTo>
                  <a:lnTo>
                    <a:pt x="780" y="1312"/>
                  </a:lnTo>
                  <a:lnTo>
                    <a:pt x="780" y="1319"/>
                  </a:lnTo>
                  <a:lnTo>
                    <a:pt x="785" y="1323"/>
                  </a:lnTo>
                  <a:lnTo>
                    <a:pt x="785" y="1330"/>
                  </a:lnTo>
                  <a:lnTo>
                    <a:pt x="791" y="1332"/>
                  </a:lnTo>
                  <a:lnTo>
                    <a:pt x="791" y="1335"/>
                  </a:lnTo>
                  <a:lnTo>
                    <a:pt x="796" y="1343"/>
                  </a:lnTo>
                  <a:lnTo>
                    <a:pt x="796" y="1346"/>
                  </a:lnTo>
                  <a:lnTo>
                    <a:pt x="802" y="1350"/>
                  </a:lnTo>
                  <a:lnTo>
                    <a:pt x="807" y="1357"/>
                  </a:lnTo>
                  <a:lnTo>
                    <a:pt x="807" y="1359"/>
                  </a:lnTo>
                  <a:lnTo>
                    <a:pt x="813" y="1363"/>
                  </a:lnTo>
                  <a:lnTo>
                    <a:pt x="813" y="1366"/>
                  </a:lnTo>
                  <a:lnTo>
                    <a:pt x="818" y="1370"/>
                  </a:lnTo>
                  <a:lnTo>
                    <a:pt x="818" y="1374"/>
                  </a:lnTo>
                  <a:lnTo>
                    <a:pt x="824" y="1377"/>
                  </a:lnTo>
                  <a:lnTo>
                    <a:pt x="824" y="1381"/>
                  </a:lnTo>
                  <a:lnTo>
                    <a:pt x="829" y="1383"/>
                  </a:lnTo>
                  <a:lnTo>
                    <a:pt x="835" y="1387"/>
                  </a:lnTo>
                  <a:lnTo>
                    <a:pt x="840" y="1390"/>
                  </a:lnTo>
                  <a:lnTo>
                    <a:pt x="846" y="1394"/>
                  </a:lnTo>
                  <a:lnTo>
                    <a:pt x="853" y="1398"/>
                  </a:lnTo>
                  <a:lnTo>
                    <a:pt x="857" y="1401"/>
                  </a:lnTo>
                  <a:lnTo>
                    <a:pt x="864" y="1405"/>
                  </a:lnTo>
                  <a:lnTo>
                    <a:pt x="870" y="1405"/>
                  </a:lnTo>
                  <a:lnTo>
                    <a:pt x="875" y="1405"/>
                  </a:lnTo>
                  <a:lnTo>
                    <a:pt x="881" y="1405"/>
                  </a:lnTo>
                  <a:lnTo>
                    <a:pt x="886" y="1405"/>
                  </a:lnTo>
                  <a:lnTo>
                    <a:pt x="892" y="1401"/>
                  </a:lnTo>
                  <a:lnTo>
                    <a:pt x="897" y="1398"/>
                  </a:lnTo>
                  <a:lnTo>
                    <a:pt x="903" y="1394"/>
                  </a:lnTo>
                  <a:lnTo>
                    <a:pt x="908" y="1390"/>
                  </a:lnTo>
                  <a:lnTo>
                    <a:pt x="914" y="1387"/>
                  </a:lnTo>
                  <a:lnTo>
                    <a:pt x="919" y="1383"/>
                  </a:lnTo>
                  <a:lnTo>
                    <a:pt x="925" y="1381"/>
                  </a:lnTo>
                  <a:lnTo>
                    <a:pt x="925" y="1377"/>
                  </a:lnTo>
                  <a:lnTo>
                    <a:pt x="930" y="1374"/>
                  </a:lnTo>
                  <a:lnTo>
                    <a:pt x="930" y="1370"/>
                  </a:lnTo>
                  <a:lnTo>
                    <a:pt x="936" y="1366"/>
                  </a:lnTo>
                  <a:lnTo>
                    <a:pt x="936" y="1363"/>
                  </a:lnTo>
                  <a:lnTo>
                    <a:pt x="943" y="1359"/>
                  </a:lnTo>
                  <a:lnTo>
                    <a:pt x="943" y="1357"/>
                  </a:lnTo>
                  <a:lnTo>
                    <a:pt x="947" y="1350"/>
                  </a:lnTo>
                  <a:lnTo>
                    <a:pt x="954" y="1346"/>
                  </a:lnTo>
                  <a:lnTo>
                    <a:pt x="954" y="1343"/>
                  </a:lnTo>
                  <a:lnTo>
                    <a:pt x="960" y="1335"/>
                  </a:lnTo>
                  <a:lnTo>
                    <a:pt x="960" y="1332"/>
                  </a:lnTo>
                  <a:lnTo>
                    <a:pt x="965" y="1330"/>
                  </a:lnTo>
                  <a:lnTo>
                    <a:pt x="965" y="1323"/>
                  </a:lnTo>
                  <a:lnTo>
                    <a:pt x="971" y="1319"/>
                  </a:lnTo>
                  <a:lnTo>
                    <a:pt x="971" y="1312"/>
                  </a:lnTo>
                  <a:lnTo>
                    <a:pt x="976" y="1304"/>
                  </a:lnTo>
                  <a:lnTo>
                    <a:pt x="976" y="1302"/>
                  </a:lnTo>
                  <a:lnTo>
                    <a:pt x="982" y="1295"/>
                  </a:lnTo>
                  <a:lnTo>
                    <a:pt x="982" y="1288"/>
                  </a:lnTo>
                  <a:lnTo>
                    <a:pt x="987" y="1284"/>
                  </a:lnTo>
                  <a:lnTo>
                    <a:pt x="987" y="1277"/>
                  </a:lnTo>
                  <a:lnTo>
                    <a:pt x="992" y="1271"/>
                  </a:lnTo>
                  <a:lnTo>
                    <a:pt x="992" y="1264"/>
                  </a:lnTo>
                  <a:lnTo>
                    <a:pt x="998" y="1257"/>
                  </a:lnTo>
                  <a:lnTo>
                    <a:pt x="998" y="1249"/>
                  </a:lnTo>
                  <a:lnTo>
                    <a:pt x="1003" y="1244"/>
                  </a:lnTo>
                  <a:lnTo>
                    <a:pt x="1003" y="1236"/>
                  </a:lnTo>
                  <a:lnTo>
                    <a:pt x="1009" y="1229"/>
                  </a:lnTo>
                  <a:lnTo>
                    <a:pt x="1009" y="1222"/>
                  </a:lnTo>
                  <a:lnTo>
                    <a:pt x="1014" y="1213"/>
                  </a:lnTo>
                  <a:lnTo>
                    <a:pt x="1014" y="1205"/>
                  </a:lnTo>
                  <a:lnTo>
                    <a:pt x="1020" y="1198"/>
                  </a:lnTo>
                  <a:lnTo>
                    <a:pt x="1025" y="1192"/>
                  </a:lnTo>
                  <a:lnTo>
                    <a:pt x="1025" y="1181"/>
                  </a:lnTo>
                  <a:lnTo>
                    <a:pt x="1033" y="1174"/>
                  </a:lnTo>
                  <a:lnTo>
                    <a:pt x="1033" y="1169"/>
                  </a:lnTo>
                  <a:lnTo>
                    <a:pt x="1036" y="1158"/>
                  </a:lnTo>
                  <a:lnTo>
                    <a:pt x="1036" y="1150"/>
                  </a:lnTo>
                  <a:lnTo>
                    <a:pt x="1044" y="1141"/>
                  </a:lnTo>
                  <a:lnTo>
                    <a:pt x="1044" y="1134"/>
                  </a:lnTo>
                  <a:lnTo>
                    <a:pt x="1049" y="1123"/>
                  </a:lnTo>
                  <a:lnTo>
                    <a:pt x="1049" y="1114"/>
                  </a:lnTo>
                  <a:lnTo>
                    <a:pt x="1055" y="1106"/>
                  </a:lnTo>
                  <a:lnTo>
                    <a:pt x="1055" y="1095"/>
                  </a:lnTo>
                  <a:lnTo>
                    <a:pt x="1060" y="1090"/>
                  </a:lnTo>
                  <a:lnTo>
                    <a:pt x="1060" y="1079"/>
                  </a:lnTo>
                  <a:lnTo>
                    <a:pt x="1066" y="1068"/>
                  </a:lnTo>
                  <a:lnTo>
                    <a:pt x="1066" y="1059"/>
                  </a:lnTo>
                  <a:lnTo>
                    <a:pt x="1071" y="1051"/>
                  </a:lnTo>
                  <a:lnTo>
                    <a:pt x="1071" y="1040"/>
                  </a:lnTo>
                  <a:lnTo>
                    <a:pt x="1077" y="1031"/>
                  </a:lnTo>
                  <a:lnTo>
                    <a:pt x="1077" y="1020"/>
                  </a:lnTo>
                  <a:lnTo>
                    <a:pt x="1082" y="1011"/>
                  </a:lnTo>
                  <a:lnTo>
                    <a:pt x="1082" y="1000"/>
                  </a:lnTo>
                  <a:lnTo>
                    <a:pt x="1088" y="989"/>
                  </a:lnTo>
                  <a:lnTo>
                    <a:pt x="1088" y="980"/>
                  </a:lnTo>
                  <a:lnTo>
                    <a:pt x="1093" y="969"/>
                  </a:lnTo>
                  <a:lnTo>
                    <a:pt x="1099" y="958"/>
                  </a:lnTo>
                  <a:lnTo>
                    <a:pt x="1099" y="949"/>
                  </a:lnTo>
                  <a:lnTo>
                    <a:pt x="1104" y="938"/>
                  </a:lnTo>
                  <a:lnTo>
                    <a:pt x="1104" y="929"/>
                  </a:lnTo>
                  <a:lnTo>
                    <a:pt x="1110" y="918"/>
                  </a:lnTo>
                  <a:lnTo>
                    <a:pt x="1110" y="907"/>
                  </a:lnTo>
                  <a:lnTo>
                    <a:pt x="1115" y="898"/>
                  </a:lnTo>
                  <a:lnTo>
                    <a:pt x="1115" y="887"/>
                  </a:lnTo>
                  <a:lnTo>
                    <a:pt x="1123" y="877"/>
                  </a:lnTo>
                  <a:lnTo>
                    <a:pt x="1123" y="866"/>
                  </a:lnTo>
                  <a:lnTo>
                    <a:pt x="1126" y="855"/>
                  </a:lnTo>
                  <a:lnTo>
                    <a:pt x="1126" y="846"/>
                  </a:lnTo>
                  <a:lnTo>
                    <a:pt x="1134" y="832"/>
                  </a:lnTo>
                  <a:lnTo>
                    <a:pt x="1134" y="822"/>
                  </a:lnTo>
                  <a:lnTo>
                    <a:pt x="1139" y="811"/>
                  </a:lnTo>
                  <a:lnTo>
                    <a:pt x="1139" y="800"/>
                  </a:lnTo>
                  <a:lnTo>
                    <a:pt x="1145" y="791"/>
                  </a:lnTo>
                  <a:lnTo>
                    <a:pt x="1145" y="777"/>
                  </a:lnTo>
                  <a:lnTo>
                    <a:pt x="1150" y="767"/>
                  </a:lnTo>
                  <a:lnTo>
                    <a:pt x="1150" y="756"/>
                  </a:lnTo>
                  <a:lnTo>
                    <a:pt x="1156" y="747"/>
                  </a:lnTo>
                  <a:lnTo>
                    <a:pt x="1156" y="736"/>
                  </a:lnTo>
                  <a:lnTo>
                    <a:pt x="1161" y="723"/>
                  </a:lnTo>
                  <a:lnTo>
                    <a:pt x="1161" y="712"/>
                  </a:lnTo>
                  <a:lnTo>
                    <a:pt x="1167" y="701"/>
                  </a:lnTo>
                  <a:lnTo>
                    <a:pt x="1172" y="692"/>
                  </a:lnTo>
                  <a:lnTo>
                    <a:pt x="1172" y="681"/>
                  </a:lnTo>
                  <a:lnTo>
                    <a:pt x="1178" y="669"/>
                  </a:lnTo>
                  <a:lnTo>
                    <a:pt x="1178" y="658"/>
                  </a:lnTo>
                  <a:lnTo>
                    <a:pt x="1183" y="647"/>
                  </a:lnTo>
                  <a:lnTo>
                    <a:pt x="1183" y="637"/>
                  </a:lnTo>
                  <a:lnTo>
                    <a:pt x="1189" y="626"/>
                  </a:lnTo>
                  <a:lnTo>
                    <a:pt x="1189" y="614"/>
                  </a:lnTo>
                  <a:lnTo>
                    <a:pt x="1194" y="603"/>
                  </a:lnTo>
                  <a:lnTo>
                    <a:pt x="1194" y="592"/>
                  </a:lnTo>
                  <a:lnTo>
                    <a:pt x="1199" y="582"/>
                  </a:lnTo>
                  <a:lnTo>
                    <a:pt x="1199" y="571"/>
                  </a:lnTo>
                  <a:lnTo>
                    <a:pt x="1205" y="559"/>
                  </a:lnTo>
                  <a:lnTo>
                    <a:pt x="1205" y="548"/>
                  </a:lnTo>
                  <a:lnTo>
                    <a:pt x="1210" y="537"/>
                  </a:lnTo>
                  <a:lnTo>
                    <a:pt x="1210" y="527"/>
                  </a:lnTo>
                  <a:lnTo>
                    <a:pt x="1216" y="516"/>
                  </a:lnTo>
                  <a:lnTo>
                    <a:pt x="1216" y="507"/>
                  </a:lnTo>
                  <a:lnTo>
                    <a:pt x="1223" y="496"/>
                  </a:lnTo>
                  <a:lnTo>
                    <a:pt x="1223" y="485"/>
                  </a:lnTo>
                  <a:lnTo>
                    <a:pt x="1229" y="476"/>
                  </a:lnTo>
                  <a:lnTo>
                    <a:pt x="1229" y="465"/>
                  </a:lnTo>
                  <a:lnTo>
                    <a:pt x="1234" y="456"/>
                  </a:lnTo>
                  <a:lnTo>
                    <a:pt x="1234" y="445"/>
                  </a:lnTo>
                  <a:lnTo>
                    <a:pt x="1240" y="434"/>
                  </a:lnTo>
                  <a:lnTo>
                    <a:pt x="1245" y="425"/>
                  </a:lnTo>
                  <a:lnTo>
                    <a:pt x="1245" y="414"/>
                  </a:lnTo>
                  <a:lnTo>
                    <a:pt x="1251" y="405"/>
                  </a:lnTo>
                  <a:lnTo>
                    <a:pt x="1251" y="394"/>
                  </a:lnTo>
                  <a:lnTo>
                    <a:pt x="1256" y="383"/>
                  </a:lnTo>
                  <a:lnTo>
                    <a:pt x="1256" y="374"/>
                  </a:lnTo>
                  <a:lnTo>
                    <a:pt x="1262" y="363"/>
                  </a:lnTo>
                  <a:lnTo>
                    <a:pt x="1262" y="353"/>
                  </a:lnTo>
                  <a:lnTo>
                    <a:pt x="1267" y="346"/>
                  </a:lnTo>
                  <a:lnTo>
                    <a:pt x="1267" y="335"/>
                  </a:lnTo>
                  <a:lnTo>
                    <a:pt x="1273" y="326"/>
                  </a:lnTo>
                  <a:lnTo>
                    <a:pt x="1273" y="315"/>
                  </a:lnTo>
                  <a:lnTo>
                    <a:pt x="1278" y="308"/>
                  </a:lnTo>
                  <a:lnTo>
                    <a:pt x="1278" y="298"/>
                  </a:lnTo>
                  <a:lnTo>
                    <a:pt x="1284" y="291"/>
                  </a:lnTo>
                  <a:lnTo>
                    <a:pt x="1284" y="280"/>
                  </a:lnTo>
                  <a:lnTo>
                    <a:pt x="1289" y="271"/>
                  </a:lnTo>
                  <a:lnTo>
                    <a:pt x="1289" y="264"/>
                  </a:lnTo>
                  <a:lnTo>
                    <a:pt x="1295" y="253"/>
                  </a:lnTo>
                  <a:lnTo>
                    <a:pt x="1295" y="245"/>
                  </a:lnTo>
                  <a:lnTo>
                    <a:pt x="1300" y="236"/>
                  </a:lnTo>
                  <a:lnTo>
                    <a:pt x="1300" y="229"/>
                  </a:lnTo>
                  <a:lnTo>
                    <a:pt x="1306" y="222"/>
                  </a:lnTo>
                  <a:lnTo>
                    <a:pt x="1306" y="212"/>
                  </a:lnTo>
                  <a:lnTo>
                    <a:pt x="1313" y="205"/>
                  </a:lnTo>
                  <a:lnTo>
                    <a:pt x="1319" y="198"/>
                  </a:lnTo>
                  <a:lnTo>
                    <a:pt x="1319" y="192"/>
                  </a:lnTo>
                  <a:lnTo>
                    <a:pt x="1324" y="181"/>
                  </a:lnTo>
                  <a:lnTo>
                    <a:pt x="1324" y="174"/>
                  </a:lnTo>
                  <a:lnTo>
                    <a:pt x="1330" y="167"/>
                  </a:lnTo>
                  <a:lnTo>
                    <a:pt x="1330" y="161"/>
                  </a:lnTo>
                  <a:lnTo>
                    <a:pt x="1335" y="154"/>
                  </a:lnTo>
                  <a:lnTo>
                    <a:pt x="1335" y="146"/>
                  </a:lnTo>
                  <a:lnTo>
                    <a:pt x="1341" y="141"/>
                  </a:lnTo>
                  <a:lnTo>
                    <a:pt x="1341" y="134"/>
                  </a:lnTo>
                  <a:lnTo>
                    <a:pt x="1346" y="126"/>
                  </a:lnTo>
                  <a:lnTo>
                    <a:pt x="1346" y="119"/>
                  </a:lnTo>
                  <a:lnTo>
                    <a:pt x="1352" y="115"/>
                  </a:lnTo>
                  <a:lnTo>
                    <a:pt x="1352" y="110"/>
                  </a:lnTo>
                  <a:lnTo>
                    <a:pt x="1357" y="102"/>
                  </a:lnTo>
                  <a:lnTo>
                    <a:pt x="1357" y="99"/>
                  </a:lnTo>
                  <a:lnTo>
                    <a:pt x="1363" y="91"/>
                  </a:lnTo>
                  <a:lnTo>
                    <a:pt x="1363" y="86"/>
                  </a:lnTo>
                  <a:lnTo>
                    <a:pt x="1368" y="82"/>
                  </a:lnTo>
                  <a:lnTo>
                    <a:pt x="1368" y="75"/>
                  </a:lnTo>
                  <a:lnTo>
                    <a:pt x="1374" y="71"/>
                  </a:lnTo>
                  <a:lnTo>
                    <a:pt x="1374" y="68"/>
                  </a:lnTo>
                  <a:lnTo>
                    <a:pt x="1379" y="62"/>
                  </a:lnTo>
                  <a:lnTo>
                    <a:pt x="1379" y="59"/>
                  </a:lnTo>
                  <a:lnTo>
                    <a:pt x="1385" y="55"/>
                  </a:lnTo>
                  <a:lnTo>
                    <a:pt x="1390" y="48"/>
                  </a:lnTo>
                  <a:lnTo>
                    <a:pt x="1390" y="44"/>
                  </a:lnTo>
                  <a:lnTo>
                    <a:pt x="1397" y="40"/>
                  </a:lnTo>
                  <a:lnTo>
                    <a:pt x="1397" y="37"/>
                  </a:lnTo>
                  <a:lnTo>
                    <a:pt x="1403" y="35"/>
                  </a:lnTo>
                  <a:lnTo>
                    <a:pt x="1403" y="31"/>
                  </a:lnTo>
                  <a:lnTo>
                    <a:pt x="1408" y="27"/>
                  </a:lnTo>
                  <a:lnTo>
                    <a:pt x="1408" y="24"/>
                  </a:lnTo>
                  <a:lnTo>
                    <a:pt x="1414" y="20"/>
                  </a:lnTo>
                  <a:lnTo>
                    <a:pt x="1419" y="16"/>
                  </a:lnTo>
                  <a:lnTo>
                    <a:pt x="1425" y="13"/>
                  </a:lnTo>
                  <a:lnTo>
                    <a:pt x="1430" y="9"/>
                  </a:lnTo>
                  <a:lnTo>
                    <a:pt x="1436" y="7"/>
                  </a:lnTo>
                  <a:lnTo>
                    <a:pt x="1441" y="4"/>
                  </a:lnTo>
                  <a:lnTo>
                    <a:pt x="1447" y="0"/>
                  </a:lnTo>
                  <a:lnTo>
                    <a:pt x="1452" y="0"/>
                  </a:lnTo>
                  <a:lnTo>
                    <a:pt x="1458" y="0"/>
                  </a:lnTo>
                  <a:lnTo>
                    <a:pt x="1463" y="0"/>
                  </a:lnTo>
                  <a:lnTo>
                    <a:pt x="1469" y="0"/>
                  </a:lnTo>
                  <a:lnTo>
                    <a:pt x="1474" y="4"/>
                  </a:lnTo>
                  <a:lnTo>
                    <a:pt x="1480" y="7"/>
                  </a:lnTo>
                  <a:lnTo>
                    <a:pt x="1487" y="9"/>
                  </a:lnTo>
                  <a:lnTo>
                    <a:pt x="1493" y="13"/>
                  </a:lnTo>
                  <a:lnTo>
                    <a:pt x="1498" y="16"/>
                  </a:lnTo>
                  <a:lnTo>
                    <a:pt x="1504" y="20"/>
                  </a:lnTo>
                  <a:lnTo>
                    <a:pt x="1509" y="24"/>
                  </a:lnTo>
                  <a:lnTo>
                    <a:pt x="1509" y="27"/>
                  </a:lnTo>
                  <a:lnTo>
                    <a:pt x="1515" y="31"/>
                  </a:lnTo>
                  <a:lnTo>
                    <a:pt x="1515" y="35"/>
                  </a:lnTo>
                  <a:lnTo>
                    <a:pt x="1520" y="37"/>
                  </a:lnTo>
                  <a:lnTo>
                    <a:pt x="1520" y="40"/>
                  </a:lnTo>
                  <a:lnTo>
                    <a:pt x="1526" y="44"/>
                  </a:lnTo>
                  <a:lnTo>
                    <a:pt x="1526" y="48"/>
                  </a:lnTo>
                  <a:lnTo>
                    <a:pt x="1531" y="55"/>
                  </a:lnTo>
                  <a:lnTo>
                    <a:pt x="1537" y="59"/>
                  </a:lnTo>
                  <a:lnTo>
                    <a:pt x="1537" y="62"/>
                  </a:lnTo>
                  <a:lnTo>
                    <a:pt x="1542" y="68"/>
                  </a:lnTo>
                  <a:lnTo>
                    <a:pt x="1542" y="71"/>
                  </a:lnTo>
                  <a:lnTo>
                    <a:pt x="1548" y="75"/>
                  </a:lnTo>
                  <a:lnTo>
                    <a:pt x="1548" y="82"/>
                  </a:lnTo>
                  <a:lnTo>
                    <a:pt x="1553" y="86"/>
                  </a:lnTo>
                  <a:lnTo>
                    <a:pt x="1553" y="91"/>
                  </a:lnTo>
                  <a:lnTo>
                    <a:pt x="1559" y="99"/>
                  </a:lnTo>
                  <a:lnTo>
                    <a:pt x="1559" y="102"/>
                  </a:lnTo>
                  <a:lnTo>
                    <a:pt x="1564" y="110"/>
                  </a:lnTo>
                  <a:lnTo>
                    <a:pt x="1564" y="115"/>
                  </a:lnTo>
                  <a:lnTo>
                    <a:pt x="1570" y="119"/>
                  </a:lnTo>
                  <a:lnTo>
                    <a:pt x="1570" y="126"/>
                  </a:lnTo>
                  <a:lnTo>
                    <a:pt x="1577" y="134"/>
                  </a:lnTo>
                  <a:lnTo>
                    <a:pt x="1577" y="141"/>
                  </a:lnTo>
                  <a:lnTo>
                    <a:pt x="1582" y="146"/>
                  </a:lnTo>
                  <a:lnTo>
                    <a:pt x="1582" y="154"/>
                  </a:lnTo>
                  <a:lnTo>
                    <a:pt x="1588" y="161"/>
                  </a:lnTo>
                  <a:lnTo>
                    <a:pt x="1588" y="167"/>
                  </a:lnTo>
                  <a:lnTo>
                    <a:pt x="1593" y="174"/>
                  </a:lnTo>
                  <a:lnTo>
                    <a:pt x="1593" y="181"/>
                  </a:lnTo>
                  <a:lnTo>
                    <a:pt x="1599" y="192"/>
                  </a:lnTo>
                  <a:lnTo>
                    <a:pt x="1599" y="198"/>
                  </a:lnTo>
                  <a:lnTo>
                    <a:pt x="1604" y="205"/>
                  </a:lnTo>
                  <a:lnTo>
                    <a:pt x="1610" y="212"/>
                  </a:lnTo>
                  <a:lnTo>
                    <a:pt x="1610" y="222"/>
                  </a:lnTo>
                  <a:lnTo>
                    <a:pt x="1615" y="229"/>
                  </a:lnTo>
                  <a:lnTo>
                    <a:pt x="1615" y="236"/>
                  </a:lnTo>
                  <a:lnTo>
                    <a:pt x="1621" y="245"/>
                  </a:lnTo>
                  <a:lnTo>
                    <a:pt x="1621" y="253"/>
                  </a:lnTo>
                  <a:lnTo>
                    <a:pt x="1626" y="264"/>
                  </a:lnTo>
                  <a:lnTo>
                    <a:pt x="1626" y="271"/>
                  </a:lnTo>
                  <a:lnTo>
                    <a:pt x="1632" y="280"/>
                  </a:lnTo>
                  <a:lnTo>
                    <a:pt x="1632" y="291"/>
                  </a:lnTo>
                  <a:lnTo>
                    <a:pt x="1637" y="298"/>
                  </a:lnTo>
                  <a:lnTo>
                    <a:pt x="1637" y="308"/>
                  </a:lnTo>
                  <a:lnTo>
                    <a:pt x="1643" y="315"/>
                  </a:lnTo>
                  <a:lnTo>
                    <a:pt x="1643" y="326"/>
                  </a:lnTo>
                  <a:lnTo>
                    <a:pt x="1648" y="335"/>
                  </a:lnTo>
                  <a:lnTo>
                    <a:pt x="1648" y="346"/>
                  </a:lnTo>
                  <a:lnTo>
                    <a:pt x="1654" y="353"/>
                  </a:lnTo>
                  <a:lnTo>
                    <a:pt x="1654" y="363"/>
                  </a:lnTo>
                  <a:lnTo>
                    <a:pt x="1659" y="374"/>
                  </a:lnTo>
                  <a:lnTo>
                    <a:pt x="1659" y="383"/>
                  </a:lnTo>
                  <a:lnTo>
                    <a:pt x="1667" y="394"/>
                  </a:lnTo>
                  <a:lnTo>
                    <a:pt x="1667" y="405"/>
                  </a:lnTo>
                  <a:lnTo>
                    <a:pt x="1670" y="414"/>
                  </a:lnTo>
                  <a:lnTo>
                    <a:pt x="1670" y="425"/>
                  </a:lnTo>
                  <a:lnTo>
                    <a:pt x="1678" y="434"/>
                  </a:lnTo>
                  <a:lnTo>
                    <a:pt x="1683" y="445"/>
                  </a:lnTo>
                  <a:lnTo>
                    <a:pt x="1683" y="456"/>
                  </a:lnTo>
                  <a:lnTo>
                    <a:pt x="1689" y="465"/>
                  </a:lnTo>
                  <a:lnTo>
                    <a:pt x="1689" y="476"/>
                  </a:lnTo>
                  <a:lnTo>
                    <a:pt x="1694" y="485"/>
                  </a:lnTo>
                  <a:lnTo>
                    <a:pt x="1694" y="496"/>
                  </a:lnTo>
                  <a:lnTo>
                    <a:pt x="1700" y="507"/>
                  </a:lnTo>
                  <a:lnTo>
                    <a:pt x="1700" y="516"/>
                  </a:lnTo>
                  <a:lnTo>
                    <a:pt x="1705" y="527"/>
                  </a:lnTo>
                  <a:lnTo>
                    <a:pt x="1705" y="537"/>
                  </a:lnTo>
                  <a:lnTo>
                    <a:pt x="1711" y="548"/>
                  </a:lnTo>
                  <a:lnTo>
                    <a:pt x="1711" y="559"/>
                  </a:lnTo>
                  <a:lnTo>
                    <a:pt x="1716" y="571"/>
                  </a:lnTo>
                  <a:lnTo>
                    <a:pt x="1716" y="582"/>
                  </a:lnTo>
                  <a:lnTo>
                    <a:pt x="1722" y="592"/>
                  </a:lnTo>
                  <a:lnTo>
                    <a:pt x="1722" y="603"/>
                  </a:lnTo>
                  <a:lnTo>
                    <a:pt x="1727" y="614"/>
                  </a:lnTo>
                  <a:lnTo>
                    <a:pt x="1727" y="626"/>
                  </a:lnTo>
                  <a:lnTo>
                    <a:pt x="1733" y="637"/>
                  </a:lnTo>
                  <a:lnTo>
                    <a:pt x="1733" y="647"/>
                  </a:lnTo>
                  <a:lnTo>
                    <a:pt x="1738" y="658"/>
                  </a:lnTo>
                  <a:lnTo>
                    <a:pt x="1738" y="669"/>
                  </a:lnTo>
                  <a:lnTo>
                    <a:pt x="1744" y="681"/>
                  </a:lnTo>
                  <a:lnTo>
                    <a:pt x="1744" y="692"/>
                  </a:lnTo>
                  <a:lnTo>
                    <a:pt x="1749" y="701"/>
                  </a:lnTo>
                  <a:lnTo>
                    <a:pt x="1756" y="712"/>
                  </a:lnTo>
                  <a:lnTo>
                    <a:pt x="1756" y="723"/>
                  </a:lnTo>
                  <a:lnTo>
                    <a:pt x="1760" y="736"/>
                  </a:lnTo>
                  <a:lnTo>
                    <a:pt x="1760" y="747"/>
                  </a:lnTo>
                  <a:lnTo>
                    <a:pt x="1767" y="756"/>
                  </a:lnTo>
                  <a:lnTo>
                    <a:pt x="1767" y="767"/>
                  </a:lnTo>
                  <a:lnTo>
                    <a:pt x="1773" y="777"/>
                  </a:lnTo>
                  <a:lnTo>
                    <a:pt x="1773" y="791"/>
                  </a:lnTo>
                  <a:lnTo>
                    <a:pt x="1778" y="800"/>
                  </a:lnTo>
                  <a:lnTo>
                    <a:pt x="1778" y="811"/>
                  </a:lnTo>
                  <a:lnTo>
                    <a:pt x="1784" y="822"/>
                  </a:lnTo>
                  <a:lnTo>
                    <a:pt x="1784" y="832"/>
                  </a:lnTo>
                  <a:lnTo>
                    <a:pt x="1789" y="846"/>
                  </a:lnTo>
                  <a:lnTo>
                    <a:pt x="1789" y="855"/>
                  </a:lnTo>
                  <a:lnTo>
                    <a:pt x="1795" y="866"/>
                  </a:lnTo>
                  <a:lnTo>
                    <a:pt x="1795" y="877"/>
                  </a:lnTo>
                  <a:lnTo>
                    <a:pt x="1800" y="887"/>
                  </a:lnTo>
                  <a:lnTo>
                    <a:pt x="1800" y="898"/>
                  </a:lnTo>
                  <a:lnTo>
                    <a:pt x="1806" y="907"/>
                  </a:lnTo>
                  <a:lnTo>
                    <a:pt x="1806" y="918"/>
                  </a:lnTo>
                  <a:lnTo>
                    <a:pt x="1811" y="929"/>
                  </a:lnTo>
                  <a:lnTo>
                    <a:pt x="1811" y="938"/>
                  </a:lnTo>
                  <a:lnTo>
                    <a:pt x="1817" y="949"/>
                  </a:lnTo>
                  <a:lnTo>
                    <a:pt x="1817" y="958"/>
                  </a:lnTo>
                  <a:lnTo>
                    <a:pt x="1822" y="969"/>
                  </a:lnTo>
                  <a:lnTo>
                    <a:pt x="1828" y="980"/>
                  </a:lnTo>
                  <a:lnTo>
                    <a:pt x="1828" y="989"/>
                  </a:lnTo>
                  <a:lnTo>
                    <a:pt x="1833" y="1000"/>
                  </a:lnTo>
                  <a:lnTo>
                    <a:pt x="1833" y="1011"/>
                  </a:lnTo>
                  <a:lnTo>
                    <a:pt x="1839" y="1020"/>
                  </a:lnTo>
                  <a:lnTo>
                    <a:pt x="1839" y="1031"/>
                  </a:lnTo>
                  <a:lnTo>
                    <a:pt x="1846" y="1040"/>
                  </a:lnTo>
                  <a:lnTo>
                    <a:pt x="1846" y="1051"/>
                  </a:lnTo>
                  <a:lnTo>
                    <a:pt x="1850" y="1059"/>
                  </a:lnTo>
                  <a:lnTo>
                    <a:pt x="1850" y="1068"/>
                  </a:lnTo>
                  <a:lnTo>
                    <a:pt x="1857" y="1079"/>
                  </a:lnTo>
                  <a:lnTo>
                    <a:pt x="1857" y="1090"/>
                  </a:lnTo>
                  <a:lnTo>
                    <a:pt x="1863" y="1095"/>
                  </a:lnTo>
                  <a:lnTo>
                    <a:pt x="1863" y="1106"/>
                  </a:lnTo>
                  <a:lnTo>
                    <a:pt x="1868" y="1114"/>
                  </a:lnTo>
                  <a:lnTo>
                    <a:pt x="1868" y="1123"/>
                  </a:lnTo>
                  <a:lnTo>
                    <a:pt x="1874" y="1134"/>
                  </a:lnTo>
                  <a:lnTo>
                    <a:pt x="1874" y="1141"/>
                  </a:lnTo>
                  <a:lnTo>
                    <a:pt x="1879" y="1150"/>
                  </a:lnTo>
                  <a:lnTo>
                    <a:pt x="1879" y="1158"/>
                  </a:lnTo>
                  <a:lnTo>
                    <a:pt x="1885" y="1169"/>
                  </a:lnTo>
                  <a:lnTo>
                    <a:pt x="1885" y="1174"/>
                  </a:lnTo>
                  <a:lnTo>
                    <a:pt x="1890" y="1181"/>
                  </a:lnTo>
                  <a:lnTo>
                    <a:pt x="1890" y="1192"/>
                  </a:lnTo>
                  <a:lnTo>
                    <a:pt x="1896" y="1198"/>
                  </a:lnTo>
                  <a:lnTo>
                    <a:pt x="1901" y="1205"/>
                  </a:lnTo>
                  <a:lnTo>
                    <a:pt x="1901" y="1213"/>
                  </a:lnTo>
                  <a:lnTo>
                    <a:pt x="1907" y="1222"/>
                  </a:lnTo>
                  <a:lnTo>
                    <a:pt x="1907" y="1229"/>
                  </a:lnTo>
                  <a:lnTo>
                    <a:pt x="1912" y="1236"/>
                  </a:lnTo>
                  <a:lnTo>
                    <a:pt x="1912" y="1244"/>
                  </a:lnTo>
                  <a:lnTo>
                    <a:pt x="1918" y="1249"/>
                  </a:lnTo>
                  <a:lnTo>
                    <a:pt x="1918" y="1257"/>
                  </a:lnTo>
                  <a:lnTo>
                    <a:pt x="1923" y="1264"/>
                  </a:lnTo>
                  <a:lnTo>
                    <a:pt x="1923" y="1271"/>
                  </a:lnTo>
                  <a:lnTo>
                    <a:pt x="1929" y="1277"/>
                  </a:lnTo>
                  <a:lnTo>
                    <a:pt x="1929" y="1284"/>
                  </a:lnTo>
                  <a:lnTo>
                    <a:pt x="1936" y="1288"/>
                  </a:lnTo>
                  <a:lnTo>
                    <a:pt x="1936" y="1295"/>
                  </a:lnTo>
                  <a:lnTo>
                    <a:pt x="1940" y="1302"/>
                  </a:lnTo>
                  <a:lnTo>
                    <a:pt x="1940" y="1304"/>
                  </a:lnTo>
                  <a:lnTo>
                    <a:pt x="1947" y="1312"/>
                  </a:lnTo>
                  <a:lnTo>
                    <a:pt x="1947" y="1319"/>
                  </a:lnTo>
                  <a:lnTo>
                    <a:pt x="1952" y="1323"/>
                  </a:lnTo>
                  <a:lnTo>
                    <a:pt x="1952" y="1330"/>
                  </a:lnTo>
                  <a:lnTo>
                    <a:pt x="1958" y="1332"/>
                  </a:lnTo>
                  <a:lnTo>
                    <a:pt x="1958" y="1335"/>
                  </a:lnTo>
                  <a:lnTo>
                    <a:pt x="1963" y="1343"/>
                  </a:lnTo>
                  <a:lnTo>
                    <a:pt x="1963" y="1346"/>
                  </a:lnTo>
                  <a:lnTo>
                    <a:pt x="1969" y="1350"/>
                  </a:lnTo>
                  <a:lnTo>
                    <a:pt x="1974" y="1357"/>
                  </a:lnTo>
                  <a:lnTo>
                    <a:pt x="1974" y="1359"/>
                  </a:lnTo>
                  <a:lnTo>
                    <a:pt x="1980" y="1363"/>
                  </a:lnTo>
                  <a:lnTo>
                    <a:pt x="1980" y="1366"/>
                  </a:lnTo>
                  <a:lnTo>
                    <a:pt x="1985" y="1370"/>
                  </a:lnTo>
                  <a:lnTo>
                    <a:pt x="1985" y="1374"/>
                  </a:lnTo>
                  <a:lnTo>
                    <a:pt x="1991" y="1377"/>
                  </a:lnTo>
                  <a:lnTo>
                    <a:pt x="1991" y="1381"/>
                  </a:lnTo>
                  <a:lnTo>
                    <a:pt x="1996" y="1383"/>
                  </a:lnTo>
                  <a:lnTo>
                    <a:pt x="2002" y="1387"/>
                  </a:lnTo>
                  <a:lnTo>
                    <a:pt x="2007" y="1390"/>
                  </a:lnTo>
                  <a:lnTo>
                    <a:pt x="2013" y="1394"/>
                  </a:lnTo>
                  <a:lnTo>
                    <a:pt x="2018" y="1398"/>
                  </a:lnTo>
                  <a:lnTo>
                    <a:pt x="2026" y="1401"/>
                  </a:lnTo>
                  <a:lnTo>
                    <a:pt x="2029" y="1405"/>
                  </a:lnTo>
                  <a:lnTo>
                    <a:pt x="2037" y="1405"/>
                  </a:lnTo>
                  <a:lnTo>
                    <a:pt x="2042" y="1405"/>
                  </a:lnTo>
                  <a:lnTo>
                    <a:pt x="2048" y="1405"/>
                  </a:lnTo>
                  <a:lnTo>
                    <a:pt x="2053" y="1405"/>
                  </a:lnTo>
                  <a:lnTo>
                    <a:pt x="2059" y="1401"/>
                  </a:lnTo>
                  <a:lnTo>
                    <a:pt x="2064" y="1398"/>
                  </a:lnTo>
                  <a:lnTo>
                    <a:pt x="2070" y="1394"/>
                  </a:lnTo>
                  <a:lnTo>
                    <a:pt x="2075" y="1390"/>
                  </a:lnTo>
                  <a:lnTo>
                    <a:pt x="2081" y="1387"/>
                  </a:lnTo>
                  <a:lnTo>
                    <a:pt x="2086" y="1383"/>
                  </a:lnTo>
                  <a:lnTo>
                    <a:pt x="2092" y="1381"/>
                  </a:lnTo>
                  <a:lnTo>
                    <a:pt x="2092" y="1377"/>
                  </a:lnTo>
                  <a:lnTo>
                    <a:pt x="2097" y="1374"/>
                  </a:lnTo>
                  <a:lnTo>
                    <a:pt x="2097" y="1370"/>
                  </a:lnTo>
                  <a:lnTo>
                    <a:pt x="2103" y="1366"/>
                  </a:lnTo>
                  <a:lnTo>
                    <a:pt x="2103" y="1363"/>
                  </a:lnTo>
                  <a:lnTo>
                    <a:pt x="2108" y="1359"/>
                  </a:lnTo>
                  <a:lnTo>
                    <a:pt x="2108" y="1357"/>
                  </a:lnTo>
                  <a:lnTo>
                    <a:pt x="2115" y="1350"/>
                  </a:lnTo>
                  <a:lnTo>
                    <a:pt x="2119" y="1346"/>
                  </a:lnTo>
                  <a:lnTo>
                    <a:pt x="2119" y="1343"/>
                  </a:lnTo>
                  <a:lnTo>
                    <a:pt x="2126" y="1335"/>
                  </a:lnTo>
                  <a:lnTo>
                    <a:pt x="2126" y="1332"/>
                  </a:lnTo>
                  <a:lnTo>
                    <a:pt x="2132" y="1330"/>
                  </a:lnTo>
                  <a:lnTo>
                    <a:pt x="2132" y="1323"/>
                  </a:lnTo>
                  <a:lnTo>
                    <a:pt x="2137" y="1319"/>
                  </a:lnTo>
                  <a:lnTo>
                    <a:pt x="2137" y="1312"/>
                  </a:lnTo>
                  <a:lnTo>
                    <a:pt x="2143" y="1304"/>
                  </a:lnTo>
                  <a:lnTo>
                    <a:pt x="2143" y="1302"/>
                  </a:lnTo>
                  <a:lnTo>
                    <a:pt x="2148" y="1295"/>
                  </a:lnTo>
                  <a:lnTo>
                    <a:pt x="2148" y="1288"/>
                  </a:lnTo>
                  <a:lnTo>
                    <a:pt x="2154" y="1284"/>
                  </a:lnTo>
                  <a:lnTo>
                    <a:pt x="2154" y="1277"/>
                  </a:lnTo>
                  <a:lnTo>
                    <a:pt x="2159" y="1271"/>
                  </a:lnTo>
                  <a:lnTo>
                    <a:pt x="2159" y="1264"/>
                  </a:lnTo>
                  <a:lnTo>
                    <a:pt x="2165" y="1257"/>
                  </a:lnTo>
                  <a:lnTo>
                    <a:pt x="2165" y="1249"/>
                  </a:lnTo>
                  <a:lnTo>
                    <a:pt x="2170" y="1244"/>
                  </a:lnTo>
                  <a:lnTo>
                    <a:pt x="2170" y="1236"/>
                  </a:lnTo>
                  <a:lnTo>
                    <a:pt x="2176" y="1229"/>
                  </a:lnTo>
                  <a:lnTo>
                    <a:pt x="2176" y="1222"/>
                  </a:lnTo>
                  <a:lnTo>
                    <a:pt x="2181" y="1213"/>
                  </a:lnTo>
                  <a:lnTo>
                    <a:pt x="2181" y="1205"/>
                  </a:lnTo>
                  <a:lnTo>
                    <a:pt x="2187" y="1198"/>
                  </a:lnTo>
                  <a:lnTo>
                    <a:pt x="2192" y="1192"/>
                  </a:lnTo>
                  <a:lnTo>
                    <a:pt x="2192" y="1181"/>
                  </a:lnTo>
                  <a:lnTo>
                    <a:pt x="2198" y="1174"/>
                  </a:lnTo>
                  <a:lnTo>
                    <a:pt x="2198" y="1169"/>
                  </a:lnTo>
                  <a:lnTo>
                    <a:pt x="2205" y="1158"/>
                  </a:lnTo>
                  <a:lnTo>
                    <a:pt x="2205" y="1150"/>
                  </a:lnTo>
                  <a:lnTo>
                    <a:pt x="2209" y="1141"/>
                  </a:lnTo>
                  <a:lnTo>
                    <a:pt x="2209" y="1134"/>
                  </a:lnTo>
                  <a:lnTo>
                    <a:pt x="2216" y="1123"/>
                  </a:lnTo>
                  <a:lnTo>
                    <a:pt x="2216" y="1114"/>
                  </a:lnTo>
                  <a:lnTo>
                    <a:pt x="2222" y="1106"/>
                  </a:lnTo>
                  <a:lnTo>
                    <a:pt x="2222" y="1095"/>
                  </a:lnTo>
                  <a:lnTo>
                    <a:pt x="2227" y="1090"/>
                  </a:lnTo>
                  <a:lnTo>
                    <a:pt x="2227" y="1079"/>
                  </a:lnTo>
                  <a:lnTo>
                    <a:pt x="2233" y="1068"/>
                  </a:lnTo>
                  <a:lnTo>
                    <a:pt x="2233" y="1059"/>
                  </a:lnTo>
                  <a:lnTo>
                    <a:pt x="2238" y="1051"/>
                  </a:lnTo>
                  <a:lnTo>
                    <a:pt x="2238" y="1040"/>
                  </a:lnTo>
                  <a:lnTo>
                    <a:pt x="2244" y="1031"/>
                  </a:lnTo>
                  <a:lnTo>
                    <a:pt x="2244" y="1020"/>
                  </a:lnTo>
                  <a:lnTo>
                    <a:pt x="2249" y="1011"/>
                  </a:lnTo>
                  <a:lnTo>
                    <a:pt x="2249" y="1000"/>
                  </a:lnTo>
                  <a:lnTo>
                    <a:pt x="2255" y="989"/>
                  </a:lnTo>
                  <a:lnTo>
                    <a:pt x="2255" y="980"/>
                  </a:lnTo>
                  <a:lnTo>
                    <a:pt x="2260" y="969"/>
                  </a:lnTo>
                  <a:lnTo>
                    <a:pt x="2266" y="958"/>
                  </a:lnTo>
                  <a:lnTo>
                    <a:pt x="2266" y="949"/>
                  </a:lnTo>
                  <a:lnTo>
                    <a:pt x="2271" y="938"/>
                  </a:lnTo>
                  <a:lnTo>
                    <a:pt x="2271" y="929"/>
                  </a:lnTo>
                  <a:lnTo>
                    <a:pt x="2277" y="918"/>
                  </a:lnTo>
                  <a:lnTo>
                    <a:pt x="2277" y="907"/>
                  </a:lnTo>
                  <a:lnTo>
                    <a:pt x="2282" y="898"/>
                  </a:lnTo>
                  <a:lnTo>
                    <a:pt x="2282" y="887"/>
                  </a:lnTo>
                  <a:lnTo>
                    <a:pt x="2288" y="877"/>
                  </a:lnTo>
                  <a:lnTo>
                    <a:pt x="2288" y="866"/>
                  </a:lnTo>
                  <a:lnTo>
                    <a:pt x="2293" y="855"/>
                  </a:lnTo>
                  <a:lnTo>
                    <a:pt x="2293" y="846"/>
                  </a:lnTo>
                  <a:lnTo>
                    <a:pt x="2299" y="832"/>
                  </a:lnTo>
                  <a:lnTo>
                    <a:pt x="2299" y="822"/>
                  </a:lnTo>
                  <a:lnTo>
                    <a:pt x="2306" y="811"/>
                  </a:lnTo>
                  <a:lnTo>
                    <a:pt x="2306" y="800"/>
                  </a:lnTo>
                  <a:lnTo>
                    <a:pt x="2311" y="791"/>
                  </a:lnTo>
                  <a:lnTo>
                    <a:pt x="2311" y="777"/>
                  </a:lnTo>
                  <a:lnTo>
                    <a:pt x="2317" y="767"/>
                  </a:lnTo>
                  <a:lnTo>
                    <a:pt x="2317" y="756"/>
                  </a:lnTo>
                  <a:lnTo>
                    <a:pt x="2322" y="747"/>
                  </a:lnTo>
                  <a:lnTo>
                    <a:pt x="2322" y="736"/>
                  </a:lnTo>
                  <a:lnTo>
                    <a:pt x="2328" y="723"/>
                  </a:lnTo>
                  <a:lnTo>
                    <a:pt x="2328" y="712"/>
                  </a:lnTo>
                  <a:lnTo>
                    <a:pt x="2333" y="701"/>
                  </a:lnTo>
                  <a:lnTo>
                    <a:pt x="2339" y="692"/>
                  </a:lnTo>
                  <a:lnTo>
                    <a:pt x="2339" y="681"/>
                  </a:lnTo>
                  <a:lnTo>
                    <a:pt x="2344" y="669"/>
                  </a:lnTo>
                  <a:lnTo>
                    <a:pt x="2344" y="658"/>
                  </a:lnTo>
                  <a:lnTo>
                    <a:pt x="2350" y="647"/>
                  </a:lnTo>
                  <a:lnTo>
                    <a:pt x="2350" y="637"/>
                  </a:lnTo>
                  <a:lnTo>
                    <a:pt x="2355" y="626"/>
                  </a:lnTo>
                  <a:lnTo>
                    <a:pt x="2355" y="614"/>
                  </a:lnTo>
                  <a:lnTo>
                    <a:pt x="2361" y="603"/>
                  </a:lnTo>
                  <a:lnTo>
                    <a:pt x="2361" y="592"/>
                  </a:lnTo>
                  <a:lnTo>
                    <a:pt x="2366" y="582"/>
                  </a:lnTo>
                  <a:lnTo>
                    <a:pt x="2366" y="571"/>
                  </a:lnTo>
                  <a:lnTo>
                    <a:pt x="2372" y="559"/>
                  </a:lnTo>
                  <a:lnTo>
                    <a:pt x="2372" y="548"/>
                  </a:lnTo>
                  <a:lnTo>
                    <a:pt x="2377" y="537"/>
                  </a:lnTo>
                  <a:lnTo>
                    <a:pt x="2377" y="527"/>
                  </a:lnTo>
                  <a:lnTo>
                    <a:pt x="2383" y="516"/>
                  </a:lnTo>
                  <a:lnTo>
                    <a:pt x="2383" y="507"/>
                  </a:lnTo>
                  <a:lnTo>
                    <a:pt x="2388" y="496"/>
                  </a:lnTo>
                  <a:lnTo>
                    <a:pt x="2388" y="485"/>
                  </a:lnTo>
                  <a:lnTo>
                    <a:pt x="2396" y="476"/>
                  </a:lnTo>
                  <a:lnTo>
                    <a:pt x="2396" y="465"/>
                  </a:lnTo>
                  <a:lnTo>
                    <a:pt x="2401" y="456"/>
                  </a:lnTo>
                  <a:lnTo>
                    <a:pt x="2401" y="445"/>
                  </a:lnTo>
                  <a:lnTo>
                    <a:pt x="2407" y="434"/>
                  </a:lnTo>
                  <a:lnTo>
                    <a:pt x="2412" y="425"/>
                  </a:lnTo>
                  <a:lnTo>
                    <a:pt x="2412" y="414"/>
                  </a:lnTo>
                  <a:lnTo>
                    <a:pt x="2418" y="405"/>
                  </a:lnTo>
                  <a:lnTo>
                    <a:pt x="2418" y="394"/>
                  </a:lnTo>
                  <a:lnTo>
                    <a:pt x="2423" y="383"/>
                  </a:lnTo>
                  <a:lnTo>
                    <a:pt x="2423" y="374"/>
                  </a:lnTo>
                  <a:lnTo>
                    <a:pt x="2429" y="363"/>
                  </a:lnTo>
                  <a:lnTo>
                    <a:pt x="2429" y="353"/>
                  </a:lnTo>
                  <a:lnTo>
                    <a:pt x="2434" y="346"/>
                  </a:lnTo>
                  <a:lnTo>
                    <a:pt x="2434" y="335"/>
                  </a:lnTo>
                  <a:lnTo>
                    <a:pt x="2440" y="326"/>
                  </a:lnTo>
                  <a:lnTo>
                    <a:pt x="2440" y="315"/>
                  </a:lnTo>
                  <a:lnTo>
                    <a:pt x="2445" y="308"/>
                  </a:lnTo>
                  <a:lnTo>
                    <a:pt x="2445" y="298"/>
                  </a:lnTo>
                  <a:lnTo>
                    <a:pt x="2451" y="291"/>
                  </a:lnTo>
                  <a:lnTo>
                    <a:pt x="2451" y="280"/>
                  </a:lnTo>
                  <a:lnTo>
                    <a:pt x="2456" y="271"/>
                  </a:lnTo>
                  <a:lnTo>
                    <a:pt x="2456" y="264"/>
                  </a:lnTo>
                  <a:lnTo>
                    <a:pt x="2462" y="253"/>
                  </a:lnTo>
                  <a:lnTo>
                    <a:pt x="2462" y="245"/>
                  </a:lnTo>
                  <a:lnTo>
                    <a:pt x="2467" y="236"/>
                  </a:lnTo>
                  <a:lnTo>
                    <a:pt x="2467" y="229"/>
                  </a:lnTo>
                  <a:lnTo>
                    <a:pt x="2473" y="222"/>
                  </a:lnTo>
                  <a:lnTo>
                    <a:pt x="2473" y="212"/>
                  </a:lnTo>
                  <a:lnTo>
                    <a:pt x="2478" y="205"/>
                  </a:lnTo>
                  <a:lnTo>
                    <a:pt x="2485" y="198"/>
                  </a:lnTo>
                  <a:lnTo>
                    <a:pt x="2485" y="192"/>
                  </a:lnTo>
                  <a:lnTo>
                    <a:pt x="2491" y="181"/>
                  </a:lnTo>
                  <a:lnTo>
                    <a:pt x="2491" y="174"/>
                  </a:lnTo>
                  <a:lnTo>
                    <a:pt x="2496" y="167"/>
                  </a:lnTo>
                  <a:lnTo>
                    <a:pt x="2496" y="161"/>
                  </a:lnTo>
                  <a:lnTo>
                    <a:pt x="2502" y="154"/>
                  </a:lnTo>
                  <a:lnTo>
                    <a:pt x="2502" y="146"/>
                  </a:lnTo>
                  <a:lnTo>
                    <a:pt x="2507" y="141"/>
                  </a:lnTo>
                  <a:lnTo>
                    <a:pt x="2507" y="134"/>
                  </a:lnTo>
                  <a:lnTo>
                    <a:pt x="2513" y="126"/>
                  </a:lnTo>
                  <a:lnTo>
                    <a:pt x="2513" y="119"/>
                  </a:lnTo>
                  <a:lnTo>
                    <a:pt x="2518" y="115"/>
                  </a:lnTo>
                  <a:lnTo>
                    <a:pt x="2518" y="110"/>
                  </a:lnTo>
                  <a:lnTo>
                    <a:pt x="2524" y="102"/>
                  </a:lnTo>
                  <a:lnTo>
                    <a:pt x="2524" y="99"/>
                  </a:lnTo>
                  <a:lnTo>
                    <a:pt x="2529" y="91"/>
                  </a:lnTo>
                  <a:lnTo>
                    <a:pt x="2529" y="86"/>
                  </a:lnTo>
                  <a:lnTo>
                    <a:pt x="2535" y="82"/>
                  </a:lnTo>
                  <a:lnTo>
                    <a:pt x="2535" y="75"/>
                  </a:lnTo>
                  <a:lnTo>
                    <a:pt x="2540" y="71"/>
                  </a:lnTo>
                  <a:lnTo>
                    <a:pt x="2540" y="68"/>
                  </a:lnTo>
                  <a:lnTo>
                    <a:pt x="2546" y="62"/>
                  </a:lnTo>
                  <a:lnTo>
                    <a:pt x="2546" y="59"/>
                  </a:lnTo>
                  <a:lnTo>
                    <a:pt x="2551" y="55"/>
                  </a:lnTo>
                  <a:lnTo>
                    <a:pt x="2557" y="48"/>
                  </a:lnTo>
                  <a:lnTo>
                    <a:pt x="2557" y="44"/>
                  </a:lnTo>
                  <a:lnTo>
                    <a:pt x="2562" y="40"/>
                  </a:lnTo>
                  <a:lnTo>
                    <a:pt x="2562" y="37"/>
                  </a:lnTo>
                  <a:lnTo>
                    <a:pt x="2568" y="35"/>
                  </a:lnTo>
                  <a:lnTo>
                    <a:pt x="2568" y="31"/>
                  </a:lnTo>
                  <a:lnTo>
                    <a:pt x="2575" y="27"/>
                  </a:lnTo>
                  <a:lnTo>
                    <a:pt x="2575" y="24"/>
                  </a:lnTo>
                  <a:lnTo>
                    <a:pt x="2581" y="20"/>
                  </a:lnTo>
                  <a:lnTo>
                    <a:pt x="2586" y="16"/>
                  </a:lnTo>
                  <a:lnTo>
                    <a:pt x="2592" y="13"/>
                  </a:lnTo>
                  <a:lnTo>
                    <a:pt x="2597" y="9"/>
                  </a:lnTo>
                  <a:lnTo>
                    <a:pt x="2603" y="7"/>
                  </a:lnTo>
                  <a:lnTo>
                    <a:pt x="2608" y="4"/>
                  </a:lnTo>
                  <a:lnTo>
                    <a:pt x="2614" y="0"/>
                  </a:lnTo>
                  <a:lnTo>
                    <a:pt x="2619" y="0"/>
                  </a:lnTo>
                  <a:lnTo>
                    <a:pt x="2625" y="0"/>
                  </a:lnTo>
                  <a:lnTo>
                    <a:pt x="2630" y="0"/>
                  </a:lnTo>
                  <a:lnTo>
                    <a:pt x="2636" y="0"/>
                  </a:lnTo>
                  <a:lnTo>
                    <a:pt x="2641" y="4"/>
                  </a:lnTo>
                  <a:lnTo>
                    <a:pt x="2647" y="7"/>
                  </a:lnTo>
                  <a:lnTo>
                    <a:pt x="2652" y="9"/>
                  </a:lnTo>
                  <a:lnTo>
                    <a:pt x="2658" y="13"/>
                  </a:lnTo>
                  <a:lnTo>
                    <a:pt x="2665" y="16"/>
                  </a:lnTo>
                  <a:lnTo>
                    <a:pt x="2670" y="20"/>
                  </a:lnTo>
                  <a:lnTo>
                    <a:pt x="2676" y="24"/>
                  </a:lnTo>
                  <a:lnTo>
                    <a:pt x="2676" y="27"/>
                  </a:lnTo>
                  <a:lnTo>
                    <a:pt x="2681" y="31"/>
                  </a:lnTo>
                  <a:lnTo>
                    <a:pt x="2681" y="35"/>
                  </a:lnTo>
                  <a:lnTo>
                    <a:pt x="2687" y="37"/>
                  </a:lnTo>
                  <a:lnTo>
                    <a:pt x="2687" y="40"/>
                  </a:lnTo>
                  <a:lnTo>
                    <a:pt x="2692" y="44"/>
                  </a:lnTo>
                  <a:lnTo>
                    <a:pt x="2692" y="48"/>
                  </a:lnTo>
                  <a:lnTo>
                    <a:pt x="2698" y="55"/>
                  </a:lnTo>
                  <a:lnTo>
                    <a:pt x="2703" y="59"/>
                  </a:lnTo>
                  <a:lnTo>
                    <a:pt x="2703" y="62"/>
                  </a:lnTo>
                  <a:lnTo>
                    <a:pt x="2709" y="68"/>
                  </a:lnTo>
                  <a:lnTo>
                    <a:pt x="2709" y="71"/>
                  </a:lnTo>
                  <a:lnTo>
                    <a:pt x="2714" y="75"/>
                  </a:lnTo>
                  <a:lnTo>
                    <a:pt x="2714" y="82"/>
                  </a:lnTo>
                  <a:lnTo>
                    <a:pt x="2720" y="86"/>
                  </a:lnTo>
                  <a:lnTo>
                    <a:pt x="2720" y="91"/>
                  </a:lnTo>
                  <a:lnTo>
                    <a:pt x="2725" y="99"/>
                  </a:lnTo>
                  <a:lnTo>
                    <a:pt x="2725" y="102"/>
                  </a:lnTo>
                  <a:lnTo>
                    <a:pt x="2731" y="110"/>
                  </a:lnTo>
                  <a:lnTo>
                    <a:pt x="2731" y="115"/>
                  </a:lnTo>
                  <a:lnTo>
                    <a:pt x="2736" y="119"/>
                  </a:lnTo>
                  <a:lnTo>
                    <a:pt x="2736" y="126"/>
                  </a:lnTo>
                  <a:lnTo>
                    <a:pt x="2742" y="134"/>
                  </a:lnTo>
                  <a:lnTo>
                    <a:pt x="2742" y="141"/>
                  </a:lnTo>
                  <a:lnTo>
                    <a:pt x="2747" y="146"/>
                  </a:lnTo>
                  <a:lnTo>
                    <a:pt x="2747" y="154"/>
                  </a:lnTo>
                  <a:lnTo>
                    <a:pt x="2753" y="161"/>
                  </a:lnTo>
                  <a:lnTo>
                    <a:pt x="2753" y="167"/>
                  </a:lnTo>
                  <a:lnTo>
                    <a:pt x="2760" y="174"/>
                  </a:lnTo>
                  <a:lnTo>
                    <a:pt x="2760" y="181"/>
                  </a:lnTo>
                  <a:lnTo>
                    <a:pt x="2766" y="192"/>
                  </a:lnTo>
                  <a:lnTo>
                    <a:pt x="2766" y="198"/>
                  </a:lnTo>
                  <a:lnTo>
                    <a:pt x="2771" y="205"/>
                  </a:lnTo>
                  <a:lnTo>
                    <a:pt x="2777" y="212"/>
                  </a:lnTo>
                  <a:lnTo>
                    <a:pt x="2777" y="222"/>
                  </a:lnTo>
                  <a:lnTo>
                    <a:pt x="2782" y="229"/>
                  </a:lnTo>
                  <a:lnTo>
                    <a:pt x="2782" y="236"/>
                  </a:lnTo>
                  <a:lnTo>
                    <a:pt x="2788" y="245"/>
                  </a:lnTo>
                  <a:lnTo>
                    <a:pt x="2788" y="253"/>
                  </a:lnTo>
                  <a:lnTo>
                    <a:pt x="2793" y="264"/>
                  </a:lnTo>
                  <a:lnTo>
                    <a:pt x="2793" y="271"/>
                  </a:lnTo>
                  <a:lnTo>
                    <a:pt x="2799" y="280"/>
                  </a:lnTo>
                  <a:lnTo>
                    <a:pt x="2799" y="291"/>
                  </a:lnTo>
                  <a:lnTo>
                    <a:pt x="2804" y="298"/>
                  </a:lnTo>
                  <a:lnTo>
                    <a:pt x="2804" y="308"/>
                  </a:lnTo>
                  <a:lnTo>
                    <a:pt x="2810" y="315"/>
                  </a:lnTo>
                  <a:lnTo>
                    <a:pt x="2810" y="326"/>
                  </a:lnTo>
                  <a:lnTo>
                    <a:pt x="2815" y="335"/>
                  </a:lnTo>
                  <a:lnTo>
                    <a:pt x="2815" y="346"/>
                  </a:lnTo>
                  <a:lnTo>
                    <a:pt x="2821" y="353"/>
                  </a:lnTo>
                  <a:lnTo>
                    <a:pt x="2821" y="363"/>
                  </a:lnTo>
                  <a:lnTo>
                    <a:pt x="2826" y="374"/>
                  </a:lnTo>
                  <a:lnTo>
                    <a:pt x="2826" y="383"/>
                  </a:lnTo>
                  <a:lnTo>
                    <a:pt x="2832" y="394"/>
                  </a:lnTo>
                  <a:lnTo>
                    <a:pt x="2832" y="405"/>
                  </a:lnTo>
                  <a:lnTo>
                    <a:pt x="2839" y="414"/>
                  </a:lnTo>
                  <a:lnTo>
                    <a:pt x="2839" y="425"/>
                  </a:lnTo>
                  <a:lnTo>
                    <a:pt x="2843" y="434"/>
                  </a:lnTo>
                  <a:lnTo>
                    <a:pt x="2850" y="445"/>
                  </a:lnTo>
                  <a:lnTo>
                    <a:pt x="2850" y="456"/>
                  </a:lnTo>
                  <a:lnTo>
                    <a:pt x="2856" y="465"/>
                  </a:lnTo>
                  <a:lnTo>
                    <a:pt x="2856" y="476"/>
                  </a:lnTo>
                  <a:lnTo>
                    <a:pt x="2861" y="485"/>
                  </a:lnTo>
                  <a:lnTo>
                    <a:pt x="2861" y="496"/>
                  </a:lnTo>
                  <a:lnTo>
                    <a:pt x="2867" y="507"/>
                  </a:lnTo>
                  <a:lnTo>
                    <a:pt x="2867" y="516"/>
                  </a:lnTo>
                  <a:lnTo>
                    <a:pt x="2872" y="527"/>
                  </a:lnTo>
                  <a:lnTo>
                    <a:pt x="2872" y="537"/>
                  </a:lnTo>
                  <a:lnTo>
                    <a:pt x="2878" y="548"/>
                  </a:lnTo>
                  <a:lnTo>
                    <a:pt x="2878" y="559"/>
                  </a:lnTo>
                  <a:lnTo>
                    <a:pt x="2883" y="571"/>
                  </a:lnTo>
                  <a:lnTo>
                    <a:pt x="2883" y="582"/>
                  </a:lnTo>
                  <a:lnTo>
                    <a:pt x="2888" y="592"/>
                  </a:lnTo>
                  <a:lnTo>
                    <a:pt x="2888" y="603"/>
                  </a:lnTo>
                  <a:lnTo>
                    <a:pt x="2894" y="614"/>
                  </a:lnTo>
                  <a:lnTo>
                    <a:pt x="2894" y="626"/>
                  </a:lnTo>
                  <a:lnTo>
                    <a:pt x="2899" y="637"/>
                  </a:lnTo>
                  <a:lnTo>
                    <a:pt x="2899" y="647"/>
                  </a:lnTo>
                  <a:lnTo>
                    <a:pt x="2905" y="658"/>
                  </a:lnTo>
                  <a:lnTo>
                    <a:pt x="2905" y="669"/>
                  </a:lnTo>
                  <a:lnTo>
                    <a:pt x="2910" y="681"/>
                  </a:lnTo>
                  <a:lnTo>
                    <a:pt x="2910" y="692"/>
                  </a:lnTo>
                  <a:lnTo>
                    <a:pt x="2916" y="70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5"/>
            <p:cNvSpPr/>
            <p:nvPr/>
          </p:nvSpPr>
          <p:spPr>
            <a:xfrm>
              <a:off x="3795840" y="5141880"/>
              <a:ext cx="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6"/>
            <p:cNvSpPr/>
            <p:nvPr/>
          </p:nvSpPr>
          <p:spPr>
            <a:xfrm>
              <a:off x="4940280" y="5156280"/>
              <a:ext cx="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07"/>
            <p:cNvSpPr/>
            <p:nvPr/>
          </p:nvSpPr>
          <p:spPr>
            <a:xfrm>
              <a:off x="3803760" y="6134400"/>
              <a:ext cx="11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208"/>
                <p:cNvSpPr txBox="1"/>
                <p:nvPr/>
              </p:nvSpPr>
              <p:spPr>
                <a:xfrm>
                  <a:off x="4276800" y="5937480"/>
                  <a:ext cx="19836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Line 209"/>
            <p:cNvSpPr/>
            <p:nvPr/>
          </p:nvSpPr>
          <p:spPr>
            <a:xfrm>
              <a:off x="4649760" y="4381560"/>
              <a:ext cx="0" cy="76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Object 210"/>
                <p:cNvSpPr txBox="1"/>
                <p:nvPr/>
              </p:nvSpPr>
              <p:spPr>
                <a:xfrm>
                  <a:off x="4446720" y="4635360"/>
                  <a:ext cx="2523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" name="Object 211"/>
                <p:cNvSpPr txBox="1"/>
                <p:nvPr/>
              </p:nvSpPr>
              <p:spPr>
                <a:xfrm>
                  <a:off x="6202440" y="5222880"/>
                  <a:ext cx="14904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Object 212"/>
                <p:cNvSpPr txBox="1"/>
                <p:nvPr/>
              </p:nvSpPr>
              <p:spPr>
                <a:xfrm>
                  <a:off x="3166920" y="3790800"/>
                  <a:ext cx="21888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" name="Text Box 42"/>
          <p:cNvSpPr/>
          <p:nvPr/>
        </p:nvSpPr>
        <p:spPr>
          <a:xfrm>
            <a:off x="1801800" y="28584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amped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0"/>
              <p:cNvSpPr txBox="1"/>
              <p:nvPr/>
            </p:nvSpPr>
            <p:spPr>
              <a:xfrm>
                <a:off x="5662440" y="382680"/>
                <a:ext cx="17402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K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57"/>
          <p:cNvGrpSpPr/>
          <p:nvPr/>
        </p:nvGrpSpPr>
        <p:grpSpPr>
          <a:xfrm>
            <a:off x="1144080" y="1073160"/>
            <a:ext cx="2234160" cy="1925640"/>
            <a:chOff x="1144080" y="1073160"/>
            <a:chExt cx="2234160" cy="1925640"/>
          </a:xfrm>
        </p:grpSpPr>
        <p:sp>
          <p:nvSpPr>
            <p:cNvPr id="130" name="Rectangle 3"/>
            <p:cNvSpPr/>
            <p:nvPr/>
          </p:nvSpPr>
          <p:spPr>
            <a:xfrm>
              <a:off x="1144080" y="1073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"/>
            <p:cNvSpPr/>
            <p:nvPr/>
          </p:nvSpPr>
          <p:spPr>
            <a:xfrm>
              <a:off x="1149120" y="1601640"/>
              <a:ext cx="1268640" cy="1397160"/>
            </a:xfrm>
            <a:prstGeom prst="ellipse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Group 7"/>
            <p:cNvGrpSpPr/>
            <p:nvPr/>
          </p:nvGrpSpPr>
          <p:grpSpPr>
            <a:xfrm>
              <a:off x="1801800" y="2262240"/>
              <a:ext cx="1217160" cy="99720"/>
              <a:chOff x="1801800" y="2262240"/>
              <a:chExt cx="1217160" cy="99720"/>
            </a:xfrm>
          </p:grpSpPr>
          <p:sp>
            <p:nvSpPr>
              <p:cNvPr id="133" name="Line 5"/>
              <p:cNvSpPr/>
              <p:nvPr/>
            </p:nvSpPr>
            <p:spPr>
              <a:xfrm>
                <a:off x="1801800" y="2311200"/>
                <a:ext cx="112140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"/>
              <p:cNvSpPr/>
              <p:nvPr/>
            </p:nvSpPr>
            <p:spPr>
              <a:xfrm>
                <a:off x="2919600" y="2262240"/>
                <a:ext cx="99360" cy="9972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19" h="119">
                    <a:moveTo>
                      <a:pt x="0" y="119"/>
                    </a:moveTo>
                    <a:lnTo>
                      <a:pt x="119" y="61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10"/>
            <p:cNvGrpSpPr/>
            <p:nvPr/>
          </p:nvGrpSpPr>
          <p:grpSpPr>
            <a:xfrm>
              <a:off x="1765080" y="1082520"/>
              <a:ext cx="101520" cy="1227960"/>
              <a:chOff x="1765080" y="1082520"/>
              <a:chExt cx="101520" cy="1227960"/>
            </a:xfrm>
          </p:grpSpPr>
          <p:sp>
            <p:nvSpPr>
              <p:cNvPr id="136" name="Line 8"/>
              <p:cNvSpPr/>
              <p:nvPr/>
            </p:nvSpPr>
            <p:spPr>
              <a:xfrm flipV="1">
                <a:off x="1814040" y="1180440"/>
                <a:ext cx="1800" cy="1130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1765080" y="1082520"/>
                <a:ext cx="101520" cy="10332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19" h="121">
                    <a:moveTo>
                      <a:pt x="119" y="121"/>
                    </a:moveTo>
                    <a:lnTo>
                      <a:pt x="59" y="0"/>
                    </a:lnTo>
                    <a:lnTo>
                      <a:pt x="0" y="121"/>
                    </a:lnTo>
                    <a:lnTo>
                      <a:pt x="11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Rectangle 11"/>
            <p:cNvSpPr/>
            <p:nvPr/>
          </p:nvSpPr>
          <p:spPr>
            <a:xfrm>
              <a:off x="2531880" y="2363760"/>
              <a:ext cx="268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764800" y="23684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4"/>
            <p:cNvSpPr/>
            <p:nvPr/>
          </p:nvSpPr>
          <p:spPr>
            <a:xfrm>
              <a:off x="1506600" y="1266840"/>
              <a:ext cx="284040" cy="1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1745640" y="12700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9"/>
            <p:cNvGrpSpPr/>
            <p:nvPr/>
          </p:nvGrpSpPr>
          <p:grpSpPr>
            <a:xfrm>
              <a:off x="1811160" y="1828800"/>
              <a:ext cx="563400" cy="490320"/>
              <a:chOff x="1811160" y="1828800"/>
              <a:chExt cx="563400" cy="490320"/>
            </a:xfrm>
          </p:grpSpPr>
          <p:sp>
            <p:nvSpPr>
              <p:cNvPr id="143" name="Freeform 17"/>
              <p:cNvSpPr/>
              <p:nvPr/>
            </p:nvSpPr>
            <p:spPr>
              <a:xfrm>
                <a:off x="1811160" y="1877760"/>
                <a:ext cx="509760" cy="44136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608" h="522">
                    <a:moveTo>
                      <a:pt x="0" y="504"/>
                    </a:moveTo>
                    <a:lnTo>
                      <a:pt x="13" y="522"/>
                    </a:lnTo>
                    <a:lnTo>
                      <a:pt x="608" y="18"/>
                    </a:lnTo>
                    <a:lnTo>
                      <a:pt x="596" y="0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8"/>
              <p:cNvSpPr/>
              <p:nvPr/>
            </p:nvSpPr>
            <p:spPr>
              <a:xfrm>
                <a:off x="2259000" y="1828800"/>
                <a:ext cx="115560" cy="1162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20"/>
            <p:cNvSpPr/>
            <p:nvPr/>
          </p:nvSpPr>
          <p:spPr>
            <a:xfrm>
              <a:off x="2840040" y="2374920"/>
              <a:ext cx="1918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2968200" y="23749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2049480" y="2092320"/>
              <a:ext cx="61920" cy="2271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75" h="267">
                  <a:moveTo>
                    <a:pt x="0" y="0"/>
                  </a:moveTo>
                  <a:lnTo>
                    <a:pt x="22" y="20"/>
                  </a:lnTo>
                  <a:lnTo>
                    <a:pt x="39" y="44"/>
                  </a:lnTo>
                  <a:lnTo>
                    <a:pt x="53" y="71"/>
                  </a:lnTo>
                  <a:lnTo>
                    <a:pt x="64" y="100"/>
                  </a:lnTo>
                  <a:lnTo>
                    <a:pt x="72" y="132"/>
                  </a:lnTo>
                  <a:lnTo>
                    <a:pt x="75" y="165"/>
                  </a:lnTo>
                  <a:lnTo>
                    <a:pt x="73" y="198"/>
                  </a:lnTo>
                  <a:lnTo>
                    <a:pt x="68" y="232"/>
                  </a:lnTo>
                  <a:lnTo>
                    <a:pt x="62" y="251"/>
                  </a:lnTo>
                  <a:lnTo>
                    <a:pt x="57" y="2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2147760" y="2054160"/>
              <a:ext cx="21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6"/>
            <p:cNvSpPr/>
            <p:nvPr/>
          </p:nvSpPr>
          <p:spPr>
            <a:xfrm>
              <a:off x="2225160" y="2066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9"/>
            <p:cNvGrpSpPr/>
            <p:nvPr/>
          </p:nvGrpSpPr>
          <p:grpSpPr>
            <a:xfrm>
              <a:off x="1814400" y="2255760"/>
              <a:ext cx="661680" cy="115560"/>
              <a:chOff x="1814400" y="2255760"/>
              <a:chExt cx="661680" cy="115560"/>
            </a:xfrm>
          </p:grpSpPr>
          <p:sp>
            <p:nvSpPr>
              <p:cNvPr id="151" name="Rectangle 27"/>
              <p:cNvSpPr/>
              <p:nvPr/>
            </p:nvSpPr>
            <p:spPr>
              <a:xfrm>
                <a:off x="1814400" y="2302560"/>
                <a:ext cx="60156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8"/>
              <p:cNvSpPr/>
              <p:nvPr/>
            </p:nvSpPr>
            <p:spPr>
              <a:xfrm>
                <a:off x="2360880" y="2255760"/>
                <a:ext cx="115200" cy="11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Freeform 30"/>
            <p:cNvSpPr/>
            <p:nvPr/>
          </p:nvSpPr>
          <p:spPr>
            <a:xfrm>
              <a:off x="1673280" y="2106720"/>
              <a:ext cx="311040" cy="3762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370" h="444">
                  <a:moveTo>
                    <a:pt x="0" y="222"/>
                  </a:moveTo>
                  <a:lnTo>
                    <a:pt x="6" y="189"/>
                  </a:lnTo>
                  <a:lnTo>
                    <a:pt x="18" y="145"/>
                  </a:lnTo>
                  <a:lnTo>
                    <a:pt x="39" y="105"/>
                  </a:lnTo>
                  <a:lnTo>
                    <a:pt x="64" y="70"/>
                  </a:lnTo>
                  <a:lnTo>
                    <a:pt x="94" y="42"/>
                  </a:lnTo>
                  <a:lnTo>
                    <a:pt x="108" y="30"/>
                  </a:lnTo>
                  <a:lnTo>
                    <a:pt x="125" y="20"/>
                  </a:lnTo>
                  <a:lnTo>
                    <a:pt x="143" y="11"/>
                  </a:lnTo>
                  <a:lnTo>
                    <a:pt x="160" y="6"/>
                  </a:lnTo>
                  <a:lnTo>
                    <a:pt x="178" y="2"/>
                  </a:lnTo>
                  <a:lnTo>
                    <a:pt x="196" y="0"/>
                  </a:lnTo>
                  <a:lnTo>
                    <a:pt x="214" y="0"/>
                  </a:lnTo>
                  <a:lnTo>
                    <a:pt x="233" y="4"/>
                  </a:lnTo>
                  <a:lnTo>
                    <a:pt x="251" y="9"/>
                  </a:lnTo>
                  <a:lnTo>
                    <a:pt x="268" y="17"/>
                  </a:lnTo>
                  <a:lnTo>
                    <a:pt x="284" y="26"/>
                  </a:lnTo>
                  <a:lnTo>
                    <a:pt x="299" y="37"/>
                  </a:lnTo>
                  <a:lnTo>
                    <a:pt x="324" y="64"/>
                  </a:lnTo>
                  <a:lnTo>
                    <a:pt x="345" y="97"/>
                  </a:lnTo>
                  <a:lnTo>
                    <a:pt x="359" y="136"/>
                  </a:lnTo>
                  <a:lnTo>
                    <a:pt x="368" y="178"/>
                  </a:lnTo>
                  <a:lnTo>
                    <a:pt x="370" y="200"/>
                  </a:lnTo>
                  <a:lnTo>
                    <a:pt x="370" y="222"/>
                  </a:lnTo>
                  <a:lnTo>
                    <a:pt x="367" y="244"/>
                  </a:lnTo>
                  <a:lnTo>
                    <a:pt x="363" y="268"/>
                  </a:lnTo>
                  <a:lnTo>
                    <a:pt x="354" y="297"/>
                  </a:lnTo>
                  <a:lnTo>
                    <a:pt x="343" y="324"/>
                  </a:lnTo>
                  <a:lnTo>
                    <a:pt x="330" y="352"/>
                  </a:lnTo>
                  <a:lnTo>
                    <a:pt x="313" y="376"/>
                  </a:lnTo>
                  <a:lnTo>
                    <a:pt x="295" y="398"/>
                  </a:lnTo>
                  <a:lnTo>
                    <a:pt x="273" y="416"/>
                  </a:lnTo>
                  <a:lnTo>
                    <a:pt x="251" y="431"/>
                  </a:lnTo>
                  <a:lnTo>
                    <a:pt x="227" y="44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3"/>
            <p:cNvGrpSpPr/>
            <p:nvPr/>
          </p:nvGrpSpPr>
          <p:grpSpPr>
            <a:xfrm>
              <a:off x="1674720" y="2181240"/>
              <a:ext cx="60120" cy="102960"/>
              <a:chOff x="1674720" y="2181240"/>
              <a:chExt cx="60120" cy="102960"/>
            </a:xfrm>
          </p:grpSpPr>
          <p:sp>
            <p:nvSpPr>
              <p:cNvPr id="155" name="Line 31"/>
              <p:cNvSpPr/>
              <p:nvPr/>
            </p:nvSpPr>
            <p:spPr>
              <a:xfrm flipH="1">
                <a:off x="1674720" y="2181240"/>
                <a:ext cx="50400" cy="10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2"/>
              <p:cNvSpPr/>
              <p:nvPr/>
            </p:nvSpPr>
            <p:spPr>
              <a:xfrm>
                <a:off x="1676520" y="2211840"/>
                <a:ext cx="58320" cy="723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69" h="86">
                    <a:moveTo>
                      <a:pt x="0" y="0"/>
                    </a:moveTo>
                    <a:lnTo>
                      <a:pt x="0" y="86"/>
                    </a:lnTo>
                    <a:lnTo>
                      <a:pt x="69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34"/>
            <p:cNvSpPr/>
            <p:nvPr/>
          </p:nvSpPr>
          <p:spPr>
            <a:xfrm>
              <a:off x="1520640" y="2003400"/>
              <a:ext cx="165240" cy="2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7"/>
            <p:cNvSpPr/>
            <p:nvPr/>
          </p:nvSpPr>
          <p:spPr>
            <a:xfrm>
              <a:off x="1841400" y="1278000"/>
              <a:ext cx="1904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9"/>
            <p:cNvSpPr/>
            <p:nvPr/>
          </p:nvSpPr>
          <p:spPr>
            <a:xfrm>
              <a:off x="1969560" y="127800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0"/>
            <p:cNvSpPr/>
            <p:nvPr/>
          </p:nvSpPr>
          <p:spPr>
            <a:xfrm>
              <a:off x="1942920" y="1822320"/>
              <a:ext cx="166680" cy="20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1"/>
            <p:cNvSpPr/>
            <p:nvPr/>
          </p:nvSpPr>
          <p:spPr>
            <a:xfrm>
              <a:off x="1977120" y="182556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2"/>
            <p:cNvSpPr/>
            <p:nvPr/>
          </p:nvSpPr>
          <p:spPr>
            <a:xfrm>
              <a:off x="2071080" y="18255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57"/>
            <p:cNvGrpSpPr/>
            <p:nvPr/>
          </p:nvGrpSpPr>
          <p:grpSpPr>
            <a:xfrm>
              <a:off x="2360520" y="1324080"/>
              <a:ext cx="701280" cy="539280"/>
              <a:chOff x="2360520" y="1324080"/>
              <a:chExt cx="701280" cy="539280"/>
            </a:xfrm>
          </p:grpSpPr>
          <p:sp>
            <p:nvSpPr>
              <p:cNvPr id="164" name="Freeform 43"/>
              <p:cNvSpPr/>
              <p:nvPr/>
            </p:nvSpPr>
            <p:spPr>
              <a:xfrm>
                <a:off x="2360520" y="1831320"/>
                <a:ext cx="38160" cy="32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4" y="29"/>
                    </a:moveTo>
                    <a:lnTo>
                      <a:pt x="2" y="31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9" y="38"/>
                    </a:lnTo>
                    <a:lnTo>
                      <a:pt x="44" y="11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4"/>
              <p:cNvSpPr/>
              <p:nvPr/>
            </p:nvSpPr>
            <p:spPr>
              <a:xfrm>
                <a:off x="2412360" y="1792440"/>
                <a:ext cx="38160" cy="316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48" h="39">
                    <a:moveTo>
                      <a:pt x="4" y="28"/>
                    </a:moveTo>
                    <a:lnTo>
                      <a:pt x="2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6" y="39"/>
                    </a:lnTo>
                    <a:lnTo>
                      <a:pt x="8" y="39"/>
                    </a:lnTo>
                    <a:lnTo>
                      <a:pt x="9" y="37"/>
                    </a:lnTo>
                    <a:lnTo>
                      <a:pt x="44" y="11"/>
                    </a:lnTo>
                    <a:lnTo>
                      <a:pt x="46" y="9"/>
                    </a:lnTo>
                    <a:lnTo>
                      <a:pt x="48" y="7"/>
                    </a:lnTo>
                    <a:lnTo>
                      <a:pt x="48" y="6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2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45"/>
              <p:cNvSpPr/>
              <p:nvPr/>
            </p:nvSpPr>
            <p:spPr>
              <a:xfrm>
                <a:off x="2464200" y="1753560"/>
                <a:ext cx="38520" cy="320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1" y="28"/>
                    </a:moveTo>
                    <a:lnTo>
                      <a:pt x="0" y="30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" y="37"/>
                    </a:lnTo>
                    <a:lnTo>
                      <a:pt x="3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42" y="10"/>
                    </a:lnTo>
                    <a:lnTo>
                      <a:pt x="44" y="8"/>
                    </a:lnTo>
                    <a:lnTo>
                      <a:pt x="45" y="6"/>
                    </a:lnTo>
                    <a:lnTo>
                      <a:pt x="45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6"/>
              <p:cNvSpPr/>
              <p:nvPr/>
            </p:nvSpPr>
            <p:spPr>
              <a:xfrm>
                <a:off x="2514960" y="1712880"/>
                <a:ext cx="38160" cy="33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4" y="27"/>
                    </a:moveTo>
                    <a:lnTo>
                      <a:pt x="2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4" y="36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44" y="11"/>
                    </a:lnTo>
                    <a:lnTo>
                      <a:pt x="46" y="9"/>
                    </a:lnTo>
                    <a:lnTo>
                      <a:pt x="46" y="7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2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47"/>
              <p:cNvSpPr/>
              <p:nvPr/>
            </p:nvSpPr>
            <p:spPr>
              <a:xfrm>
                <a:off x="2566800" y="1674000"/>
                <a:ext cx="38520" cy="320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6" h="37">
                    <a:moveTo>
                      <a:pt x="2" y="27"/>
                    </a:moveTo>
                    <a:lnTo>
                      <a:pt x="0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48"/>
              <p:cNvSpPr/>
              <p:nvPr/>
            </p:nvSpPr>
            <p:spPr>
              <a:xfrm>
                <a:off x="2617200" y="1634760"/>
                <a:ext cx="38160" cy="32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3" y="28"/>
                    </a:moveTo>
                    <a:lnTo>
                      <a:pt x="2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9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44" y="11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2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9"/>
              <p:cNvSpPr/>
              <p:nvPr/>
            </p:nvSpPr>
            <p:spPr>
              <a:xfrm>
                <a:off x="2670840" y="1596240"/>
                <a:ext cx="36720" cy="320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2" y="27"/>
                    </a:move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6"/>
                    </a:lnTo>
                    <a:lnTo>
                      <a:pt x="4" y="38"/>
                    </a:lnTo>
                    <a:lnTo>
                      <a:pt x="6" y="38"/>
                    </a:lnTo>
                    <a:lnTo>
                      <a:pt x="7" y="36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50"/>
              <p:cNvSpPr/>
              <p:nvPr/>
            </p:nvSpPr>
            <p:spPr>
              <a:xfrm>
                <a:off x="2721240" y="1557360"/>
                <a:ext cx="38160" cy="302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5" h="36">
                    <a:moveTo>
                      <a:pt x="3" y="27"/>
                    </a:moveTo>
                    <a:lnTo>
                      <a:pt x="1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1" y="35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43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5" y="2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51"/>
              <p:cNvSpPr/>
              <p:nvPr/>
            </p:nvSpPr>
            <p:spPr>
              <a:xfrm>
                <a:off x="2773440" y="1516680"/>
                <a:ext cx="38160" cy="32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2" y="28"/>
                    </a:moveTo>
                    <a:lnTo>
                      <a:pt x="0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3" y="39"/>
                    </a:lnTo>
                    <a:lnTo>
                      <a:pt x="5" y="39"/>
                    </a:lnTo>
                    <a:lnTo>
                      <a:pt x="7" y="37"/>
                    </a:lnTo>
                    <a:lnTo>
                      <a:pt x="42" y="11"/>
                    </a:lnTo>
                    <a:lnTo>
                      <a:pt x="44" y="9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4" y="4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6" y="2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52"/>
              <p:cNvSpPr/>
              <p:nvPr/>
            </p:nvSpPr>
            <p:spPr>
              <a:xfrm>
                <a:off x="2823480" y="1477800"/>
                <a:ext cx="38160" cy="306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46" h="37">
                    <a:moveTo>
                      <a:pt x="2" y="28"/>
                    </a:move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44" y="9"/>
                    </a:lnTo>
                    <a:lnTo>
                      <a:pt x="46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2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53"/>
              <p:cNvSpPr/>
              <p:nvPr/>
            </p:nvSpPr>
            <p:spPr>
              <a:xfrm>
                <a:off x="2873880" y="1437120"/>
                <a:ext cx="38520" cy="33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5" h="38">
                    <a:moveTo>
                      <a:pt x="3" y="27"/>
                    </a:moveTo>
                    <a:lnTo>
                      <a:pt x="2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44" y="11"/>
                    </a:lnTo>
                    <a:lnTo>
                      <a:pt x="45" y="9"/>
                    </a:lnTo>
                    <a:lnTo>
                      <a:pt x="45" y="7"/>
                    </a:lnTo>
                    <a:lnTo>
                      <a:pt x="45" y="5"/>
                    </a:lnTo>
                    <a:lnTo>
                      <a:pt x="45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4"/>
              <p:cNvSpPr/>
              <p:nvPr/>
            </p:nvSpPr>
            <p:spPr>
              <a:xfrm>
                <a:off x="2926080" y="1398240"/>
                <a:ext cx="38160" cy="32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46" h="37">
                    <a:moveTo>
                      <a:pt x="2" y="27"/>
                    </a:moveTo>
                    <a:lnTo>
                      <a:pt x="0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7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42" y="9"/>
                    </a:lnTo>
                    <a:lnTo>
                      <a:pt x="44" y="7"/>
                    </a:lnTo>
                    <a:lnTo>
                      <a:pt x="46" y="5"/>
                    </a:lnTo>
                    <a:lnTo>
                      <a:pt x="46" y="4"/>
                    </a:lnTo>
                    <a:lnTo>
                      <a:pt x="44" y="2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5"/>
              <p:cNvSpPr/>
              <p:nvPr/>
            </p:nvSpPr>
            <p:spPr>
              <a:xfrm>
                <a:off x="2978280" y="1361160"/>
                <a:ext cx="38160" cy="302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46" h="37">
                    <a:moveTo>
                      <a:pt x="4" y="28"/>
                    </a:moveTo>
                    <a:lnTo>
                      <a:pt x="2" y="29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2" y="35"/>
                    </a:lnTo>
                    <a:lnTo>
                      <a:pt x="4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44" y="9"/>
                    </a:lnTo>
                    <a:lnTo>
                      <a:pt x="46" y="7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6"/>
              <p:cNvSpPr/>
              <p:nvPr/>
            </p:nvSpPr>
            <p:spPr>
              <a:xfrm>
                <a:off x="3030120" y="1324080"/>
                <a:ext cx="31680" cy="28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2" y="22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7" y="31"/>
                    </a:lnTo>
                    <a:lnTo>
                      <a:pt x="36" y="11"/>
                    </a:lnTo>
                    <a:lnTo>
                      <a:pt x="36" y="7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5" y="2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Rectangle 58"/>
            <p:cNvSpPr/>
            <p:nvPr/>
          </p:nvSpPr>
          <p:spPr>
            <a:xfrm>
              <a:off x="3109680" y="1214280"/>
              <a:ext cx="26856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9"/>
            <p:cNvSpPr/>
            <p:nvPr/>
          </p:nvSpPr>
          <p:spPr>
            <a:xfrm>
              <a:off x="3132000" y="12193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=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Object 154"/>
                <p:cNvSpPr txBox="1"/>
                <p:nvPr/>
              </p:nvSpPr>
              <p:spPr>
                <a:xfrm>
                  <a:off x="1630080" y="2440080"/>
                  <a:ext cx="59724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1" name="Group 159"/>
          <p:cNvGrpSpPr/>
          <p:nvPr/>
        </p:nvGrpSpPr>
        <p:grpSpPr>
          <a:xfrm>
            <a:off x="4201920" y="1085760"/>
            <a:ext cx="3452760" cy="2234520"/>
            <a:chOff x="4201920" y="1085760"/>
            <a:chExt cx="3452760" cy="2234520"/>
          </a:xfrm>
        </p:grpSpPr>
        <p:sp>
          <p:nvSpPr>
            <p:cNvPr id="182" name="Rectangle 60"/>
            <p:cNvSpPr/>
            <p:nvPr/>
          </p:nvSpPr>
          <p:spPr>
            <a:xfrm>
              <a:off x="4201920" y="11523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7"/>
            <p:cNvSpPr/>
            <p:nvPr/>
          </p:nvSpPr>
          <p:spPr>
            <a:xfrm>
              <a:off x="7470720" y="25318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30"/>
            <p:cNvGrpSpPr/>
            <p:nvPr/>
          </p:nvGrpSpPr>
          <p:grpSpPr>
            <a:xfrm>
              <a:off x="4672080" y="1085760"/>
              <a:ext cx="112320" cy="2234520"/>
              <a:chOff x="4672080" y="1085760"/>
              <a:chExt cx="112320" cy="2234520"/>
            </a:xfrm>
          </p:grpSpPr>
          <p:sp>
            <p:nvSpPr>
              <p:cNvPr id="185" name="Line 128"/>
              <p:cNvSpPr/>
              <p:nvPr/>
            </p:nvSpPr>
            <p:spPr>
              <a:xfrm flipV="1">
                <a:off x="4727160" y="1199520"/>
                <a:ext cx="1800" cy="2120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29"/>
              <p:cNvSpPr/>
              <p:nvPr/>
            </p:nvSpPr>
            <p:spPr>
              <a:xfrm>
                <a:off x="4672080" y="1085760"/>
                <a:ext cx="112320" cy="1202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19" h="120">
                    <a:moveTo>
                      <a:pt x="119" y="120"/>
                    </a:moveTo>
                    <a:lnTo>
                      <a:pt x="58" y="0"/>
                    </a:lnTo>
                    <a:lnTo>
                      <a:pt x="0" y="120"/>
                    </a:lnTo>
                    <a:lnTo>
                      <a:pt x="1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3"/>
            <p:cNvGrpSpPr/>
            <p:nvPr/>
          </p:nvGrpSpPr>
          <p:grpSpPr>
            <a:xfrm>
              <a:off x="4432680" y="2386080"/>
              <a:ext cx="3222000" cy="109080"/>
              <a:chOff x="4432680" y="2386080"/>
              <a:chExt cx="3222000" cy="109080"/>
            </a:xfrm>
          </p:grpSpPr>
          <p:sp>
            <p:nvSpPr>
              <p:cNvPr id="188" name="Line 131"/>
              <p:cNvSpPr/>
              <p:nvPr/>
            </p:nvSpPr>
            <p:spPr>
              <a:xfrm>
                <a:off x="4432680" y="2439720"/>
                <a:ext cx="3103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32"/>
              <p:cNvSpPr/>
              <p:nvPr/>
            </p:nvSpPr>
            <p:spPr>
              <a:xfrm>
                <a:off x="7532280" y="2386080"/>
                <a:ext cx="122400" cy="1090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21" h="119">
                    <a:moveTo>
                      <a:pt x="0" y="119"/>
                    </a:moveTo>
                    <a:lnTo>
                      <a:pt x="121" y="58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Freeform 138"/>
            <p:cNvSpPr/>
            <p:nvPr/>
          </p:nvSpPr>
          <p:spPr>
            <a:xfrm>
              <a:off x="4716720" y="1758960"/>
              <a:ext cx="2803320" cy="1388880"/>
            </a:xfrm>
            <a:custGeom>
              <a:avLst/>
              <a:gdLst>
                <a:gd name="textAreaLeft" fmla="*/ 0 w 2803320"/>
                <a:gd name="textAreaRight" fmla="*/ 2803680 w 2803320"/>
                <a:gd name="textAreaTop" fmla="*/ 0 h 1388880"/>
                <a:gd name="textAreaBottom" fmla="*/ 1389240 h 1388880"/>
              </a:gdLst>
              <a:ahLst/>
              <a:rect l="textAreaLeft" t="textAreaTop" r="textAreaRight" b="textAreaBottom"/>
              <a:pathLst>
                <a:path w="2916" h="1405">
                  <a:moveTo>
                    <a:pt x="0" y="701"/>
                  </a:moveTo>
                  <a:lnTo>
                    <a:pt x="5" y="692"/>
                  </a:lnTo>
                  <a:lnTo>
                    <a:pt x="5" y="681"/>
                  </a:lnTo>
                  <a:lnTo>
                    <a:pt x="11" y="669"/>
                  </a:lnTo>
                  <a:lnTo>
                    <a:pt x="11" y="658"/>
                  </a:lnTo>
                  <a:lnTo>
                    <a:pt x="16" y="647"/>
                  </a:lnTo>
                  <a:lnTo>
                    <a:pt x="16" y="637"/>
                  </a:lnTo>
                  <a:lnTo>
                    <a:pt x="22" y="626"/>
                  </a:lnTo>
                  <a:lnTo>
                    <a:pt x="22" y="614"/>
                  </a:lnTo>
                  <a:lnTo>
                    <a:pt x="27" y="603"/>
                  </a:lnTo>
                  <a:lnTo>
                    <a:pt x="27" y="592"/>
                  </a:lnTo>
                  <a:lnTo>
                    <a:pt x="33" y="582"/>
                  </a:lnTo>
                  <a:lnTo>
                    <a:pt x="33" y="571"/>
                  </a:lnTo>
                  <a:lnTo>
                    <a:pt x="40" y="559"/>
                  </a:lnTo>
                  <a:lnTo>
                    <a:pt x="40" y="548"/>
                  </a:lnTo>
                  <a:lnTo>
                    <a:pt x="45" y="537"/>
                  </a:lnTo>
                  <a:lnTo>
                    <a:pt x="45" y="527"/>
                  </a:lnTo>
                  <a:lnTo>
                    <a:pt x="51" y="516"/>
                  </a:lnTo>
                  <a:lnTo>
                    <a:pt x="51" y="507"/>
                  </a:lnTo>
                  <a:lnTo>
                    <a:pt x="56" y="496"/>
                  </a:lnTo>
                  <a:lnTo>
                    <a:pt x="56" y="485"/>
                  </a:lnTo>
                  <a:lnTo>
                    <a:pt x="62" y="476"/>
                  </a:lnTo>
                  <a:lnTo>
                    <a:pt x="62" y="465"/>
                  </a:lnTo>
                  <a:lnTo>
                    <a:pt x="67" y="456"/>
                  </a:lnTo>
                  <a:lnTo>
                    <a:pt x="67" y="445"/>
                  </a:lnTo>
                  <a:lnTo>
                    <a:pt x="73" y="434"/>
                  </a:lnTo>
                  <a:lnTo>
                    <a:pt x="78" y="425"/>
                  </a:lnTo>
                  <a:lnTo>
                    <a:pt x="78" y="414"/>
                  </a:lnTo>
                  <a:lnTo>
                    <a:pt x="84" y="405"/>
                  </a:lnTo>
                  <a:lnTo>
                    <a:pt x="84" y="394"/>
                  </a:lnTo>
                  <a:lnTo>
                    <a:pt x="89" y="383"/>
                  </a:lnTo>
                  <a:lnTo>
                    <a:pt x="89" y="374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100" y="346"/>
                  </a:lnTo>
                  <a:lnTo>
                    <a:pt x="100" y="335"/>
                  </a:lnTo>
                  <a:lnTo>
                    <a:pt x="106" y="326"/>
                  </a:lnTo>
                  <a:lnTo>
                    <a:pt x="106" y="315"/>
                  </a:lnTo>
                  <a:lnTo>
                    <a:pt x="111" y="308"/>
                  </a:lnTo>
                  <a:lnTo>
                    <a:pt x="111" y="298"/>
                  </a:lnTo>
                  <a:lnTo>
                    <a:pt x="117" y="291"/>
                  </a:lnTo>
                  <a:lnTo>
                    <a:pt x="117" y="280"/>
                  </a:lnTo>
                  <a:lnTo>
                    <a:pt x="122" y="271"/>
                  </a:lnTo>
                  <a:lnTo>
                    <a:pt x="122" y="264"/>
                  </a:lnTo>
                  <a:lnTo>
                    <a:pt x="128" y="253"/>
                  </a:lnTo>
                  <a:lnTo>
                    <a:pt x="128" y="245"/>
                  </a:lnTo>
                  <a:lnTo>
                    <a:pt x="135" y="236"/>
                  </a:lnTo>
                  <a:lnTo>
                    <a:pt x="135" y="229"/>
                  </a:lnTo>
                  <a:lnTo>
                    <a:pt x="141" y="222"/>
                  </a:lnTo>
                  <a:lnTo>
                    <a:pt x="141" y="212"/>
                  </a:lnTo>
                  <a:lnTo>
                    <a:pt x="146" y="205"/>
                  </a:lnTo>
                  <a:lnTo>
                    <a:pt x="152" y="198"/>
                  </a:lnTo>
                  <a:lnTo>
                    <a:pt x="152" y="192"/>
                  </a:lnTo>
                  <a:lnTo>
                    <a:pt x="157" y="181"/>
                  </a:lnTo>
                  <a:lnTo>
                    <a:pt x="157" y="174"/>
                  </a:lnTo>
                  <a:lnTo>
                    <a:pt x="163" y="167"/>
                  </a:lnTo>
                  <a:lnTo>
                    <a:pt x="163" y="161"/>
                  </a:lnTo>
                  <a:lnTo>
                    <a:pt x="168" y="154"/>
                  </a:lnTo>
                  <a:lnTo>
                    <a:pt x="168" y="146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9" y="126"/>
                  </a:lnTo>
                  <a:lnTo>
                    <a:pt x="179" y="119"/>
                  </a:lnTo>
                  <a:lnTo>
                    <a:pt x="185" y="115"/>
                  </a:lnTo>
                  <a:lnTo>
                    <a:pt x="185" y="110"/>
                  </a:lnTo>
                  <a:lnTo>
                    <a:pt x="190" y="102"/>
                  </a:lnTo>
                  <a:lnTo>
                    <a:pt x="190" y="99"/>
                  </a:lnTo>
                  <a:lnTo>
                    <a:pt x="196" y="91"/>
                  </a:lnTo>
                  <a:lnTo>
                    <a:pt x="196" y="86"/>
                  </a:lnTo>
                  <a:lnTo>
                    <a:pt x="201" y="82"/>
                  </a:lnTo>
                  <a:lnTo>
                    <a:pt x="201" y="75"/>
                  </a:lnTo>
                  <a:lnTo>
                    <a:pt x="207" y="71"/>
                  </a:lnTo>
                  <a:lnTo>
                    <a:pt x="207" y="68"/>
                  </a:lnTo>
                  <a:lnTo>
                    <a:pt x="212" y="62"/>
                  </a:lnTo>
                  <a:lnTo>
                    <a:pt x="212" y="59"/>
                  </a:lnTo>
                  <a:lnTo>
                    <a:pt x="218" y="55"/>
                  </a:lnTo>
                  <a:lnTo>
                    <a:pt x="225" y="48"/>
                  </a:lnTo>
                  <a:lnTo>
                    <a:pt x="225" y="44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6" y="35"/>
                  </a:lnTo>
                  <a:lnTo>
                    <a:pt x="236" y="31"/>
                  </a:lnTo>
                  <a:lnTo>
                    <a:pt x="241" y="27"/>
                  </a:lnTo>
                  <a:lnTo>
                    <a:pt x="241" y="24"/>
                  </a:lnTo>
                  <a:lnTo>
                    <a:pt x="247" y="20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3" y="9"/>
                  </a:lnTo>
                  <a:lnTo>
                    <a:pt x="269" y="7"/>
                  </a:lnTo>
                  <a:lnTo>
                    <a:pt x="274" y="4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4"/>
                  </a:lnTo>
                  <a:lnTo>
                    <a:pt x="315" y="7"/>
                  </a:lnTo>
                  <a:lnTo>
                    <a:pt x="320" y="9"/>
                  </a:lnTo>
                  <a:lnTo>
                    <a:pt x="326" y="13"/>
                  </a:lnTo>
                  <a:lnTo>
                    <a:pt x="331" y="16"/>
                  </a:lnTo>
                  <a:lnTo>
                    <a:pt x="337" y="20"/>
                  </a:lnTo>
                  <a:lnTo>
                    <a:pt x="342" y="24"/>
                  </a:lnTo>
                  <a:lnTo>
                    <a:pt x="342" y="27"/>
                  </a:lnTo>
                  <a:lnTo>
                    <a:pt x="348" y="31"/>
                  </a:lnTo>
                  <a:lnTo>
                    <a:pt x="348" y="35"/>
                  </a:lnTo>
                  <a:lnTo>
                    <a:pt x="353" y="37"/>
                  </a:lnTo>
                  <a:lnTo>
                    <a:pt x="353" y="40"/>
                  </a:lnTo>
                  <a:lnTo>
                    <a:pt x="359" y="44"/>
                  </a:lnTo>
                  <a:lnTo>
                    <a:pt x="359" y="48"/>
                  </a:lnTo>
                  <a:lnTo>
                    <a:pt x="364" y="55"/>
                  </a:lnTo>
                  <a:lnTo>
                    <a:pt x="370" y="59"/>
                  </a:lnTo>
                  <a:lnTo>
                    <a:pt x="370" y="62"/>
                  </a:lnTo>
                  <a:lnTo>
                    <a:pt x="375" y="68"/>
                  </a:lnTo>
                  <a:lnTo>
                    <a:pt x="375" y="71"/>
                  </a:lnTo>
                  <a:lnTo>
                    <a:pt x="381" y="75"/>
                  </a:lnTo>
                  <a:lnTo>
                    <a:pt x="381" y="82"/>
                  </a:lnTo>
                  <a:lnTo>
                    <a:pt x="386" y="86"/>
                  </a:lnTo>
                  <a:lnTo>
                    <a:pt x="386" y="91"/>
                  </a:lnTo>
                  <a:lnTo>
                    <a:pt x="392" y="99"/>
                  </a:lnTo>
                  <a:lnTo>
                    <a:pt x="392" y="102"/>
                  </a:lnTo>
                  <a:lnTo>
                    <a:pt x="397" y="110"/>
                  </a:lnTo>
                  <a:lnTo>
                    <a:pt x="397" y="115"/>
                  </a:lnTo>
                  <a:lnTo>
                    <a:pt x="404" y="119"/>
                  </a:lnTo>
                  <a:lnTo>
                    <a:pt x="404" y="126"/>
                  </a:lnTo>
                  <a:lnTo>
                    <a:pt x="410" y="134"/>
                  </a:lnTo>
                  <a:lnTo>
                    <a:pt x="410" y="141"/>
                  </a:lnTo>
                  <a:lnTo>
                    <a:pt x="415" y="146"/>
                  </a:lnTo>
                  <a:lnTo>
                    <a:pt x="415" y="154"/>
                  </a:lnTo>
                  <a:lnTo>
                    <a:pt x="421" y="161"/>
                  </a:lnTo>
                  <a:lnTo>
                    <a:pt x="421" y="167"/>
                  </a:lnTo>
                  <a:lnTo>
                    <a:pt x="426" y="174"/>
                  </a:lnTo>
                  <a:lnTo>
                    <a:pt x="426" y="181"/>
                  </a:lnTo>
                  <a:lnTo>
                    <a:pt x="432" y="192"/>
                  </a:lnTo>
                  <a:lnTo>
                    <a:pt x="432" y="198"/>
                  </a:lnTo>
                  <a:lnTo>
                    <a:pt x="437" y="205"/>
                  </a:lnTo>
                  <a:lnTo>
                    <a:pt x="443" y="212"/>
                  </a:lnTo>
                  <a:lnTo>
                    <a:pt x="443" y="222"/>
                  </a:lnTo>
                  <a:lnTo>
                    <a:pt x="448" y="229"/>
                  </a:lnTo>
                  <a:lnTo>
                    <a:pt x="448" y="236"/>
                  </a:lnTo>
                  <a:lnTo>
                    <a:pt x="454" y="245"/>
                  </a:lnTo>
                  <a:lnTo>
                    <a:pt x="454" y="253"/>
                  </a:lnTo>
                  <a:lnTo>
                    <a:pt x="459" y="264"/>
                  </a:lnTo>
                  <a:lnTo>
                    <a:pt x="459" y="271"/>
                  </a:lnTo>
                  <a:lnTo>
                    <a:pt x="465" y="280"/>
                  </a:lnTo>
                  <a:lnTo>
                    <a:pt x="465" y="291"/>
                  </a:lnTo>
                  <a:lnTo>
                    <a:pt x="470" y="298"/>
                  </a:lnTo>
                  <a:lnTo>
                    <a:pt x="470" y="308"/>
                  </a:lnTo>
                  <a:lnTo>
                    <a:pt x="476" y="315"/>
                  </a:lnTo>
                  <a:lnTo>
                    <a:pt x="476" y="326"/>
                  </a:lnTo>
                  <a:lnTo>
                    <a:pt x="481" y="335"/>
                  </a:lnTo>
                  <a:lnTo>
                    <a:pt x="481" y="346"/>
                  </a:lnTo>
                  <a:lnTo>
                    <a:pt x="487" y="353"/>
                  </a:lnTo>
                  <a:lnTo>
                    <a:pt x="487" y="363"/>
                  </a:lnTo>
                  <a:lnTo>
                    <a:pt x="494" y="374"/>
                  </a:lnTo>
                  <a:lnTo>
                    <a:pt x="494" y="383"/>
                  </a:lnTo>
                  <a:lnTo>
                    <a:pt x="500" y="394"/>
                  </a:lnTo>
                  <a:lnTo>
                    <a:pt x="500" y="405"/>
                  </a:lnTo>
                  <a:lnTo>
                    <a:pt x="505" y="414"/>
                  </a:lnTo>
                  <a:lnTo>
                    <a:pt x="505" y="425"/>
                  </a:lnTo>
                  <a:lnTo>
                    <a:pt x="511" y="434"/>
                  </a:lnTo>
                  <a:lnTo>
                    <a:pt x="516" y="445"/>
                  </a:lnTo>
                  <a:lnTo>
                    <a:pt x="516" y="456"/>
                  </a:lnTo>
                  <a:lnTo>
                    <a:pt x="522" y="465"/>
                  </a:lnTo>
                  <a:lnTo>
                    <a:pt x="522" y="476"/>
                  </a:lnTo>
                  <a:lnTo>
                    <a:pt x="527" y="485"/>
                  </a:lnTo>
                  <a:lnTo>
                    <a:pt x="527" y="496"/>
                  </a:lnTo>
                  <a:lnTo>
                    <a:pt x="533" y="507"/>
                  </a:lnTo>
                  <a:lnTo>
                    <a:pt x="533" y="516"/>
                  </a:lnTo>
                  <a:lnTo>
                    <a:pt x="538" y="527"/>
                  </a:lnTo>
                  <a:lnTo>
                    <a:pt x="538" y="537"/>
                  </a:lnTo>
                  <a:lnTo>
                    <a:pt x="544" y="548"/>
                  </a:lnTo>
                  <a:lnTo>
                    <a:pt x="544" y="559"/>
                  </a:lnTo>
                  <a:lnTo>
                    <a:pt x="549" y="571"/>
                  </a:lnTo>
                  <a:lnTo>
                    <a:pt x="549" y="582"/>
                  </a:lnTo>
                  <a:lnTo>
                    <a:pt x="555" y="592"/>
                  </a:lnTo>
                  <a:lnTo>
                    <a:pt x="555" y="603"/>
                  </a:lnTo>
                  <a:lnTo>
                    <a:pt x="560" y="614"/>
                  </a:lnTo>
                  <a:lnTo>
                    <a:pt x="560" y="626"/>
                  </a:lnTo>
                  <a:lnTo>
                    <a:pt x="566" y="637"/>
                  </a:lnTo>
                  <a:lnTo>
                    <a:pt x="566" y="647"/>
                  </a:lnTo>
                  <a:lnTo>
                    <a:pt x="571" y="658"/>
                  </a:lnTo>
                  <a:lnTo>
                    <a:pt x="571" y="669"/>
                  </a:lnTo>
                  <a:lnTo>
                    <a:pt x="577" y="681"/>
                  </a:lnTo>
                  <a:lnTo>
                    <a:pt x="577" y="692"/>
                  </a:lnTo>
                  <a:lnTo>
                    <a:pt x="584" y="701"/>
                  </a:lnTo>
                  <a:lnTo>
                    <a:pt x="588" y="712"/>
                  </a:lnTo>
                  <a:lnTo>
                    <a:pt x="588" y="723"/>
                  </a:lnTo>
                  <a:lnTo>
                    <a:pt x="595" y="736"/>
                  </a:lnTo>
                  <a:lnTo>
                    <a:pt x="595" y="747"/>
                  </a:lnTo>
                  <a:lnTo>
                    <a:pt x="600" y="756"/>
                  </a:lnTo>
                  <a:lnTo>
                    <a:pt x="600" y="767"/>
                  </a:lnTo>
                  <a:lnTo>
                    <a:pt x="606" y="777"/>
                  </a:lnTo>
                  <a:lnTo>
                    <a:pt x="606" y="791"/>
                  </a:lnTo>
                  <a:lnTo>
                    <a:pt x="611" y="800"/>
                  </a:lnTo>
                  <a:lnTo>
                    <a:pt x="611" y="811"/>
                  </a:lnTo>
                  <a:lnTo>
                    <a:pt x="617" y="822"/>
                  </a:lnTo>
                  <a:lnTo>
                    <a:pt x="617" y="832"/>
                  </a:lnTo>
                  <a:lnTo>
                    <a:pt x="622" y="846"/>
                  </a:lnTo>
                  <a:lnTo>
                    <a:pt x="622" y="855"/>
                  </a:lnTo>
                  <a:lnTo>
                    <a:pt x="628" y="866"/>
                  </a:lnTo>
                  <a:lnTo>
                    <a:pt x="628" y="877"/>
                  </a:lnTo>
                  <a:lnTo>
                    <a:pt x="633" y="887"/>
                  </a:lnTo>
                  <a:lnTo>
                    <a:pt x="633" y="898"/>
                  </a:lnTo>
                  <a:lnTo>
                    <a:pt x="639" y="907"/>
                  </a:lnTo>
                  <a:lnTo>
                    <a:pt x="639" y="918"/>
                  </a:lnTo>
                  <a:lnTo>
                    <a:pt x="644" y="929"/>
                  </a:lnTo>
                  <a:lnTo>
                    <a:pt x="644" y="938"/>
                  </a:lnTo>
                  <a:lnTo>
                    <a:pt x="650" y="949"/>
                  </a:lnTo>
                  <a:lnTo>
                    <a:pt x="650" y="958"/>
                  </a:lnTo>
                  <a:lnTo>
                    <a:pt x="655" y="969"/>
                  </a:lnTo>
                  <a:lnTo>
                    <a:pt x="661" y="980"/>
                  </a:lnTo>
                  <a:lnTo>
                    <a:pt x="661" y="989"/>
                  </a:lnTo>
                  <a:lnTo>
                    <a:pt x="666" y="1000"/>
                  </a:lnTo>
                  <a:lnTo>
                    <a:pt x="666" y="1011"/>
                  </a:lnTo>
                  <a:lnTo>
                    <a:pt x="674" y="1020"/>
                  </a:lnTo>
                  <a:lnTo>
                    <a:pt x="674" y="1031"/>
                  </a:lnTo>
                  <a:lnTo>
                    <a:pt x="677" y="1040"/>
                  </a:lnTo>
                  <a:lnTo>
                    <a:pt x="677" y="1051"/>
                  </a:lnTo>
                  <a:lnTo>
                    <a:pt x="685" y="1059"/>
                  </a:lnTo>
                  <a:lnTo>
                    <a:pt x="685" y="1068"/>
                  </a:lnTo>
                  <a:lnTo>
                    <a:pt x="690" y="1079"/>
                  </a:lnTo>
                  <a:lnTo>
                    <a:pt x="690" y="1090"/>
                  </a:lnTo>
                  <a:lnTo>
                    <a:pt x="696" y="1095"/>
                  </a:lnTo>
                  <a:lnTo>
                    <a:pt x="696" y="1106"/>
                  </a:lnTo>
                  <a:lnTo>
                    <a:pt x="701" y="1114"/>
                  </a:lnTo>
                  <a:lnTo>
                    <a:pt x="701" y="1123"/>
                  </a:lnTo>
                  <a:lnTo>
                    <a:pt x="707" y="1134"/>
                  </a:lnTo>
                  <a:lnTo>
                    <a:pt x="707" y="1141"/>
                  </a:lnTo>
                  <a:lnTo>
                    <a:pt x="712" y="1150"/>
                  </a:lnTo>
                  <a:lnTo>
                    <a:pt x="712" y="1158"/>
                  </a:lnTo>
                  <a:lnTo>
                    <a:pt x="718" y="1169"/>
                  </a:lnTo>
                  <a:lnTo>
                    <a:pt x="718" y="1174"/>
                  </a:lnTo>
                  <a:lnTo>
                    <a:pt x="723" y="1181"/>
                  </a:lnTo>
                  <a:lnTo>
                    <a:pt x="723" y="1192"/>
                  </a:lnTo>
                  <a:lnTo>
                    <a:pt x="729" y="1198"/>
                  </a:lnTo>
                  <a:lnTo>
                    <a:pt x="734" y="1205"/>
                  </a:lnTo>
                  <a:lnTo>
                    <a:pt x="734" y="1213"/>
                  </a:lnTo>
                  <a:lnTo>
                    <a:pt x="740" y="1222"/>
                  </a:lnTo>
                  <a:lnTo>
                    <a:pt x="740" y="1229"/>
                  </a:lnTo>
                  <a:lnTo>
                    <a:pt x="745" y="1236"/>
                  </a:lnTo>
                  <a:lnTo>
                    <a:pt x="745" y="1244"/>
                  </a:lnTo>
                  <a:lnTo>
                    <a:pt x="751" y="1249"/>
                  </a:lnTo>
                  <a:lnTo>
                    <a:pt x="751" y="1257"/>
                  </a:lnTo>
                  <a:lnTo>
                    <a:pt x="756" y="1264"/>
                  </a:lnTo>
                  <a:lnTo>
                    <a:pt x="756" y="1271"/>
                  </a:lnTo>
                  <a:lnTo>
                    <a:pt x="764" y="1277"/>
                  </a:lnTo>
                  <a:lnTo>
                    <a:pt x="764" y="1284"/>
                  </a:lnTo>
                  <a:lnTo>
                    <a:pt x="767" y="1288"/>
                  </a:lnTo>
                  <a:lnTo>
                    <a:pt x="767" y="1295"/>
                  </a:lnTo>
                  <a:lnTo>
                    <a:pt x="775" y="1302"/>
                  </a:lnTo>
                  <a:lnTo>
                    <a:pt x="775" y="1304"/>
                  </a:lnTo>
                  <a:lnTo>
                    <a:pt x="780" y="1312"/>
                  </a:lnTo>
                  <a:lnTo>
                    <a:pt x="780" y="1319"/>
                  </a:lnTo>
                  <a:lnTo>
                    <a:pt x="785" y="1323"/>
                  </a:lnTo>
                  <a:lnTo>
                    <a:pt x="785" y="1330"/>
                  </a:lnTo>
                  <a:lnTo>
                    <a:pt x="791" y="1332"/>
                  </a:lnTo>
                  <a:lnTo>
                    <a:pt x="791" y="1335"/>
                  </a:lnTo>
                  <a:lnTo>
                    <a:pt x="796" y="1343"/>
                  </a:lnTo>
                  <a:lnTo>
                    <a:pt x="796" y="1346"/>
                  </a:lnTo>
                  <a:lnTo>
                    <a:pt x="802" y="1350"/>
                  </a:lnTo>
                  <a:lnTo>
                    <a:pt x="807" y="1357"/>
                  </a:lnTo>
                  <a:lnTo>
                    <a:pt x="807" y="1359"/>
                  </a:lnTo>
                  <a:lnTo>
                    <a:pt x="813" y="1363"/>
                  </a:lnTo>
                  <a:lnTo>
                    <a:pt x="813" y="1366"/>
                  </a:lnTo>
                  <a:lnTo>
                    <a:pt x="818" y="1370"/>
                  </a:lnTo>
                  <a:lnTo>
                    <a:pt x="818" y="1374"/>
                  </a:lnTo>
                  <a:lnTo>
                    <a:pt x="824" y="1377"/>
                  </a:lnTo>
                  <a:lnTo>
                    <a:pt x="824" y="1381"/>
                  </a:lnTo>
                  <a:lnTo>
                    <a:pt x="829" y="1383"/>
                  </a:lnTo>
                  <a:lnTo>
                    <a:pt x="835" y="1387"/>
                  </a:lnTo>
                  <a:lnTo>
                    <a:pt x="840" y="1390"/>
                  </a:lnTo>
                  <a:lnTo>
                    <a:pt x="846" y="1394"/>
                  </a:lnTo>
                  <a:lnTo>
                    <a:pt x="853" y="1398"/>
                  </a:lnTo>
                  <a:lnTo>
                    <a:pt x="857" y="1401"/>
                  </a:lnTo>
                  <a:lnTo>
                    <a:pt x="864" y="1405"/>
                  </a:lnTo>
                  <a:lnTo>
                    <a:pt x="870" y="1405"/>
                  </a:lnTo>
                  <a:lnTo>
                    <a:pt x="875" y="1405"/>
                  </a:lnTo>
                  <a:lnTo>
                    <a:pt x="881" y="1405"/>
                  </a:lnTo>
                  <a:lnTo>
                    <a:pt x="886" y="1405"/>
                  </a:lnTo>
                  <a:lnTo>
                    <a:pt x="892" y="1401"/>
                  </a:lnTo>
                  <a:lnTo>
                    <a:pt x="897" y="1398"/>
                  </a:lnTo>
                  <a:lnTo>
                    <a:pt x="903" y="1394"/>
                  </a:lnTo>
                  <a:lnTo>
                    <a:pt x="908" y="1390"/>
                  </a:lnTo>
                  <a:lnTo>
                    <a:pt x="914" y="1387"/>
                  </a:lnTo>
                  <a:lnTo>
                    <a:pt x="919" y="1383"/>
                  </a:lnTo>
                  <a:lnTo>
                    <a:pt x="925" y="1381"/>
                  </a:lnTo>
                  <a:lnTo>
                    <a:pt x="925" y="1377"/>
                  </a:lnTo>
                  <a:lnTo>
                    <a:pt x="930" y="1374"/>
                  </a:lnTo>
                  <a:lnTo>
                    <a:pt x="930" y="1370"/>
                  </a:lnTo>
                  <a:lnTo>
                    <a:pt x="936" y="1366"/>
                  </a:lnTo>
                  <a:lnTo>
                    <a:pt x="936" y="1363"/>
                  </a:lnTo>
                  <a:lnTo>
                    <a:pt x="943" y="1359"/>
                  </a:lnTo>
                  <a:lnTo>
                    <a:pt x="943" y="1357"/>
                  </a:lnTo>
                  <a:lnTo>
                    <a:pt x="947" y="1350"/>
                  </a:lnTo>
                  <a:lnTo>
                    <a:pt x="954" y="1346"/>
                  </a:lnTo>
                  <a:lnTo>
                    <a:pt x="954" y="1343"/>
                  </a:lnTo>
                  <a:lnTo>
                    <a:pt x="960" y="1335"/>
                  </a:lnTo>
                  <a:lnTo>
                    <a:pt x="960" y="1332"/>
                  </a:lnTo>
                  <a:lnTo>
                    <a:pt x="965" y="1330"/>
                  </a:lnTo>
                  <a:lnTo>
                    <a:pt x="965" y="1323"/>
                  </a:lnTo>
                  <a:lnTo>
                    <a:pt x="971" y="1319"/>
                  </a:lnTo>
                  <a:lnTo>
                    <a:pt x="971" y="1312"/>
                  </a:lnTo>
                  <a:lnTo>
                    <a:pt x="976" y="1304"/>
                  </a:lnTo>
                  <a:lnTo>
                    <a:pt x="976" y="1302"/>
                  </a:lnTo>
                  <a:lnTo>
                    <a:pt x="982" y="1295"/>
                  </a:lnTo>
                  <a:lnTo>
                    <a:pt x="982" y="1288"/>
                  </a:lnTo>
                  <a:lnTo>
                    <a:pt x="987" y="1284"/>
                  </a:lnTo>
                  <a:lnTo>
                    <a:pt x="987" y="1277"/>
                  </a:lnTo>
                  <a:lnTo>
                    <a:pt x="992" y="1271"/>
                  </a:lnTo>
                  <a:lnTo>
                    <a:pt x="992" y="1264"/>
                  </a:lnTo>
                  <a:lnTo>
                    <a:pt x="998" y="1257"/>
                  </a:lnTo>
                  <a:lnTo>
                    <a:pt x="998" y="1249"/>
                  </a:lnTo>
                  <a:lnTo>
                    <a:pt x="1003" y="1244"/>
                  </a:lnTo>
                  <a:lnTo>
                    <a:pt x="1003" y="1236"/>
                  </a:lnTo>
                  <a:lnTo>
                    <a:pt x="1009" y="1229"/>
                  </a:lnTo>
                  <a:lnTo>
                    <a:pt x="1009" y="1222"/>
                  </a:lnTo>
                  <a:lnTo>
                    <a:pt x="1014" y="1213"/>
                  </a:lnTo>
                  <a:lnTo>
                    <a:pt x="1014" y="1205"/>
                  </a:lnTo>
                  <a:lnTo>
                    <a:pt x="1020" y="1198"/>
                  </a:lnTo>
                  <a:lnTo>
                    <a:pt x="1025" y="1192"/>
                  </a:lnTo>
                  <a:lnTo>
                    <a:pt x="1025" y="1181"/>
                  </a:lnTo>
                  <a:lnTo>
                    <a:pt x="1033" y="1174"/>
                  </a:lnTo>
                  <a:lnTo>
                    <a:pt x="1033" y="1169"/>
                  </a:lnTo>
                  <a:lnTo>
                    <a:pt x="1036" y="1158"/>
                  </a:lnTo>
                  <a:lnTo>
                    <a:pt x="1036" y="1150"/>
                  </a:lnTo>
                  <a:lnTo>
                    <a:pt x="1044" y="1141"/>
                  </a:lnTo>
                  <a:lnTo>
                    <a:pt x="1044" y="1134"/>
                  </a:lnTo>
                  <a:lnTo>
                    <a:pt x="1049" y="1123"/>
                  </a:lnTo>
                  <a:lnTo>
                    <a:pt x="1049" y="1114"/>
                  </a:lnTo>
                  <a:lnTo>
                    <a:pt x="1055" y="1106"/>
                  </a:lnTo>
                  <a:lnTo>
                    <a:pt x="1055" y="1095"/>
                  </a:lnTo>
                  <a:lnTo>
                    <a:pt x="1060" y="1090"/>
                  </a:lnTo>
                  <a:lnTo>
                    <a:pt x="1060" y="1079"/>
                  </a:lnTo>
                  <a:lnTo>
                    <a:pt x="1066" y="1068"/>
                  </a:lnTo>
                  <a:lnTo>
                    <a:pt x="1066" y="1059"/>
                  </a:lnTo>
                  <a:lnTo>
                    <a:pt x="1071" y="1051"/>
                  </a:lnTo>
                  <a:lnTo>
                    <a:pt x="1071" y="1040"/>
                  </a:lnTo>
                  <a:lnTo>
                    <a:pt x="1077" y="1031"/>
                  </a:lnTo>
                  <a:lnTo>
                    <a:pt x="1077" y="1020"/>
                  </a:lnTo>
                  <a:lnTo>
                    <a:pt x="1082" y="1011"/>
                  </a:lnTo>
                  <a:lnTo>
                    <a:pt x="1082" y="1000"/>
                  </a:lnTo>
                  <a:lnTo>
                    <a:pt x="1088" y="989"/>
                  </a:lnTo>
                  <a:lnTo>
                    <a:pt x="1088" y="980"/>
                  </a:lnTo>
                  <a:lnTo>
                    <a:pt x="1093" y="969"/>
                  </a:lnTo>
                  <a:lnTo>
                    <a:pt x="1099" y="958"/>
                  </a:lnTo>
                  <a:lnTo>
                    <a:pt x="1099" y="949"/>
                  </a:lnTo>
                  <a:lnTo>
                    <a:pt x="1104" y="938"/>
                  </a:lnTo>
                  <a:lnTo>
                    <a:pt x="1104" y="929"/>
                  </a:lnTo>
                  <a:lnTo>
                    <a:pt x="1110" y="918"/>
                  </a:lnTo>
                  <a:lnTo>
                    <a:pt x="1110" y="907"/>
                  </a:lnTo>
                  <a:lnTo>
                    <a:pt x="1115" y="898"/>
                  </a:lnTo>
                  <a:lnTo>
                    <a:pt x="1115" y="887"/>
                  </a:lnTo>
                  <a:lnTo>
                    <a:pt x="1123" y="877"/>
                  </a:lnTo>
                  <a:lnTo>
                    <a:pt x="1123" y="866"/>
                  </a:lnTo>
                  <a:lnTo>
                    <a:pt x="1126" y="855"/>
                  </a:lnTo>
                  <a:lnTo>
                    <a:pt x="1126" y="846"/>
                  </a:lnTo>
                  <a:lnTo>
                    <a:pt x="1134" y="832"/>
                  </a:lnTo>
                  <a:lnTo>
                    <a:pt x="1134" y="822"/>
                  </a:lnTo>
                  <a:lnTo>
                    <a:pt x="1139" y="811"/>
                  </a:lnTo>
                  <a:lnTo>
                    <a:pt x="1139" y="800"/>
                  </a:lnTo>
                  <a:lnTo>
                    <a:pt x="1145" y="791"/>
                  </a:lnTo>
                  <a:lnTo>
                    <a:pt x="1145" y="777"/>
                  </a:lnTo>
                  <a:lnTo>
                    <a:pt x="1150" y="767"/>
                  </a:lnTo>
                  <a:lnTo>
                    <a:pt x="1150" y="756"/>
                  </a:lnTo>
                  <a:lnTo>
                    <a:pt x="1156" y="747"/>
                  </a:lnTo>
                  <a:lnTo>
                    <a:pt x="1156" y="736"/>
                  </a:lnTo>
                  <a:lnTo>
                    <a:pt x="1161" y="723"/>
                  </a:lnTo>
                  <a:lnTo>
                    <a:pt x="1161" y="712"/>
                  </a:lnTo>
                  <a:lnTo>
                    <a:pt x="1167" y="701"/>
                  </a:lnTo>
                  <a:lnTo>
                    <a:pt x="1172" y="692"/>
                  </a:lnTo>
                  <a:lnTo>
                    <a:pt x="1172" y="681"/>
                  </a:lnTo>
                  <a:lnTo>
                    <a:pt x="1178" y="669"/>
                  </a:lnTo>
                  <a:lnTo>
                    <a:pt x="1178" y="658"/>
                  </a:lnTo>
                  <a:lnTo>
                    <a:pt x="1183" y="647"/>
                  </a:lnTo>
                  <a:lnTo>
                    <a:pt x="1183" y="637"/>
                  </a:lnTo>
                  <a:lnTo>
                    <a:pt x="1189" y="626"/>
                  </a:lnTo>
                  <a:lnTo>
                    <a:pt x="1189" y="614"/>
                  </a:lnTo>
                  <a:lnTo>
                    <a:pt x="1194" y="603"/>
                  </a:lnTo>
                  <a:lnTo>
                    <a:pt x="1194" y="592"/>
                  </a:lnTo>
                  <a:lnTo>
                    <a:pt x="1199" y="582"/>
                  </a:lnTo>
                  <a:lnTo>
                    <a:pt x="1199" y="571"/>
                  </a:lnTo>
                  <a:lnTo>
                    <a:pt x="1205" y="559"/>
                  </a:lnTo>
                  <a:lnTo>
                    <a:pt x="1205" y="548"/>
                  </a:lnTo>
                  <a:lnTo>
                    <a:pt x="1210" y="537"/>
                  </a:lnTo>
                  <a:lnTo>
                    <a:pt x="1210" y="527"/>
                  </a:lnTo>
                  <a:lnTo>
                    <a:pt x="1216" y="516"/>
                  </a:lnTo>
                  <a:lnTo>
                    <a:pt x="1216" y="507"/>
                  </a:lnTo>
                  <a:lnTo>
                    <a:pt x="1223" y="496"/>
                  </a:lnTo>
                  <a:lnTo>
                    <a:pt x="1223" y="485"/>
                  </a:lnTo>
                  <a:lnTo>
                    <a:pt x="1229" y="476"/>
                  </a:lnTo>
                  <a:lnTo>
                    <a:pt x="1229" y="465"/>
                  </a:lnTo>
                  <a:lnTo>
                    <a:pt x="1234" y="456"/>
                  </a:lnTo>
                  <a:lnTo>
                    <a:pt x="1234" y="445"/>
                  </a:lnTo>
                  <a:lnTo>
                    <a:pt x="1240" y="434"/>
                  </a:lnTo>
                  <a:lnTo>
                    <a:pt x="1245" y="425"/>
                  </a:lnTo>
                  <a:lnTo>
                    <a:pt x="1245" y="414"/>
                  </a:lnTo>
                  <a:lnTo>
                    <a:pt x="1251" y="405"/>
                  </a:lnTo>
                  <a:lnTo>
                    <a:pt x="1251" y="394"/>
                  </a:lnTo>
                  <a:lnTo>
                    <a:pt x="1256" y="383"/>
                  </a:lnTo>
                  <a:lnTo>
                    <a:pt x="1256" y="374"/>
                  </a:lnTo>
                  <a:lnTo>
                    <a:pt x="1262" y="363"/>
                  </a:lnTo>
                  <a:lnTo>
                    <a:pt x="1262" y="353"/>
                  </a:lnTo>
                  <a:lnTo>
                    <a:pt x="1267" y="346"/>
                  </a:lnTo>
                  <a:lnTo>
                    <a:pt x="1267" y="335"/>
                  </a:lnTo>
                  <a:lnTo>
                    <a:pt x="1273" y="326"/>
                  </a:lnTo>
                  <a:lnTo>
                    <a:pt x="1273" y="315"/>
                  </a:lnTo>
                  <a:lnTo>
                    <a:pt x="1278" y="308"/>
                  </a:lnTo>
                  <a:lnTo>
                    <a:pt x="1278" y="298"/>
                  </a:lnTo>
                  <a:lnTo>
                    <a:pt x="1284" y="291"/>
                  </a:lnTo>
                  <a:lnTo>
                    <a:pt x="1284" y="280"/>
                  </a:lnTo>
                  <a:lnTo>
                    <a:pt x="1289" y="271"/>
                  </a:lnTo>
                  <a:lnTo>
                    <a:pt x="1289" y="264"/>
                  </a:lnTo>
                  <a:lnTo>
                    <a:pt x="1295" y="253"/>
                  </a:lnTo>
                  <a:lnTo>
                    <a:pt x="1295" y="245"/>
                  </a:lnTo>
                  <a:lnTo>
                    <a:pt x="1300" y="236"/>
                  </a:lnTo>
                  <a:lnTo>
                    <a:pt x="1300" y="229"/>
                  </a:lnTo>
                  <a:lnTo>
                    <a:pt x="1306" y="222"/>
                  </a:lnTo>
                  <a:lnTo>
                    <a:pt x="1306" y="212"/>
                  </a:lnTo>
                  <a:lnTo>
                    <a:pt x="1313" y="205"/>
                  </a:lnTo>
                  <a:lnTo>
                    <a:pt x="1319" y="198"/>
                  </a:lnTo>
                  <a:lnTo>
                    <a:pt x="1319" y="192"/>
                  </a:lnTo>
                  <a:lnTo>
                    <a:pt x="1324" y="181"/>
                  </a:lnTo>
                  <a:lnTo>
                    <a:pt x="1324" y="174"/>
                  </a:lnTo>
                  <a:lnTo>
                    <a:pt x="1330" y="167"/>
                  </a:lnTo>
                  <a:lnTo>
                    <a:pt x="1330" y="161"/>
                  </a:lnTo>
                  <a:lnTo>
                    <a:pt x="1335" y="154"/>
                  </a:lnTo>
                  <a:lnTo>
                    <a:pt x="1335" y="146"/>
                  </a:lnTo>
                  <a:lnTo>
                    <a:pt x="1341" y="141"/>
                  </a:lnTo>
                  <a:lnTo>
                    <a:pt x="1341" y="134"/>
                  </a:lnTo>
                  <a:lnTo>
                    <a:pt x="1346" y="126"/>
                  </a:lnTo>
                  <a:lnTo>
                    <a:pt x="1346" y="119"/>
                  </a:lnTo>
                  <a:lnTo>
                    <a:pt x="1352" y="115"/>
                  </a:lnTo>
                  <a:lnTo>
                    <a:pt x="1352" y="110"/>
                  </a:lnTo>
                  <a:lnTo>
                    <a:pt x="1357" y="102"/>
                  </a:lnTo>
                  <a:lnTo>
                    <a:pt x="1357" y="99"/>
                  </a:lnTo>
                  <a:lnTo>
                    <a:pt x="1363" y="91"/>
                  </a:lnTo>
                  <a:lnTo>
                    <a:pt x="1363" y="86"/>
                  </a:lnTo>
                  <a:lnTo>
                    <a:pt x="1368" y="82"/>
                  </a:lnTo>
                  <a:lnTo>
                    <a:pt x="1368" y="75"/>
                  </a:lnTo>
                  <a:lnTo>
                    <a:pt x="1374" y="71"/>
                  </a:lnTo>
                  <a:lnTo>
                    <a:pt x="1374" y="68"/>
                  </a:lnTo>
                  <a:lnTo>
                    <a:pt x="1379" y="62"/>
                  </a:lnTo>
                  <a:lnTo>
                    <a:pt x="1379" y="59"/>
                  </a:lnTo>
                  <a:lnTo>
                    <a:pt x="1385" y="55"/>
                  </a:lnTo>
                  <a:lnTo>
                    <a:pt x="1390" y="48"/>
                  </a:lnTo>
                  <a:lnTo>
                    <a:pt x="1390" y="44"/>
                  </a:lnTo>
                  <a:lnTo>
                    <a:pt x="1397" y="40"/>
                  </a:lnTo>
                  <a:lnTo>
                    <a:pt x="1397" y="37"/>
                  </a:lnTo>
                  <a:lnTo>
                    <a:pt x="1403" y="35"/>
                  </a:lnTo>
                  <a:lnTo>
                    <a:pt x="1403" y="31"/>
                  </a:lnTo>
                  <a:lnTo>
                    <a:pt x="1408" y="27"/>
                  </a:lnTo>
                  <a:lnTo>
                    <a:pt x="1408" y="24"/>
                  </a:lnTo>
                  <a:lnTo>
                    <a:pt x="1414" y="20"/>
                  </a:lnTo>
                  <a:lnTo>
                    <a:pt x="1419" y="16"/>
                  </a:lnTo>
                  <a:lnTo>
                    <a:pt x="1425" y="13"/>
                  </a:lnTo>
                  <a:lnTo>
                    <a:pt x="1430" y="9"/>
                  </a:lnTo>
                  <a:lnTo>
                    <a:pt x="1436" y="7"/>
                  </a:lnTo>
                  <a:lnTo>
                    <a:pt x="1441" y="4"/>
                  </a:lnTo>
                  <a:lnTo>
                    <a:pt x="1447" y="0"/>
                  </a:lnTo>
                  <a:lnTo>
                    <a:pt x="1452" y="0"/>
                  </a:lnTo>
                  <a:lnTo>
                    <a:pt x="1458" y="0"/>
                  </a:lnTo>
                  <a:lnTo>
                    <a:pt x="1463" y="0"/>
                  </a:lnTo>
                  <a:lnTo>
                    <a:pt x="1469" y="0"/>
                  </a:lnTo>
                  <a:lnTo>
                    <a:pt x="1474" y="4"/>
                  </a:lnTo>
                  <a:lnTo>
                    <a:pt x="1480" y="7"/>
                  </a:lnTo>
                  <a:lnTo>
                    <a:pt x="1487" y="9"/>
                  </a:lnTo>
                  <a:lnTo>
                    <a:pt x="1493" y="13"/>
                  </a:lnTo>
                  <a:lnTo>
                    <a:pt x="1498" y="16"/>
                  </a:lnTo>
                  <a:lnTo>
                    <a:pt x="1504" y="20"/>
                  </a:lnTo>
                  <a:lnTo>
                    <a:pt x="1509" y="24"/>
                  </a:lnTo>
                  <a:lnTo>
                    <a:pt x="1509" y="27"/>
                  </a:lnTo>
                  <a:lnTo>
                    <a:pt x="1515" y="31"/>
                  </a:lnTo>
                  <a:lnTo>
                    <a:pt x="1515" y="35"/>
                  </a:lnTo>
                  <a:lnTo>
                    <a:pt x="1520" y="37"/>
                  </a:lnTo>
                  <a:lnTo>
                    <a:pt x="1520" y="40"/>
                  </a:lnTo>
                  <a:lnTo>
                    <a:pt x="1526" y="44"/>
                  </a:lnTo>
                  <a:lnTo>
                    <a:pt x="1526" y="48"/>
                  </a:lnTo>
                  <a:lnTo>
                    <a:pt x="1531" y="55"/>
                  </a:lnTo>
                  <a:lnTo>
                    <a:pt x="1537" y="59"/>
                  </a:lnTo>
                  <a:lnTo>
                    <a:pt x="1537" y="62"/>
                  </a:lnTo>
                  <a:lnTo>
                    <a:pt x="1542" y="68"/>
                  </a:lnTo>
                  <a:lnTo>
                    <a:pt x="1542" y="71"/>
                  </a:lnTo>
                  <a:lnTo>
                    <a:pt x="1548" y="75"/>
                  </a:lnTo>
                  <a:lnTo>
                    <a:pt x="1548" y="82"/>
                  </a:lnTo>
                  <a:lnTo>
                    <a:pt x="1553" y="86"/>
                  </a:lnTo>
                  <a:lnTo>
                    <a:pt x="1553" y="91"/>
                  </a:lnTo>
                  <a:lnTo>
                    <a:pt x="1559" y="99"/>
                  </a:lnTo>
                  <a:lnTo>
                    <a:pt x="1559" y="102"/>
                  </a:lnTo>
                  <a:lnTo>
                    <a:pt x="1564" y="110"/>
                  </a:lnTo>
                  <a:lnTo>
                    <a:pt x="1564" y="115"/>
                  </a:lnTo>
                  <a:lnTo>
                    <a:pt x="1570" y="119"/>
                  </a:lnTo>
                  <a:lnTo>
                    <a:pt x="1570" y="126"/>
                  </a:lnTo>
                  <a:lnTo>
                    <a:pt x="1577" y="134"/>
                  </a:lnTo>
                  <a:lnTo>
                    <a:pt x="1577" y="141"/>
                  </a:lnTo>
                  <a:lnTo>
                    <a:pt x="1582" y="146"/>
                  </a:lnTo>
                  <a:lnTo>
                    <a:pt x="1582" y="154"/>
                  </a:lnTo>
                  <a:lnTo>
                    <a:pt x="1588" y="161"/>
                  </a:lnTo>
                  <a:lnTo>
                    <a:pt x="1588" y="167"/>
                  </a:lnTo>
                  <a:lnTo>
                    <a:pt x="1593" y="174"/>
                  </a:lnTo>
                  <a:lnTo>
                    <a:pt x="1593" y="181"/>
                  </a:lnTo>
                  <a:lnTo>
                    <a:pt x="1599" y="192"/>
                  </a:lnTo>
                  <a:lnTo>
                    <a:pt x="1599" y="198"/>
                  </a:lnTo>
                  <a:lnTo>
                    <a:pt x="1604" y="205"/>
                  </a:lnTo>
                  <a:lnTo>
                    <a:pt x="1610" y="212"/>
                  </a:lnTo>
                  <a:lnTo>
                    <a:pt x="1610" y="222"/>
                  </a:lnTo>
                  <a:lnTo>
                    <a:pt x="1615" y="229"/>
                  </a:lnTo>
                  <a:lnTo>
                    <a:pt x="1615" y="236"/>
                  </a:lnTo>
                  <a:lnTo>
                    <a:pt x="1621" y="245"/>
                  </a:lnTo>
                  <a:lnTo>
                    <a:pt x="1621" y="253"/>
                  </a:lnTo>
                  <a:lnTo>
                    <a:pt x="1626" y="264"/>
                  </a:lnTo>
                  <a:lnTo>
                    <a:pt x="1626" y="271"/>
                  </a:lnTo>
                  <a:lnTo>
                    <a:pt x="1632" y="280"/>
                  </a:lnTo>
                  <a:lnTo>
                    <a:pt x="1632" y="291"/>
                  </a:lnTo>
                  <a:lnTo>
                    <a:pt x="1637" y="298"/>
                  </a:lnTo>
                  <a:lnTo>
                    <a:pt x="1637" y="308"/>
                  </a:lnTo>
                  <a:lnTo>
                    <a:pt x="1643" y="315"/>
                  </a:lnTo>
                  <a:lnTo>
                    <a:pt x="1643" y="326"/>
                  </a:lnTo>
                  <a:lnTo>
                    <a:pt x="1648" y="335"/>
                  </a:lnTo>
                  <a:lnTo>
                    <a:pt x="1648" y="346"/>
                  </a:lnTo>
                  <a:lnTo>
                    <a:pt x="1654" y="353"/>
                  </a:lnTo>
                  <a:lnTo>
                    <a:pt x="1654" y="363"/>
                  </a:lnTo>
                  <a:lnTo>
                    <a:pt x="1659" y="374"/>
                  </a:lnTo>
                  <a:lnTo>
                    <a:pt x="1659" y="383"/>
                  </a:lnTo>
                  <a:lnTo>
                    <a:pt x="1667" y="394"/>
                  </a:lnTo>
                  <a:lnTo>
                    <a:pt x="1667" y="405"/>
                  </a:lnTo>
                  <a:lnTo>
                    <a:pt x="1670" y="414"/>
                  </a:lnTo>
                  <a:lnTo>
                    <a:pt x="1670" y="425"/>
                  </a:lnTo>
                  <a:lnTo>
                    <a:pt x="1678" y="434"/>
                  </a:lnTo>
                  <a:lnTo>
                    <a:pt x="1683" y="445"/>
                  </a:lnTo>
                  <a:lnTo>
                    <a:pt x="1683" y="456"/>
                  </a:lnTo>
                  <a:lnTo>
                    <a:pt x="1689" y="465"/>
                  </a:lnTo>
                  <a:lnTo>
                    <a:pt x="1689" y="476"/>
                  </a:lnTo>
                  <a:lnTo>
                    <a:pt x="1694" y="485"/>
                  </a:lnTo>
                  <a:lnTo>
                    <a:pt x="1694" y="496"/>
                  </a:lnTo>
                  <a:lnTo>
                    <a:pt x="1700" y="507"/>
                  </a:lnTo>
                  <a:lnTo>
                    <a:pt x="1700" y="516"/>
                  </a:lnTo>
                  <a:lnTo>
                    <a:pt x="1705" y="527"/>
                  </a:lnTo>
                  <a:lnTo>
                    <a:pt x="1705" y="537"/>
                  </a:lnTo>
                  <a:lnTo>
                    <a:pt x="1711" y="548"/>
                  </a:lnTo>
                  <a:lnTo>
                    <a:pt x="1711" y="559"/>
                  </a:lnTo>
                  <a:lnTo>
                    <a:pt x="1716" y="571"/>
                  </a:lnTo>
                  <a:lnTo>
                    <a:pt x="1716" y="582"/>
                  </a:lnTo>
                  <a:lnTo>
                    <a:pt x="1722" y="592"/>
                  </a:lnTo>
                  <a:lnTo>
                    <a:pt x="1722" y="603"/>
                  </a:lnTo>
                  <a:lnTo>
                    <a:pt x="1727" y="614"/>
                  </a:lnTo>
                  <a:lnTo>
                    <a:pt x="1727" y="626"/>
                  </a:lnTo>
                  <a:lnTo>
                    <a:pt x="1733" y="637"/>
                  </a:lnTo>
                  <a:lnTo>
                    <a:pt x="1733" y="647"/>
                  </a:lnTo>
                  <a:lnTo>
                    <a:pt x="1738" y="658"/>
                  </a:lnTo>
                  <a:lnTo>
                    <a:pt x="1738" y="669"/>
                  </a:lnTo>
                  <a:lnTo>
                    <a:pt x="1744" y="681"/>
                  </a:lnTo>
                  <a:lnTo>
                    <a:pt x="1744" y="692"/>
                  </a:lnTo>
                  <a:lnTo>
                    <a:pt x="1749" y="701"/>
                  </a:lnTo>
                  <a:lnTo>
                    <a:pt x="1756" y="712"/>
                  </a:lnTo>
                  <a:lnTo>
                    <a:pt x="1756" y="723"/>
                  </a:lnTo>
                  <a:lnTo>
                    <a:pt x="1760" y="736"/>
                  </a:lnTo>
                  <a:lnTo>
                    <a:pt x="1760" y="747"/>
                  </a:lnTo>
                  <a:lnTo>
                    <a:pt x="1767" y="756"/>
                  </a:lnTo>
                  <a:lnTo>
                    <a:pt x="1767" y="767"/>
                  </a:lnTo>
                  <a:lnTo>
                    <a:pt x="1773" y="777"/>
                  </a:lnTo>
                  <a:lnTo>
                    <a:pt x="1773" y="791"/>
                  </a:lnTo>
                  <a:lnTo>
                    <a:pt x="1778" y="800"/>
                  </a:lnTo>
                  <a:lnTo>
                    <a:pt x="1778" y="811"/>
                  </a:lnTo>
                  <a:lnTo>
                    <a:pt x="1784" y="822"/>
                  </a:lnTo>
                  <a:lnTo>
                    <a:pt x="1784" y="832"/>
                  </a:lnTo>
                  <a:lnTo>
                    <a:pt x="1789" y="846"/>
                  </a:lnTo>
                  <a:lnTo>
                    <a:pt x="1789" y="855"/>
                  </a:lnTo>
                  <a:lnTo>
                    <a:pt x="1795" y="866"/>
                  </a:lnTo>
                  <a:lnTo>
                    <a:pt x="1795" y="877"/>
                  </a:lnTo>
                  <a:lnTo>
                    <a:pt x="1800" y="887"/>
                  </a:lnTo>
                  <a:lnTo>
                    <a:pt x="1800" y="898"/>
                  </a:lnTo>
                  <a:lnTo>
                    <a:pt x="1806" y="907"/>
                  </a:lnTo>
                  <a:lnTo>
                    <a:pt x="1806" y="918"/>
                  </a:lnTo>
                  <a:lnTo>
                    <a:pt x="1811" y="929"/>
                  </a:lnTo>
                  <a:lnTo>
                    <a:pt x="1811" y="938"/>
                  </a:lnTo>
                  <a:lnTo>
                    <a:pt x="1817" y="949"/>
                  </a:lnTo>
                  <a:lnTo>
                    <a:pt x="1817" y="958"/>
                  </a:lnTo>
                  <a:lnTo>
                    <a:pt x="1822" y="969"/>
                  </a:lnTo>
                  <a:lnTo>
                    <a:pt x="1828" y="980"/>
                  </a:lnTo>
                  <a:lnTo>
                    <a:pt x="1828" y="989"/>
                  </a:lnTo>
                  <a:lnTo>
                    <a:pt x="1833" y="1000"/>
                  </a:lnTo>
                  <a:lnTo>
                    <a:pt x="1833" y="1011"/>
                  </a:lnTo>
                  <a:lnTo>
                    <a:pt x="1839" y="1020"/>
                  </a:lnTo>
                  <a:lnTo>
                    <a:pt x="1839" y="1031"/>
                  </a:lnTo>
                  <a:lnTo>
                    <a:pt x="1846" y="1040"/>
                  </a:lnTo>
                  <a:lnTo>
                    <a:pt x="1846" y="1051"/>
                  </a:lnTo>
                  <a:lnTo>
                    <a:pt x="1850" y="1059"/>
                  </a:lnTo>
                  <a:lnTo>
                    <a:pt x="1850" y="1068"/>
                  </a:lnTo>
                  <a:lnTo>
                    <a:pt x="1857" y="1079"/>
                  </a:lnTo>
                  <a:lnTo>
                    <a:pt x="1857" y="1090"/>
                  </a:lnTo>
                  <a:lnTo>
                    <a:pt x="1863" y="1095"/>
                  </a:lnTo>
                  <a:lnTo>
                    <a:pt x="1863" y="1106"/>
                  </a:lnTo>
                  <a:lnTo>
                    <a:pt x="1868" y="1114"/>
                  </a:lnTo>
                  <a:lnTo>
                    <a:pt x="1868" y="1123"/>
                  </a:lnTo>
                  <a:lnTo>
                    <a:pt x="1874" y="1134"/>
                  </a:lnTo>
                  <a:lnTo>
                    <a:pt x="1874" y="1141"/>
                  </a:lnTo>
                  <a:lnTo>
                    <a:pt x="1879" y="1150"/>
                  </a:lnTo>
                  <a:lnTo>
                    <a:pt x="1879" y="1158"/>
                  </a:lnTo>
                  <a:lnTo>
                    <a:pt x="1885" y="1169"/>
                  </a:lnTo>
                  <a:lnTo>
                    <a:pt x="1885" y="1174"/>
                  </a:lnTo>
                  <a:lnTo>
                    <a:pt x="1890" y="1181"/>
                  </a:lnTo>
                  <a:lnTo>
                    <a:pt x="1890" y="1192"/>
                  </a:lnTo>
                  <a:lnTo>
                    <a:pt x="1896" y="1198"/>
                  </a:lnTo>
                  <a:lnTo>
                    <a:pt x="1901" y="1205"/>
                  </a:lnTo>
                  <a:lnTo>
                    <a:pt x="1901" y="1213"/>
                  </a:lnTo>
                  <a:lnTo>
                    <a:pt x="1907" y="1222"/>
                  </a:lnTo>
                  <a:lnTo>
                    <a:pt x="1907" y="1229"/>
                  </a:lnTo>
                  <a:lnTo>
                    <a:pt x="1912" y="1236"/>
                  </a:lnTo>
                  <a:lnTo>
                    <a:pt x="1912" y="1244"/>
                  </a:lnTo>
                  <a:lnTo>
                    <a:pt x="1918" y="1249"/>
                  </a:lnTo>
                  <a:lnTo>
                    <a:pt x="1918" y="1257"/>
                  </a:lnTo>
                  <a:lnTo>
                    <a:pt x="1923" y="1264"/>
                  </a:lnTo>
                  <a:lnTo>
                    <a:pt x="1923" y="1271"/>
                  </a:lnTo>
                  <a:lnTo>
                    <a:pt x="1929" y="1277"/>
                  </a:lnTo>
                  <a:lnTo>
                    <a:pt x="1929" y="1284"/>
                  </a:lnTo>
                  <a:lnTo>
                    <a:pt x="1936" y="1288"/>
                  </a:lnTo>
                  <a:lnTo>
                    <a:pt x="1936" y="1295"/>
                  </a:lnTo>
                  <a:lnTo>
                    <a:pt x="1940" y="1302"/>
                  </a:lnTo>
                  <a:lnTo>
                    <a:pt x="1940" y="1304"/>
                  </a:lnTo>
                  <a:lnTo>
                    <a:pt x="1947" y="1312"/>
                  </a:lnTo>
                  <a:lnTo>
                    <a:pt x="1947" y="1319"/>
                  </a:lnTo>
                  <a:lnTo>
                    <a:pt x="1952" y="1323"/>
                  </a:lnTo>
                  <a:lnTo>
                    <a:pt x="1952" y="1330"/>
                  </a:lnTo>
                  <a:lnTo>
                    <a:pt x="1958" y="1332"/>
                  </a:lnTo>
                  <a:lnTo>
                    <a:pt x="1958" y="1335"/>
                  </a:lnTo>
                  <a:lnTo>
                    <a:pt x="1963" y="1343"/>
                  </a:lnTo>
                  <a:lnTo>
                    <a:pt x="1963" y="1346"/>
                  </a:lnTo>
                  <a:lnTo>
                    <a:pt x="1969" y="1350"/>
                  </a:lnTo>
                  <a:lnTo>
                    <a:pt x="1974" y="1357"/>
                  </a:lnTo>
                  <a:lnTo>
                    <a:pt x="1974" y="1359"/>
                  </a:lnTo>
                  <a:lnTo>
                    <a:pt x="1980" y="1363"/>
                  </a:lnTo>
                  <a:lnTo>
                    <a:pt x="1980" y="1366"/>
                  </a:lnTo>
                  <a:lnTo>
                    <a:pt x="1985" y="1370"/>
                  </a:lnTo>
                  <a:lnTo>
                    <a:pt x="1985" y="1374"/>
                  </a:lnTo>
                  <a:lnTo>
                    <a:pt x="1991" y="1377"/>
                  </a:lnTo>
                  <a:lnTo>
                    <a:pt x="1991" y="1381"/>
                  </a:lnTo>
                  <a:lnTo>
                    <a:pt x="1996" y="1383"/>
                  </a:lnTo>
                  <a:lnTo>
                    <a:pt x="2002" y="1387"/>
                  </a:lnTo>
                  <a:lnTo>
                    <a:pt x="2007" y="1390"/>
                  </a:lnTo>
                  <a:lnTo>
                    <a:pt x="2013" y="1394"/>
                  </a:lnTo>
                  <a:lnTo>
                    <a:pt x="2018" y="1398"/>
                  </a:lnTo>
                  <a:lnTo>
                    <a:pt x="2026" y="1401"/>
                  </a:lnTo>
                  <a:lnTo>
                    <a:pt x="2029" y="1405"/>
                  </a:lnTo>
                  <a:lnTo>
                    <a:pt x="2037" y="1405"/>
                  </a:lnTo>
                  <a:lnTo>
                    <a:pt x="2042" y="1405"/>
                  </a:lnTo>
                  <a:lnTo>
                    <a:pt x="2048" y="1405"/>
                  </a:lnTo>
                  <a:lnTo>
                    <a:pt x="2053" y="1405"/>
                  </a:lnTo>
                  <a:lnTo>
                    <a:pt x="2059" y="1401"/>
                  </a:lnTo>
                  <a:lnTo>
                    <a:pt x="2064" y="1398"/>
                  </a:lnTo>
                  <a:lnTo>
                    <a:pt x="2070" y="1394"/>
                  </a:lnTo>
                  <a:lnTo>
                    <a:pt x="2075" y="1390"/>
                  </a:lnTo>
                  <a:lnTo>
                    <a:pt x="2081" y="1387"/>
                  </a:lnTo>
                  <a:lnTo>
                    <a:pt x="2086" y="1383"/>
                  </a:lnTo>
                  <a:lnTo>
                    <a:pt x="2092" y="1381"/>
                  </a:lnTo>
                  <a:lnTo>
                    <a:pt x="2092" y="1377"/>
                  </a:lnTo>
                  <a:lnTo>
                    <a:pt x="2097" y="1374"/>
                  </a:lnTo>
                  <a:lnTo>
                    <a:pt x="2097" y="1370"/>
                  </a:lnTo>
                  <a:lnTo>
                    <a:pt x="2103" y="1366"/>
                  </a:lnTo>
                  <a:lnTo>
                    <a:pt x="2103" y="1363"/>
                  </a:lnTo>
                  <a:lnTo>
                    <a:pt x="2108" y="1359"/>
                  </a:lnTo>
                  <a:lnTo>
                    <a:pt x="2108" y="1357"/>
                  </a:lnTo>
                  <a:lnTo>
                    <a:pt x="2115" y="1350"/>
                  </a:lnTo>
                  <a:lnTo>
                    <a:pt x="2119" y="1346"/>
                  </a:lnTo>
                  <a:lnTo>
                    <a:pt x="2119" y="1343"/>
                  </a:lnTo>
                  <a:lnTo>
                    <a:pt x="2126" y="1335"/>
                  </a:lnTo>
                  <a:lnTo>
                    <a:pt x="2126" y="1332"/>
                  </a:lnTo>
                  <a:lnTo>
                    <a:pt x="2132" y="1330"/>
                  </a:lnTo>
                  <a:lnTo>
                    <a:pt x="2132" y="1323"/>
                  </a:lnTo>
                  <a:lnTo>
                    <a:pt x="2137" y="1319"/>
                  </a:lnTo>
                  <a:lnTo>
                    <a:pt x="2137" y="1312"/>
                  </a:lnTo>
                  <a:lnTo>
                    <a:pt x="2143" y="1304"/>
                  </a:lnTo>
                  <a:lnTo>
                    <a:pt x="2143" y="1302"/>
                  </a:lnTo>
                  <a:lnTo>
                    <a:pt x="2148" y="1295"/>
                  </a:lnTo>
                  <a:lnTo>
                    <a:pt x="2148" y="1288"/>
                  </a:lnTo>
                  <a:lnTo>
                    <a:pt x="2154" y="1284"/>
                  </a:lnTo>
                  <a:lnTo>
                    <a:pt x="2154" y="1277"/>
                  </a:lnTo>
                  <a:lnTo>
                    <a:pt x="2159" y="1271"/>
                  </a:lnTo>
                  <a:lnTo>
                    <a:pt x="2159" y="1264"/>
                  </a:lnTo>
                  <a:lnTo>
                    <a:pt x="2165" y="1257"/>
                  </a:lnTo>
                  <a:lnTo>
                    <a:pt x="2165" y="1249"/>
                  </a:lnTo>
                  <a:lnTo>
                    <a:pt x="2170" y="1244"/>
                  </a:lnTo>
                  <a:lnTo>
                    <a:pt x="2170" y="1236"/>
                  </a:lnTo>
                  <a:lnTo>
                    <a:pt x="2176" y="1229"/>
                  </a:lnTo>
                  <a:lnTo>
                    <a:pt x="2176" y="1222"/>
                  </a:lnTo>
                  <a:lnTo>
                    <a:pt x="2181" y="1213"/>
                  </a:lnTo>
                  <a:lnTo>
                    <a:pt x="2181" y="1205"/>
                  </a:lnTo>
                  <a:lnTo>
                    <a:pt x="2187" y="1198"/>
                  </a:lnTo>
                  <a:lnTo>
                    <a:pt x="2192" y="1192"/>
                  </a:lnTo>
                  <a:lnTo>
                    <a:pt x="2192" y="1181"/>
                  </a:lnTo>
                  <a:lnTo>
                    <a:pt x="2198" y="1174"/>
                  </a:lnTo>
                  <a:lnTo>
                    <a:pt x="2198" y="1169"/>
                  </a:lnTo>
                  <a:lnTo>
                    <a:pt x="2205" y="1158"/>
                  </a:lnTo>
                  <a:lnTo>
                    <a:pt x="2205" y="1150"/>
                  </a:lnTo>
                  <a:lnTo>
                    <a:pt x="2209" y="1141"/>
                  </a:lnTo>
                  <a:lnTo>
                    <a:pt x="2209" y="1134"/>
                  </a:lnTo>
                  <a:lnTo>
                    <a:pt x="2216" y="1123"/>
                  </a:lnTo>
                  <a:lnTo>
                    <a:pt x="2216" y="1114"/>
                  </a:lnTo>
                  <a:lnTo>
                    <a:pt x="2222" y="1106"/>
                  </a:lnTo>
                  <a:lnTo>
                    <a:pt x="2222" y="1095"/>
                  </a:lnTo>
                  <a:lnTo>
                    <a:pt x="2227" y="1090"/>
                  </a:lnTo>
                  <a:lnTo>
                    <a:pt x="2227" y="1079"/>
                  </a:lnTo>
                  <a:lnTo>
                    <a:pt x="2233" y="1068"/>
                  </a:lnTo>
                  <a:lnTo>
                    <a:pt x="2233" y="1059"/>
                  </a:lnTo>
                  <a:lnTo>
                    <a:pt x="2238" y="1051"/>
                  </a:lnTo>
                  <a:lnTo>
                    <a:pt x="2238" y="1040"/>
                  </a:lnTo>
                  <a:lnTo>
                    <a:pt x="2244" y="1031"/>
                  </a:lnTo>
                  <a:lnTo>
                    <a:pt x="2244" y="1020"/>
                  </a:lnTo>
                  <a:lnTo>
                    <a:pt x="2249" y="1011"/>
                  </a:lnTo>
                  <a:lnTo>
                    <a:pt x="2249" y="1000"/>
                  </a:lnTo>
                  <a:lnTo>
                    <a:pt x="2255" y="989"/>
                  </a:lnTo>
                  <a:lnTo>
                    <a:pt x="2255" y="980"/>
                  </a:lnTo>
                  <a:lnTo>
                    <a:pt x="2260" y="969"/>
                  </a:lnTo>
                  <a:lnTo>
                    <a:pt x="2266" y="958"/>
                  </a:lnTo>
                  <a:lnTo>
                    <a:pt x="2266" y="949"/>
                  </a:lnTo>
                  <a:lnTo>
                    <a:pt x="2271" y="938"/>
                  </a:lnTo>
                  <a:lnTo>
                    <a:pt x="2271" y="929"/>
                  </a:lnTo>
                  <a:lnTo>
                    <a:pt x="2277" y="918"/>
                  </a:lnTo>
                  <a:lnTo>
                    <a:pt x="2277" y="907"/>
                  </a:lnTo>
                  <a:lnTo>
                    <a:pt x="2282" y="898"/>
                  </a:lnTo>
                  <a:lnTo>
                    <a:pt x="2282" y="887"/>
                  </a:lnTo>
                  <a:lnTo>
                    <a:pt x="2288" y="877"/>
                  </a:lnTo>
                  <a:lnTo>
                    <a:pt x="2288" y="866"/>
                  </a:lnTo>
                  <a:lnTo>
                    <a:pt x="2293" y="855"/>
                  </a:lnTo>
                  <a:lnTo>
                    <a:pt x="2293" y="846"/>
                  </a:lnTo>
                  <a:lnTo>
                    <a:pt x="2299" y="832"/>
                  </a:lnTo>
                  <a:lnTo>
                    <a:pt x="2299" y="822"/>
                  </a:lnTo>
                  <a:lnTo>
                    <a:pt x="2306" y="811"/>
                  </a:lnTo>
                  <a:lnTo>
                    <a:pt x="2306" y="800"/>
                  </a:lnTo>
                  <a:lnTo>
                    <a:pt x="2311" y="791"/>
                  </a:lnTo>
                  <a:lnTo>
                    <a:pt x="2311" y="777"/>
                  </a:lnTo>
                  <a:lnTo>
                    <a:pt x="2317" y="767"/>
                  </a:lnTo>
                  <a:lnTo>
                    <a:pt x="2317" y="756"/>
                  </a:lnTo>
                  <a:lnTo>
                    <a:pt x="2322" y="747"/>
                  </a:lnTo>
                  <a:lnTo>
                    <a:pt x="2322" y="736"/>
                  </a:lnTo>
                  <a:lnTo>
                    <a:pt x="2328" y="723"/>
                  </a:lnTo>
                  <a:lnTo>
                    <a:pt x="2328" y="712"/>
                  </a:lnTo>
                  <a:lnTo>
                    <a:pt x="2333" y="701"/>
                  </a:lnTo>
                  <a:lnTo>
                    <a:pt x="2339" y="692"/>
                  </a:lnTo>
                  <a:lnTo>
                    <a:pt x="2339" y="681"/>
                  </a:lnTo>
                  <a:lnTo>
                    <a:pt x="2344" y="669"/>
                  </a:lnTo>
                  <a:lnTo>
                    <a:pt x="2344" y="658"/>
                  </a:lnTo>
                  <a:lnTo>
                    <a:pt x="2350" y="647"/>
                  </a:lnTo>
                  <a:lnTo>
                    <a:pt x="2350" y="637"/>
                  </a:lnTo>
                  <a:lnTo>
                    <a:pt x="2355" y="626"/>
                  </a:lnTo>
                  <a:lnTo>
                    <a:pt x="2355" y="614"/>
                  </a:lnTo>
                  <a:lnTo>
                    <a:pt x="2361" y="603"/>
                  </a:lnTo>
                  <a:lnTo>
                    <a:pt x="2361" y="592"/>
                  </a:lnTo>
                  <a:lnTo>
                    <a:pt x="2366" y="582"/>
                  </a:lnTo>
                  <a:lnTo>
                    <a:pt x="2366" y="571"/>
                  </a:lnTo>
                  <a:lnTo>
                    <a:pt x="2372" y="559"/>
                  </a:lnTo>
                  <a:lnTo>
                    <a:pt x="2372" y="548"/>
                  </a:lnTo>
                  <a:lnTo>
                    <a:pt x="2377" y="537"/>
                  </a:lnTo>
                  <a:lnTo>
                    <a:pt x="2377" y="527"/>
                  </a:lnTo>
                  <a:lnTo>
                    <a:pt x="2383" y="516"/>
                  </a:lnTo>
                  <a:lnTo>
                    <a:pt x="2383" y="507"/>
                  </a:lnTo>
                  <a:lnTo>
                    <a:pt x="2388" y="496"/>
                  </a:lnTo>
                  <a:lnTo>
                    <a:pt x="2388" y="485"/>
                  </a:lnTo>
                  <a:lnTo>
                    <a:pt x="2396" y="476"/>
                  </a:lnTo>
                  <a:lnTo>
                    <a:pt x="2396" y="465"/>
                  </a:lnTo>
                  <a:lnTo>
                    <a:pt x="2401" y="456"/>
                  </a:lnTo>
                  <a:lnTo>
                    <a:pt x="2401" y="445"/>
                  </a:lnTo>
                  <a:lnTo>
                    <a:pt x="2407" y="434"/>
                  </a:lnTo>
                  <a:lnTo>
                    <a:pt x="2412" y="425"/>
                  </a:lnTo>
                  <a:lnTo>
                    <a:pt x="2412" y="414"/>
                  </a:lnTo>
                  <a:lnTo>
                    <a:pt x="2418" y="405"/>
                  </a:lnTo>
                  <a:lnTo>
                    <a:pt x="2418" y="394"/>
                  </a:lnTo>
                  <a:lnTo>
                    <a:pt x="2423" y="383"/>
                  </a:lnTo>
                  <a:lnTo>
                    <a:pt x="2423" y="374"/>
                  </a:lnTo>
                  <a:lnTo>
                    <a:pt x="2429" y="363"/>
                  </a:lnTo>
                  <a:lnTo>
                    <a:pt x="2429" y="353"/>
                  </a:lnTo>
                  <a:lnTo>
                    <a:pt x="2434" y="346"/>
                  </a:lnTo>
                  <a:lnTo>
                    <a:pt x="2434" y="335"/>
                  </a:lnTo>
                  <a:lnTo>
                    <a:pt x="2440" y="326"/>
                  </a:lnTo>
                  <a:lnTo>
                    <a:pt x="2440" y="315"/>
                  </a:lnTo>
                  <a:lnTo>
                    <a:pt x="2445" y="308"/>
                  </a:lnTo>
                  <a:lnTo>
                    <a:pt x="2445" y="298"/>
                  </a:lnTo>
                  <a:lnTo>
                    <a:pt x="2451" y="291"/>
                  </a:lnTo>
                  <a:lnTo>
                    <a:pt x="2451" y="280"/>
                  </a:lnTo>
                  <a:lnTo>
                    <a:pt x="2456" y="271"/>
                  </a:lnTo>
                  <a:lnTo>
                    <a:pt x="2456" y="264"/>
                  </a:lnTo>
                  <a:lnTo>
                    <a:pt x="2462" y="253"/>
                  </a:lnTo>
                  <a:lnTo>
                    <a:pt x="2462" y="245"/>
                  </a:lnTo>
                  <a:lnTo>
                    <a:pt x="2467" y="236"/>
                  </a:lnTo>
                  <a:lnTo>
                    <a:pt x="2467" y="229"/>
                  </a:lnTo>
                  <a:lnTo>
                    <a:pt x="2473" y="222"/>
                  </a:lnTo>
                  <a:lnTo>
                    <a:pt x="2473" y="212"/>
                  </a:lnTo>
                  <a:lnTo>
                    <a:pt x="2478" y="205"/>
                  </a:lnTo>
                  <a:lnTo>
                    <a:pt x="2485" y="198"/>
                  </a:lnTo>
                  <a:lnTo>
                    <a:pt x="2485" y="192"/>
                  </a:lnTo>
                  <a:lnTo>
                    <a:pt x="2491" y="181"/>
                  </a:lnTo>
                  <a:lnTo>
                    <a:pt x="2491" y="174"/>
                  </a:lnTo>
                  <a:lnTo>
                    <a:pt x="2496" y="167"/>
                  </a:lnTo>
                  <a:lnTo>
                    <a:pt x="2496" y="161"/>
                  </a:lnTo>
                  <a:lnTo>
                    <a:pt x="2502" y="154"/>
                  </a:lnTo>
                  <a:lnTo>
                    <a:pt x="2502" y="146"/>
                  </a:lnTo>
                  <a:lnTo>
                    <a:pt x="2507" y="141"/>
                  </a:lnTo>
                  <a:lnTo>
                    <a:pt x="2507" y="134"/>
                  </a:lnTo>
                  <a:lnTo>
                    <a:pt x="2513" y="126"/>
                  </a:lnTo>
                  <a:lnTo>
                    <a:pt x="2513" y="119"/>
                  </a:lnTo>
                  <a:lnTo>
                    <a:pt x="2518" y="115"/>
                  </a:lnTo>
                  <a:lnTo>
                    <a:pt x="2518" y="110"/>
                  </a:lnTo>
                  <a:lnTo>
                    <a:pt x="2524" y="102"/>
                  </a:lnTo>
                  <a:lnTo>
                    <a:pt x="2524" y="99"/>
                  </a:lnTo>
                  <a:lnTo>
                    <a:pt x="2529" y="91"/>
                  </a:lnTo>
                  <a:lnTo>
                    <a:pt x="2529" y="86"/>
                  </a:lnTo>
                  <a:lnTo>
                    <a:pt x="2535" y="82"/>
                  </a:lnTo>
                  <a:lnTo>
                    <a:pt x="2535" y="75"/>
                  </a:lnTo>
                  <a:lnTo>
                    <a:pt x="2540" y="71"/>
                  </a:lnTo>
                  <a:lnTo>
                    <a:pt x="2540" y="68"/>
                  </a:lnTo>
                  <a:lnTo>
                    <a:pt x="2546" y="62"/>
                  </a:lnTo>
                  <a:lnTo>
                    <a:pt x="2546" y="59"/>
                  </a:lnTo>
                  <a:lnTo>
                    <a:pt x="2551" y="55"/>
                  </a:lnTo>
                  <a:lnTo>
                    <a:pt x="2557" y="48"/>
                  </a:lnTo>
                  <a:lnTo>
                    <a:pt x="2557" y="44"/>
                  </a:lnTo>
                  <a:lnTo>
                    <a:pt x="2562" y="40"/>
                  </a:lnTo>
                  <a:lnTo>
                    <a:pt x="2562" y="37"/>
                  </a:lnTo>
                  <a:lnTo>
                    <a:pt x="2568" y="35"/>
                  </a:lnTo>
                  <a:lnTo>
                    <a:pt x="2568" y="31"/>
                  </a:lnTo>
                  <a:lnTo>
                    <a:pt x="2575" y="27"/>
                  </a:lnTo>
                  <a:lnTo>
                    <a:pt x="2575" y="24"/>
                  </a:lnTo>
                  <a:lnTo>
                    <a:pt x="2581" y="20"/>
                  </a:lnTo>
                  <a:lnTo>
                    <a:pt x="2586" y="16"/>
                  </a:lnTo>
                  <a:lnTo>
                    <a:pt x="2592" y="13"/>
                  </a:lnTo>
                  <a:lnTo>
                    <a:pt x="2597" y="9"/>
                  </a:lnTo>
                  <a:lnTo>
                    <a:pt x="2603" y="7"/>
                  </a:lnTo>
                  <a:lnTo>
                    <a:pt x="2608" y="4"/>
                  </a:lnTo>
                  <a:lnTo>
                    <a:pt x="2614" y="0"/>
                  </a:lnTo>
                  <a:lnTo>
                    <a:pt x="2619" y="0"/>
                  </a:lnTo>
                  <a:lnTo>
                    <a:pt x="2625" y="0"/>
                  </a:lnTo>
                  <a:lnTo>
                    <a:pt x="2630" y="0"/>
                  </a:lnTo>
                  <a:lnTo>
                    <a:pt x="2636" y="0"/>
                  </a:lnTo>
                  <a:lnTo>
                    <a:pt x="2641" y="4"/>
                  </a:lnTo>
                  <a:lnTo>
                    <a:pt x="2647" y="7"/>
                  </a:lnTo>
                  <a:lnTo>
                    <a:pt x="2652" y="9"/>
                  </a:lnTo>
                  <a:lnTo>
                    <a:pt x="2658" y="13"/>
                  </a:lnTo>
                  <a:lnTo>
                    <a:pt x="2665" y="16"/>
                  </a:lnTo>
                  <a:lnTo>
                    <a:pt x="2670" y="20"/>
                  </a:lnTo>
                  <a:lnTo>
                    <a:pt x="2676" y="24"/>
                  </a:lnTo>
                  <a:lnTo>
                    <a:pt x="2676" y="27"/>
                  </a:lnTo>
                  <a:lnTo>
                    <a:pt x="2681" y="31"/>
                  </a:lnTo>
                  <a:lnTo>
                    <a:pt x="2681" y="35"/>
                  </a:lnTo>
                  <a:lnTo>
                    <a:pt x="2687" y="37"/>
                  </a:lnTo>
                  <a:lnTo>
                    <a:pt x="2687" y="40"/>
                  </a:lnTo>
                  <a:lnTo>
                    <a:pt x="2692" y="44"/>
                  </a:lnTo>
                  <a:lnTo>
                    <a:pt x="2692" y="48"/>
                  </a:lnTo>
                  <a:lnTo>
                    <a:pt x="2698" y="55"/>
                  </a:lnTo>
                  <a:lnTo>
                    <a:pt x="2703" y="59"/>
                  </a:lnTo>
                  <a:lnTo>
                    <a:pt x="2703" y="62"/>
                  </a:lnTo>
                  <a:lnTo>
                    <a:pt x="2709" y="68"/>
                  </a:lnTo>
                  <a:lnTo>
                    <a:pt x="2709" y="71"/>
                  </a:lnTo>
                  <a:lnTo>
                    <a:pt x="2714" y="75"/>
                  </a:lnTo>
                  <a:lnTo>
                    <a:pt x="2714" y="82"/>
                  </a:lnTo>
                  <a:lnTo>
                    <a:pt x="2720" y="86"/>
                  </a:lnTo>
                  <a:lnTo>
                    <a:pt x="2720" y="91"/>
                  </a:lnTo>
                  <a:lnTo>
                    <a:pt x="2725" y="99"/>
                  </a:lnTo>
                  <a:lnTo>
                    <a:pt x="2725" y="102"/>
                  </a:lnTo>
                  <a:lnTo>
                    <a:pt x="2731" y="110"/>
                  </a:lnTo>
                  <a:lnTo>
                    <a:pt x="2731" y="115"/>
                  </a:lnTo>
                  <a:lnTo>
                    <a:pt x="2736" y="119"/>
                  </a:lnTo>
                  <a:lnTo>
                    <a:pt x="2736" y="126"/>
                  </a:lnTo>
                  <a:lnTo>
                    <a:pt x="2742" y="134"/>
                  </a:lnTo>
                  <a:lnTo>
                    <a:pt x="2742" y="141"/>
                  </a:lnTo>
                  <a:lnTo>
                    <a:pt x="2747" y="146"/>
                  </a:lnTo>
                  <a:lnTo>
                    <a:pt x="2747" y="154"/>
                  </a:lnTo>
                  <a:lnTo>
                    <a:pt x="2753" y="161"/>
                  </a:lnTo>
                  <a:lnTo>
                    <a:pt x="2753" y="167"/>
                  </a:lnTo>
                  <a:lnTo>
                    <a:pt x="2760" y="174"/>
                  </a:lnTo>
                  <a:lnTo>
                    <a:pt x="2760" y="181"/>
                  </a:lnTo>
                  <a:lnTo>
                    <a:pt x="2766" y="192"/>
                  </a:lnTo>
                  <a:lnTo>
                    <a:pt x="2766" y="198"/>
                  </a:lnTo>
                  <a:lnTo>
                    <a:pt x="2771" y="205"/>
                  </a:lnTo>
                  <a:lnTo>
                    <a:pt x="2777" y="212"/>
                  </a:lnTo>
                  <a:lnTo>
                    <a:pt x="2777" y="222"/>
                  </a:lnTo>
                  <a:lnTo>
                    <a:pt x="2782" y="229"/>
                  </a:lnTo>
                  <a:lnTo>
                    <a:pt x="2782" y="236"/>
                  </a:lnTo>
                  <a:lnTo>
                    <a:pt x="2788" y="245"/>
                  </a:lnTo>
                  <a:lnTo>
                    <a:pt x="2788" y="253"/>
                  </a:lnTo>
                  <a:lnTo>
                    <a:pt x="2793" y="264"/>
                  </a:lnTo>
                  <a:lnTo>
                    <a:pt x="2793" y="271"/>
                  </a:lnTo>
                  <a:lnTo>
                    <a:pt x="2799" y="280"/>
                  </a:lnTo>
                  <a:lnTo>
                    <a:pt x="2799" y="291"/>
                  </a:lnTo>
                  <a:lnTo>
                    <a:pt x="2804" y="298"/>
                  </a:lnTo>
                  <a:lnTo>
                    <a:pt x="2804" y="308"/>
                  </a:lnTo>
                  <a:lnTo>
                    <a:pt x="2810" y="315"/>
                  </a:lnTo>
                  <a:lnTo>
                    <a:pt x="2810" y="326"/>
                  </a:lnTo>
                  <a:lnTo>
                    <a:pt x="2815" y="335"/>
                  </a:lnTo>
                  <a:lnTo>
                    <a:pt x="2815" y="346"/>
                  </a:lnTo>
                  <a:lnTo>
                    <a:pt x="2821" y="353"/>
                  </a:lnTo>
                  <a:lnTo>
                    <a:pt x="2821" y="363"/>
                  </a:lnTo>
                  <a:lnTo>
                    <a:pt x="2826" y="374"/>
                  </a:lnTo>
                  <a:lnTo>
                    <a:pt x="2826" y="383"/>
                  </a:lnTo>
                  <a:lnTo>
                    <a:pt x="2832" y="394"/>
                  </a:lnTo>
                  <a:lnTo>
                    <a:pt x="2832" y="405"/>
                  </a:lnTo>
                  <a:lnTo>
                    <a:pt x="2839" y="414"/>
                  </a:lnTo>
                  <a:lnTo>
                    <a:pt x="2839" y="425"/>
                  </a:lnTo>
                  <a:lnTo>
                    <a:pt x="2843" y="434"/>
                  </a:lnTo>
                  <a:lnTo>
                    <a:pt x="2850" y="445"/>
                  </a:lnTo>
                  <a:lnTo>
                    <a:pt x="2850" y="456"/>
                  </a:lnTo>
                  <a:lnTo>
                    <a:pt x="2856" y="465"/>
                  </a:lnTo>
                  <a:lnTo>
                    <a:pt x="2856" y="476"/>
                  </a:lnTo>
                  <a:lnTo>
                    <a:pt x="2861" y="485"/>
                  </a:lnTo>
                  <a:lnTo>
                    <a:pt x="2861" y="496"/>
                  </a:lnTo>
                  <a:lnTo>
                    <a:pt x="2867" y="507"/>
                  </a:lnTo>
                  <a:lnTo>
                    <a:pt x="2867" y="516"/>
                  </a:lnTo>
                  <a:lnTo>
                    <a:pt x="2872" y="527"/>
                  </a:lnTo>
                  <a:lnTo>
                    <a:pt x="2872" y="537"/>
                  </a:lnTo>
                  <a:lnTo>
                    <a:pt x="2878" y="548"/>
                  </a:lnTo>
                  <a:lnTo>
                    <a:pt x="2878" y="559"/>
                  </a:lnTo>
                  <a:lnTo>
                    <a:pt x="2883" y="571"/>
                  </a:lnTo>
                  <a:lnTo>
                    <a:pt x="2883" y="582"/>
                  </a:lnTo>
                  <a:lnTo>
                    <a:pt x="2888" y="592"/>
                  </a:lnTo>
                  <a:lnTo>
                    <a:pt x="2888" y="603"/>
                  </a:lnTo>
                  <a:lnTo>
                    <a:pt x="2894" y="614"/>
                  </a:lnTo>
                  <a:lnTo>
                    <a:pt x="2894" y="626"/>
                  </a:lnTo>
                  <a:lnTo>
                    <a:pt x="2899" y="637"/>
                  </a:lnTo>
                  <a:lnTo>
                    <a:pt x="2899" y="647"/>
                  </a:lnTo>
                  <a:lnTo>
                    <a:pt x="2905" y="658"/>
                  </a:lnTo>
                  <a:lnTo>
                    <a:pt x="2905" y="669"/>
                  </a:lnTo>
                  <a:lnTo>
                    <a:pt x="2910" y="681"/>
                  </a:lnTo>
                  <a:lnTo>
                    <a:pt x="2910" y="692"/>
                  </a:lnTo>
                  <a:lnTo>
                    <a:pt x="2916" y="70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55"/>
                <p:cNvSpPr txBox="1"/>
                <p:nvPr/>
              </p:nvSpPr>
              <p:spPr>
                <a:xfrm>
                  <a:off x="4407120" y="1157040"/>
                  <a:ext cx="206280" cy="22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Object 156"/>
                <p:cNvSpPr txBox="1"/>
                <p:nvPr/>
              </p:nvSpPr>
              <p:spPr>
                <a:xfrm>
                  <a:off x="7213680" y="2531880"/>
                  <a:ext cx="32076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" name="Object 161"/>
              <p:cNvSpPr txBox="1"/>
              <p:nvPr/>
            </p:nvSpPr>
            <p:spPr>
              <a:xfrm>
                <a:off x="511200" y="3405240"/>
                <a:ext cx="402264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r>
                          <m:t xml:space="preserve">ω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acc>
                              <m:accPr>
                                <m:chr m:val="¨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4" name="Rectangle 163"/>
          <p:cNvSpPr/>
          <p:nvPr/>
        </p:nvSpPr>
        <p:spPr>
          <a:xfrm>
            <a:off x="5260680" y="3608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91"/>
          <p:cNvGrpSpPr/>
          <p:nvPr/>
        </p:nvGrpSpPr>
        <p:grpSpPr>
          <a:xfrm>
            <a:off x="4410000" y="3459240"/>
            <a:ext cx="3484080" cy="2760480"/>
            <a:chOff x="4410000" y="3459240"/>
            <a:chExt cx="3484080" cy="2760480"/>
          </a:xfrm>
        </p:grpSpPr>
        <p:sp>
          <p:nvSpPr>
            <p:cNvPr id="196" name="Rectangle 164"/>
            <p:cNvSpPr/>
            <p:nvPr/>
          </p:nvSpPr>
          <p:spPr>
            <a:xfrm>
              <a:off x="7398720" y="505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68"/>
            <p:cNvGrpSpPr/>
            <p:nvPr/>
          </p:nvGrpSpPr>
          <p:grpSpPr>
            <a:xfrm>
              <a:off x="4672080" y="4057560"/>
              <a:ext cx="3222000" cy="109080"/>
              <a:chOff x="4672080" y="4057560"/>
              <a:chExt cx="3222000" cy="109080"/>
            </a:xfrm>
          </p:grpSpPr>
          <p:sp>
            <p:nvSpPr>
              <p:cNvPr id="198" name="Line 169"/>
              <p:cNvSpPr/>
              <p:nvPr/>
            </p:nvSpPr>
            <p:spPr>
              <a:xfrm>
                <a:off x="4672080" y="4111200"/>
                <a:ext cx="3103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0"/>
              <p:cNvSpPr/>
              <p:nvPr/>
            </p:nvSpPr>
            <p:spPr>
              <a:xfrm>
                <a:off x="7771680" y="4057560"/>
                <a:ext cx="122400" cy="1090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21" h="119">
                    <a:moveTo>
                      <a:pt x="0" y="119"/>
                    </a:moveTo>
                    <a:lnTo>
                      <a:pt x="121" y="58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Freeform 171"/>
            <p:cNvSpPr/>
            <p:nvPr/>
          </p:nvSpPr>
          <p:spPr>
            <a:xfrm>
              <a:off x="4654440" y="3706920"/>
              <a:ext cx="2517840" cy="826920"/>
            </a:xfrm>
            <a:custGeom>
              <a:avLst/>
              <a:gdLst>
                <a:gd name="textAreaLeft" fmla="*/ 0 w 2517840"/>
                <a:gd name="textAreaRight" fmla="*/ 2518200 w 251784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2916" h="1405">
                  <a:moveTo>
                    <a:pt x="0" y="701"/>
                  </a:moveTo>
                  <a:lnTo>
                    <a:pt x="5" y="692"/>
                  </a:lnTo>
                  <a:lnTo>
                    <a:pt x="5" y="681"/>
                  </a:lnTo>
                  <a:lnTo>
                    <a:pt x="11" y="669"/>
                  </a:lnTo>
                  <a:lnTo>
                    <a:pt x="11" y="658"/>
                  </a:lnTo>
                  <a:lnTo>
                    <a:pt x="16" y="647"/>
                  </a:lnTo>
                  <a:lnTo>
                    <a:pt x="16" y="637"/>
                  </a:lnTo>
                  <a:lnTo>
                    <a:pt x="22" y="626"/>
                  </a:lnTo>
                  <a:lnTo>
                    <a:pt x="22" y="614"/>
                  </a:lnTo>
                  <a:lnTo>
                    <a:pt x="27" y="603"/>
                  </a:lnTo>
                  <a:lnTo>
                    <a:pt x="27" y="592"/>
                  </a:lnTo>
                  <a:lnTo>
                    <a:pt x="33" y="582"/>
                  </a:lnTo>
                  <a:lnTo>
                    <a:pt x="33" y="571"/>
                  </a:lnTo>
                  <a:lnTo>
                    <a:pt x="40" y="559"/>
                  </a:lnTo>
                  <a:lnTo>
                    <a:pt x="40" y="548"/>
                  </a:lnTo>
                  <a:lnTo>
                    <a:pt x="45" y="537"/>
                  </a:lnTo>
                  <a:lnTo>
                    <a:pt x="45" y="527"/>
                  </a:lnTo>
                  <a:lnTo>
                    <a:pt x="51" y="516"/>
                  </a:lnTo>
                  <a:lnTo>
                    <a:pt x="51" y="507"/>
                  </a:lnTo>
                  <a:lnTo>
                    <a:pt x="56" y="496"/>
                  </a:lnTo>
                  <a:lnTo>
                    <a:pt x="56" y="485"/>
                  </a:lnTo>
                  <a:lnTo>
                    <a:pt x="62" y="476"/>
                  </a:lnTo>
                  <a:lnTo>
                    <a:pt x="62" y="465"/>
                  </a:lnTo>
                  <a:lnTo>
                    <a:pt x="67" y="456"/>
                  </a:lnTo>
                  <a:lnTo>
                    <a:pt x="67" y="445"/>
                  </a:lnTo>
                  <a:lnTo>
                    <a:pt x="73" y="434"/>
                  </a:lnTo>
                  <a:lnTo>
                    <a:pt x="78" y="425"/>
                  </a:lnTo>
                  <a:lnTo>
                    <a:pt x="78" y="414"/>
                  </a:lnTo>
                  <a:lnTo>
                    <a:pt x="84" y="405"/>
                  </a:lnTo>
                  <a:lnTo>
                    <a:pt x="84" y="394"/>
                  </a:lnTo>
                  <a:lnTo>
                    <a:pt x="89" y="383"/>
                  </a:lnTo>
                  <a:lnTo>
                    <a:pt x="89" y="374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100" y="346"/>
                  </a:lnTo>
                  <a:lnTo>
                    <a:pt x="100" y="335"/>
                  </a:lnTo>
                  <a:lnTo>
                    <a:pt x="106" y="326"/>
                  </a:lnTo>
                  <a:lnTo>
                    <a:pt x="106" y="315"/>
                  </a:lnTo>
                  <a:lnTo>
                    <a:pt x="111" y="308"/>
                  </a:lnTo>
                  <a:lnTo>
                    <a:pt x="111" y="298"/>
                  </a:lnTo>
                  <a:lnTo>
                    <a:pt x="117" y="291"/>
                  </a:lnTo>
                  <a:lnTo>
                    <a:pt x="117" y="280"/>
                  </a:lnTo>
                  <a:lnTo>
                    <a:pt x="122" y="271"/>
                  </a:lnTo>
                  <a:lnTo>
                    <a:pt x="122" y="264"/>
                  </a:lnTo>
                  <a:lnTo>
                    <a:pt x="128" y="253"/>
                  </a:lnTo>
                  <a:lnTo>
                    <a:pt x="128" y="245"/>
                  </a:lnTo>
                  <a:lnTo>
                    <a:pt x="135" y="236"/>
                  </a:lnTo>
                  <a:lnTo>
                    <a:pt x="135" y="229"/>
                  </a:lnTo>
                  <a:lnTo>
                    <a:pt x="141" y="222"/>
                  </a:lnTo>
                  <a:lnTo>
                    <a:pt x="141" y="212"/>
                  </a:lnTo>
                  <a:lnTo>
                    <a:pt x="146" y="205"/>
                  </a:lnTo>
                  <a:lnTo>
                    <a:pt x="152" y="198"/>
                  </a:lnTo>
                  <a:lnTo>
                    <a:pt x="152" y="192"/>
                  </a:lnTo>
                  <a:lnTo>
                    <a:pt x="157" y="181"/>
                  </a:lnTo>
                  <a:lnTo>
                    <a:pt x="157" y="174"/>
                  </a:lnTo>
                  <a:lnTo>
                    <a:pt x="163" y="167"/>
                  </a:lnTo>
                  <a:lnTo>
                    <a:pt x="163" y="161"/>
                  </a:lnTo>
                  <a:lnTo>
                    <a:pt x="168" y="154"/>
                  </a:lnTo>
                  <a:lnTo>
                    <a:pt x="168" y="146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9" y="126"/>
                  </a:lnTo>
                  <a:lnTo>
                    <a:pt x="179" y="119"/>
                  </a:lnTo>
                  <a:lnTo>
                    <a:pt x="185" y="115"/>
                  </a:lnTo>
                  <a:lnTo>
                    <a:pt x="185" y="110"/>
                  </a:lnTo>
                  <a:lnTo>
                    <a:pt x="190" y="102"/>
                  </a:lnTo>
                  <a:lnTo>
                    <a:pt x="190" y="99"/>
                  </a:lnTo>
                  <a:lnTo>
                    <a:pt x="196" y="91"/>
                  </a:lnTo>
                  <a:lnTo>
                    <a:pt x="196" y="86"/>
                  </a:lnTo>
                  <a:lnTo>
                    <a:pt x="201" y="82"/>
                  </a:lnTo>
                  <a:lnTo>
                    <a:pt x="201" y="75"/>
                  </a:lnTo>
                  <a:lnTo>
                    <a:pt x="207" y="71"/>
                  </a:lnTo>
                  <a:lnTo>
                    <a:pt x="207" y="68"/>
                  </a:lnTo>
                  <a:lnTo>
                    <a:pt x="212" y="62"/>
                  </a:lnTo>
                  <a:lnTo>
                    <a:pt x="212" y="59"/>
                  </a:lnTo>
                  <a:lnTo>
                    <a:pt x="218" y="55"/>
                  </a:lnTo>
                  <a:lnTo>
                    <a:pt x="225" y="48"/>
                  </a:lnTo>
                  <a:lnTo>
                    <a:pt x="225" y="44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6" y="35"/>
                  </a:lnTo>
                  <a:lnTo>
                    <a:pt x="236" y="31"/>
                  </a:lnTo>
                  <a:lnTo>
                    <a:pt x="241" y="27"/>
                  </a:lnTo>
                  <a:lnTo>
                    <a:pt x="241" y="24"/>
                  </a:lnTo>
                  <a:lnTo>
                    <a:pt x="247" y="20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3" y="9"/>
                  </a:lnTo>
                  <a:lnTo>
                    <a:pt x="269" y="7"/>
                  </a:lnTo>
                  <a:lnTo>
                    <a:pt x="274" y="4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4"/>
                  </a:lnTo>
                  <a:lnTo>
                    <a:pt x="315" y="7"/>
                  </a:lnTo>
                  <a:lnTo>
                    <a:pt x="320" y="9"/>
                  </a:lnTo>
                  <a:lnTo>
                    <a:pt x="326" y="13"/>
                  </a:lnTo>
                  <a:lnTo>
                    <a:pt x="331" y="16"/>
                  </a:lnTo>
                  <a:lnTo>
                    <a:pt x="337" y="20"/>
                  </a:lnTo>
                  <a:lnTo>
                    <a:pt x="342" y="24"/>
                  </a:lnTo>
                  <a:lnTo>
                    <a:pt x="342" y="27"/>
                  </a:lnTo>
                  <a:lnTo>
                    <a:pt x="348" y="31"/>
                  </a:lnTo>
                  <a:lnTo>
                    <a:pt x="348" y="35"/>
                  </a:lnTo>
                  <a:lnTo>
                    <a:pt x="353" y="37"/>
                  </a:lnTo>
                  <a:lnTo>
                    <a:pt x="353" y="40"/>
                  </a:lnTo>
                  <a:lnTo>
                    <a:pt x="359" y="44"/>
                  </a:lnTo>
                  <a:lnTo>
                    <a:pt x="359" y="48"/>
                  </a:lnTo>
                  <a:lnTo>
                    <a:pt x="364" y="55"/>
                  </a:lnTo>
                  <a:lnTo>
                    <a:pt x="370" y="59"/>
                  </a:lnTo>
                  <a:lnTo>
                    <a:pt x="370" y="62"/>
                  </a:lnTo>
                  <a:lnTo>
                    <a:pt x="375" y="68"/>
                  </a:lnTo>
                  <a:lnTo>
                    <a:pt x="375" y="71"/>
                  </a:lnTo>
                  <a:lnTo>
                    <a:pt x="381" y="75"/>
                  </a:lnTo>
                  <a:lnTo>
                    <a:pt x="381" y="82"/>
                  </a:lnTo>
                  <a:lnTo>
                    <a:pt x="386" y="86"/>
                  </a:lnTo>
                  <a:lnTo>
                    <a:pt x="386" y="91"/>
                  </a:lnTo>
                  <a:lnTo>
                    <a:pt x="392" y="99"/>
                  </a:lnTo>
                  <a:lnTo>
                    <a:pt x="392" y="102"/>
                  </a:lnTo>
                  <a:lnTo>
                    <a:pt x="397" y="110"/>
                  </a:lnTo>
                  <a:lnTo>
                    <a:pt x="397" y="115"/>
                  </a:lnTo>
                  <a:lnTo>
                    <a:pt x="404" y="119"/>
                  </a:lnTo>
                  <a:lnTo>
                    <a:pt x="404" y="126"/>
                  </a:lnTo>
                  <a:lnTo>
                    <a:pt x="410" y="134"/>
                  </a:lnTo>
                  <a:lnTo>
                    <a:pt x="410" y="141"/>
                  </a:lnTo>
                  <a:lnTo>
                    <a:pt x="415" y="146"/>
                  </a:lnTo>
                  <a:lnTo>
                    <a:pt x="415" y="154"/>
                  </a:lnTo>
                  <a:lnTo>
                    <a:pt x="421" y="161"/>
                  </a:lnTo>
                  <a:lnTo>
                    <a:pt x="421" y="167"/>
                  </a:lnTo>
                  <a:lnTo>
                    <a:pt x="426" y="174"/>
                  </a:lnTo>
                  <a:lnTo>
                    <a:pt x="426" y="181"/>
                  </a:lnTo>
                  <a:lnTo>
                    <a:pt x="432" y="192"/>
                  </a:lnTo>
                  <a:lnTo>
                    <a:pt x="432" y="198"/>
                  </a:lnTo>
                  <a:lnTo>
                    <a:pt x="437" y="205"/>
                  </a:lnTo>
                  <a:lnTo>
                    <a:pt x="443" y="212"/>
                  </a:lnTo>
                  <a:lnTo>
                    <a:pt x="443" y="222"/>
                  </a:lnTo>
                  <a:lnTo>
                    <a:pt x="448" y="229"/>
                  </a:lnTo>
                  <a:lnTo>
                    <a:pt x="448" y="236"/>
                  </a:lnTo>
                  <a:lnTo>
                    <a:pt x="454" y="245"/>
                  </a:lnTo>
                  <a:lnTo>
                    <a:pt x="454" y="253"/>
                  </a:lnTo>
                  <a:lnTo>
                    <a:pt x="459" y="264"/>
                  </a:lnTo>
                  <a:lnTo>
                    <a:pt x="459" y="271"/>
                  </a:lnTo>
                  <a:lnTo>
                    <a:pt x="465" y="280"/>
                  </a:lnTo>
                  <a:lnTo>
                    <a:pt x="465" y="291"/>
                  </a:lnTo>
                  <a:lnTo>
                    <a:pt x="470" y="298"/>
                  </a:lnTo>
                  <a:lnTo>
                    <a:pt x="470" y="308"/>
                  </a:lnTo>
                  <a:lnTo>
                    <a:pt x="476" y="315"/>
                  </a:lnTo>
                  <a:lnTo>
                    <a:pt x="476" y="326"/>
                  </a:lnTo>
                  <a:lnTo>
                    <a:pt x="481" y="335"/>
                  </a:lnTo>
                  <a:lnTo>
                    <a:pt x="481" y="346"/>
                  </a:lnTo>
                  <a:lnTo>
                    <a:pt x="487" y="353"/>
                  </a:lnTo>
                  <a:lnTo>
                    <a:pt x="487" y="363"/>
                  </a:lnTo>
                  <a:lnTo>
                    <a:pt x="494" y="374"/>
                  </a:lnTo>
                  <a:lnTo>
                    <a:pt x="494" y="383"/>
                  </a:lnTo>
                  <a:lnTo>
                    <a:pt x="500" y="394"/>
                  </a:lnTo>
                  <a:lnTo>
                    <a:pt x="500" y="405"/>
                  </a:lnTo>
                  <a:lnTo>
                    <a:pt x="505" y="414"/>
                  </a:lnTo>
                  <a:lnTo>
                    <a:pt x="505" y="425"/>
                  </a:lnTo>
                  <a:lnTo>
                    <a:pt x="511" y="434"/>
                  </a:lnTo>
                  <a:lnTo>
                    <a:pt x="516" y="445"/>
                  </a:lnTo>
                  <a:lnTo>
                    <a:pt x="516" y="456"/>
                  </a:lnTo>
                  <a:lnTo>
                    <a:pt x="522" y="465"/>
                  </a:lnTo>
                  <a:lnTo>
                    <a:pt x="522" y="476"/>
                  </a:lnTo>
                  <a:lnTo>
                    <a:pt x="527" y="485"/>
                  </a:lnTo>
                  <a:lnTo>
                    <a:pt x="527" y="496"/>
                  </a:lnTo>
                  <a:lnTo>
                    <a:pt x="533" y="507"/>
                  </a:lnTo>
                  <a:lnTo>
                    <a:pt x="533" y="516"/>
                  </a:lnTo>
                  <a:lnTo>
                    <a:pt x="538" y="527"/>
                  </a:lnTo>
                  <a:lnTo>
                    <a:pt x="538" y="537"/>
                  </a:lnTo>
                  <a:lnTo>
                    <a:pt x="544" y="548"/>
                  </a:lnTo>
                  <a:lnTo>
                    <a:pt x="544" y="559"/>
                  </a:lnTo>
                  <a:lnTo>
                    <a:pt x="549" y="571"/>
                  </a:lnTo>
                  <a:lnTo>
                    <a:pt x="549" y="582"/>
                  </a:lnTo>
                  <a:lnTo>
                    <a:pt x="555" y="592"/>
                  </a:lnTo>
                  <a:lnTo>
                    <a:pt x="555" y="603"/>
                  </a:lnTo>
                  <a:lnTo>
                    <a:pt x="560" y="614"/>
                  </a:lnTo>
                  <a:lnTo>
                    <a:pt x="560" y="626"/>
                  </a:lnTo>
                  <a:lnTo>
                    <a:pt x="566" y="637"/>
                  </a:lnTo>
                  <a:lnTo>
                    <a:pt x="566" y="647"/>
                  </a:lnTo>
                  <a:lnTo>
                    <a:pt x="571" y="658"/>
                  </a:lnTo>
                  <a:lnTo>
                    <a:pt x="571" y="669"/>
                  </a:lnTo>
                  <a:lnTo>
                    <a:pt x="577" y="681"/>
                  </a:lnTo>
                  <a:lnTo>
                    <a:pt x="577" y="692"/>
                  </a:lnTo>
                  <a:lnTo>
                    <a:pt x="584" y="701"/>
                  </a:lnTo>
                  <a:lnTo>
                    <a:pt x="588" y="712"/>
                  </a:lnTo>
                  <a:lnTo>
                    <a:pt x="588" y="723"/>
                  </a:lnTo>
                  <a:lnTo>
                    <a:pt x="595" y="736"/>
                  </a:lnTo>
                  <a:lnTo>
                    <a:pt x="595" y="747"/>
                  </a:lnTo>
                  <a:lnTo>
                    <a:pt x="600" y="756"/>
                  </a:lnTo>
                  <a:lnTo>
                    <a:pt x="600" y="767"/>
                  </a:lnTo>
                  <a:lnTo>
                    <a:pt x="606" y="777"/>
                  </a:lnTo>
                  <a:lnTo>
                    <a:pt x="606" y="791"/>
                  </a:lnTo>
                  <a:lnTo>
                    <a:pt x="611" y="800"/>
                  </a:lnTo>
                  <a:lnTo>
                    <a:pt x="611" y="811"/>
                  </a:lnTo>
                  <a:lnTo>
                    <a:pt x="617" y="822"/>
                  </a:lnTo>
                  <a:lnTo>
                    <a:pt x="617" y="832"/>
                  </a:lnTo>
                  <a:lnTo>
                    <a:pt x="622" y="846"/>
                  </a:lnTo>
                  <a:lnTo>
                    <a:pt x="622" y="855"/>
                  </a:lnTo>
                  <a:lnTo>
                    <a:pt x="628" y="866"/>
                  </a:lnTo>
                  <a:lnTo>
                    <a:pt x="628" y="877"/>
                  </a:lnTo>
                  <a:lnTo>
                    <a:pt x="633" y="887"/>
                  </a:lnTo>
                  <a:lnTo>
                    <a:pt x="633" y="898"/>
                  </a:lnTo>
                  <a:lnTo>
                    <a:pt x="639" y="907"/>
                  </a:lnTo>
                  <a:lnTo>
                    <a:pt x="639" y="918"/>
                  </a:lnTo>
                  <a:lnTo>
                    <a:pt x="644" y="929"/>
                  </a:lnTo>
                  <a:lnTo>
                    <a:pt x="644" y="938"/>
                  </a:lnTo>
                  <a:lnTo>
                    <a:pt x="650" y="949"/>
                  </a:lnTo>
                  <a:lnTo>
                    <a:pt x="650" y="958"/>
                  </a:lnTo>
                  <a:lnTo>
                    <a:pt x="655" y="969"/>
                  </a:lnTo>
                  <a:lnTo>
                    <a:pt x="661" y="980"/>
                  </a:lnTo>
                  <a:lnTo>
                    <a:pt x="661" y="989"/>
                  </a:lnTo>
                  <a:lnTo>
                    <a:pt x="666" y="1000"/>
                  </a:lnTo>
                  <a:lnTo>
                    <a:pt x="666" y="1011"/>
                  </a:lnTo>
                  <a:lnTo>
                    <a:pt x="674" y="1020"/>
                  </a:lnTo>
                  <a:lnTo>
                    <a:pt x="674" y="1031"/>
                  </a:lnTo>
                  <a:lnTo>
                    <a:pt x="677" y="1040"/>
                  </a:lnTo>
                  <a:lnTo>
                    <a:pt x="677" y="1051"/>
                  </a:lnTo>
                  <a:lnTo>
                    <a:pt x="685" y="1059"/>
                  </a:lnTo>
                  <a:lnTo>
                    <a:pt x="685" y="1068"/>
                  </a:lnTo>
                  <a:lnTo>
                    <a:pt x="690" y="1079"/>
                  </a:lnTo>
                  <a:lnTo>
                    <a:pt x="690" y="1090"/>
                  </a:lnTo>
                  <a:lnTo>
                    <a:pt x="696" y="1095"/>
                  </a:lnTo>
                  <a:lnTo>
                    <a:pt x="696" y="1106"/>
                  </a:lnTo>
                  <a:lnTo>
                    <a:pt x="701" y="1114"/>
                  </a:lnTo>
                  <a:lnTo>
                    <a:pt x="701" y="1123"/>
                  </a:lnTo>
                  <a:lnTo>
                    <a:pt x="707" y="1134"/>
                  </a:lnTo>
                  <a:lnTo>
                    <a:pt x="707" y="1141"/>
                  </a:lnTo>
                  <a:lnTo>
                    <a:pt x="712" y="1150"/>
                  </a:lnTo>
                  <a:lnTo>
                    <a:pt x="712" y="1158"/>
                  </a:lnTo>
                  <a:lnTo>
                    <a:pt x="718" y="1169"/>
                  </a:lnTo>
                  <a:lnTo>
                    <a:pt x="718" y="1174"/>
                  </a:lnTo>
                  <a:lnTo>
                    <a:pt x="723" y="1181"/>
                  </a:lnTo>
                  <a:lnTo>
                    <a:pt x="723" y="1192"/>
                  </a:lnTo>
                  <a:lnTo>
                    <a:pt x="729" y="1198"/>
                  </a:lnTo>
                  <a:lnTo>
                    <a:pt x="734" y="1205"/>
                  </a:lnTo>
                  <a:lnTo>
                    <a:pt x="734" y="1213"/>
                  </a:lnTo>
                  <a:lnTo>
                    <a:pt x="740" y="1222"/>
                  </a:lnTo>
                  <a:lnTo>
                    <a:pt x="740" y="1229"/>
                  </a:lnTo>
                  <a:lnTo>
                    <a:pt x="745" y="1236"/>
                  </a:lnTo>
                  <a:lnTo>
                    <a:pt x="745" y="1244"/>
                  </a:lnTo>
                  <a:lnTo>
                    <a:pt x="751" y="1249"/>
                  </a:lnTo>
                  <a:lnTo>
                    <a:pt x="751" y="1257"/>
                  </a:lnTo>
                  <a:lnTo>
                    <a:pt x="756" y="1264"/>
                  </a:lnTo>
                  <a:lnTo>
                    <a:pt x="756" y="1271"/>
                  </a:lnTo>
                  <a:lnTo>
                    <a:pt x="764" y="1277"/>
                  </a:lnTo>
                  <a:lnTo>
                    <a:pt x="764" y="1284"/>
                  </a:lnTo>
                  <a:lnTo>
                    <a:pt x="767" y="1288"/>
                  </a:lnTo>
                  <a:lnTo>
                    <a:pt x="767" y="1295"/>
                  </a:lnTo>
                  <a:lnTo>
                    <a:pt x="775" y="1302"/>
                  </a:lnTo>
                  <a:lnTo>
                    <a:pt x="775" y="1304"/>
                  </a:lnTo>
                  <a:lnTo>
                    <a:pt x="780" y="1312"/>
                  </a:lnTo>
                  <a:lnTo>
                    <a:pt x="780" y="1319"/>
                  </a:lnTo>
                  <a:lnTo>
                    <a:pt x="785" y="1323"/>
                  </a:lnTo>
                  <a:lnTo>
                    <a:pt x="785" y="1330"/>
                  </a:lnTo>
                  <a:lnTo>
                    <a:pt x="791" y="1332"/>
                  </a:lnTo>
                  <a:lnTo>
                    <a:pt x="791" y="1335"/>
                  </a:lnTo>
                  <a:lnTo>
                    <a:pt x="796" y="1343"/>
                  </a:lnTo>
                  <a:lnTo>
                    <a:pt x="796" y="1346"/>
                  </a:lnTo>
                  <a:lnTo>
                    <a:pt x="802" y="1350"/>
                  </a:lnTo>
                  <a:lnTo>
                    <a:pt x="807" y="1357"/>
                  </a:lnTo>
                  <a:lnTo>
                    <a:pt x="807" y="1359"/>
                  </a:lnTo>
                  <a:lnTo>
                    <a:pt x="813" y="1363"/>
                  </a:lnTo>
                  <a:lnTo>
                    <a:pt x="813" y="1366"/>
                  </a:lnTo>
                  <a:lnTo>
                    <a:pt x="818" y="1370"/>
                  </a:lnTo>
                  <a:lnTo>
                    <a:pt x="818" y="1374"/>
                  </a:lnTo>
                  <a:lnTo>
                    <a:pt x="824" y="1377"/>
                  </a:lnTo>
                  <a:lnTo>
                    <a:pt x="824" y="1381"/>
                  </a:lnTo>
                  <a:lnTo>
                    <a:pt x="829" y="1383"/>
                  </a:lnTo>
                  <a:lnTo>
                    <a:pt x="835" y="1387"/>
                  </a:lnTo>
                  <a:lnTo>
                    <a:pt x="840" y="1390"/>
                  </a:lnTo>
                  <a:lnTo>
                    <a:pt x="846" y="1394"/>
                  </a:lnTo>
                  <a:lnTo>
                    <a:pt x="853" y="1398"/>
                  </a:lnTo>
                  <a:lnTo>
                    <a:pt x="857" y="1401"/>
                  </a:lnTo>
                  <a:lnTo>
                    <a:pt x="864" y="1405"/>
                  </a:lnTo>
                  <a:lnTo>
                    <a:pt x="870" y="1405"/>
                  </a:lnTo>
                  <a:lnTo>
                    <a:pt x="875" y="1405"/>
                  </a:lnTo>
                  <a:lnTo>
                    <a:pt x="881" y="1405"/>
                  </a:lnTo>
                  <a:lnTo>
                    <a:pt x="886" y="1405"/>
                  </a:lnTo>
                  <a:lnTo>
                    <a:pt x="892" y="1401"/>
                  </a:lnTo>
                  <a:lnTo>
                    <a:pt x="897" y="1398"/>
                  </a:lnTo>
                  <a:lnTo>
                    <a:pt x="903" y="1394"/>
                  </a:lnTo>
                  <a:lnTo>
                    <a:pt x="908" y="1390"/>
                  </a:lnTo>
                  <a:lnTo>
                    <a:pt x="914" y="1387"/>
                  </a:lnTo>
                  <a:lnTo>
                    <a:pt x="919" y="1383"/>
                  </a:lnTo>
                  <a:lnTo>
                    <a:pt x="925" y="1381"/>
                  </a:lnTo>
                  <a:lnTo>
                    <a:pt x="925" y="1377"/>
                  </a:lnTo>
                  <a:lnTo>
                    <a:pt x="930" y="1374"/>
                  </a:lnTo>
                  <a:lnTo>
                    <a:pt x="930" y="1370"/>
                  </a:lnTo>
                  <a:lnTo>
                    <a:pt x="936" y="1366"/>
                  </a:lnTo>
                  <a:lnTo>
                    <a:pt x="936" y="1363"/>
                  </a:lnTo>
                  <a:lnTo>
                    <a:pt x="943" y="1359"/>
                  </a:lnTo>
                  <a:lnTo>
                    <a:pt x="943" y="1357"/>
                  </a:lnTo>
                  <a:lnTo>
                    <a:pt x="947" y="1350"/>
                  </a:lnTo>
                  <a:lnTo>
                    <a:pt x="954" y="1346"/>
                  </a:lnTo>
                  <a:lnTo>
                    <a:pt x="954" y="1343"/>
                  </a:lnTo>
                  <a:lnTo>
                    <a:pt x="960" y="1335"/>
                  </a:lnTo>
                  <a:lnTo>
                    <a:pt x="960" y="1332"/>
                  </a:lnTo>
                  <a:lnTo>
                    <a:pt x="965" y="1330"/>
                  </a:lnTo>
                  <a:lnTo>
                    <a:pt x="965" y="1323"/>
                  </a:lnTo>
                  <a:lnTo>
                    <a:pt x="971" y="1319"/>
                  </a:lnTo>
                  <a:lnTo>
                    <a:pt x="971" y="1312"/>
                  </a:lnTo>
                  <a:lnTo>
                    <a:pt x="976" y="1304"/>
                  </a:lnTo>
                  <a:lnTo>
                    <a:pt x="976" y="1302"/>
                  </a:lnTo>
                  <a:lnTo>
                    <a:pt x="982" y="1295"/>
                  </a:lnTo>
                  <a:lnTo>
                    <a:pt x="982" y="1288"/>
                  </a:lnTo>
                  <a:lnTo>
                    <a:pt x="987" y="1284"/>
                  </a:lnTo>
                  <a:lnTo>
                    <a:pt x="987" y="1277"/>
                  </a:lnTo>
                  <a:lnTo>
                    <a:pt x="992" y="1271"/>
                  </a:lnTo>
                  <a:lnTo>
                    <a:pt x="992" y="1264"/>
                  </a:lnTo>
                  <a:lnTo>
                    <a:pt x="998" y="1257"/>
                  </a:lnTo>
                  <a:lnTo>
                    <a:pt x="998" y="1249"/>
                  </a:lnTo>
                  <a:lnTo>
                    <a:pt x="1003" y="1244"/>
                  </a:lnTo>
                  <a:lnTo>
                    <a:pt x="1003" y="1236"/>
                  </a:lnTo>
                  <a:lnTo>
                    <a:pt x="1009" y="1229"/>
                  </a:lnTo>
                  <a:lnTo>
                    <a:pt x="1009" y="1222"/>
                  </a:lnTo>
                  <a:lnTo>
                    <a:pt x="1014" y="1213"/>
                  </a:lnTo>
                  <a:lnTo>
                    <a:pt x="1014" y="1205"/>
                  </a:lnTo>
                  <a:lnTo>
                    <a:pt x="1020" y="1198"/>
                  </a:lnTo>
                  <a:lnTo>
                    <a:pt x="1025" y="1192"/>
                  </a:lnTo>
                  <a:lnTo>
                    <a:pt x="1025" y="1181"/>
                  </a:lnTo>
                  <a:lnTo>
                    <a:pt x="1033" y="1174"/>
                  </a:lnTo>
                  <a:lnTo>
                    <a:pt x="1033" y="1169"/>
                  </a:lnTo>
                  <a:lnTo>
                    <a:pt x="1036" y="1158"/>
                  </a:lnTo>
                  <a:lnTo>
                    <a:pt x="1036" y="1150"/>
                  </a:lnTo>
                  <a:lnTo>
                    <a:pt x="1044" y="1141"/>
                  </a:lnTo>
                  <a:lnTo>
                    <a:pt x="1044" y="1134"/>
                  </a:lnTo>
                  <a:lnTo>
                    <a:pt x="1049" y="1123"/>
                  </a:lnTo>
                  <a:lnTo>
                    <a:pt x="1049" y="1114"/>
                  </a:lnTo>
                  <a:lnTo>
                    <a:pt x="1055" y="1106"/>
                  </a:lnTo>
                  <a:lnTo>
                    <a:pt x="1055" y="1095"/>
                  </a:lnTo>
                  <a:lnTo>
                    <a:pt x="1060" y="1090"/>
                  </a:lnTo>
                  <a:lnTo>
                    <a:pt x="1060" y="1079"/>
                  </a:lnTo>
                  <a:lnTo>
                    <a:pt x="1066" y="1068"/>
                  </a:lnTo>
                  <a:lnTo>
                    <a:pt x="1066" y="1059"/>
                  </a:lnTo>
                  <a:lnTo>
                    <a:pt x="1071" y="1051"/>
                  </a:lnTo>
                  <a:lnTo>
                    <a:pt x="1071" y="1040"/>
                  </a:lnTo>
                  <a:lnTo>
                    <a:pt x="1077" y="1031"/>
                  </a:lnTo>
                  <a:lnTo>
                    <a:pt x="1077" y="1020"/>
                  </a:lnTo>
                  <a:lnTo>
                    <a:pt x="1082" y="1011"/>
                  </a:lnTo>
                  <a:lnTo>
                    <a:pt x="1082" y="1000"/>
                  </a:lnTo>
                  <a:lnTo>
                    <a:pt x="1088" y="989"/>
                  </a:lnTo>
                  <a:lnTo>
                    <a:pt x="1088" y="980"/>
                  </a:lnTo>
                  <a:lnTo>
                    <a:pt x="1093" y="969"/>
                  </a:lnTo>
                  <a:lnTo>
                    <a:pt x="1099" y="958"/>
                  </a:lnTo>
                  <a:lnTo>
                    <a:pt x="1099" y="949"/>
                  </a:lnTo>
                  <a:lnTo>
                    <a:pt x="1104" y="938"/>
                  </a:lnTo>
                  <a:lnTo>
                    <a:pt x="1104" y="929"/>
                  </a:lnTo>
                  <a:lnTo>
                    <a:pt x="1110" y="918"/>
                  </a:lnTo>
                  <a:lnTo>
                    <a:pt x="1110" y="907"/>
                  </a:lnTo>
                  <a:lnTo>
                    <a:pt x="1115" y="898"/>
                  </a:lnTo>
                  <a:lnTo>
                    <a:pt x="1115" y="887"/>
                  </a:lnTo>
                  <a:lnTo>
                    <a:pt x="1123" y="877"/>
                  </a:lnTo>
                  <a:lnTo>
                    <a:pt x="1123" y="866"/>
                  </a:lnTo>
                  <a:lnTo>
                    <a:pt x="1126" y="855"/>
                  </a:lnTo>
                  <a:lnTo>
                    <a:pt x="1126" y="846"/>
                  </a:lnTo>
                  <a:lnTo>
                    <a:pt x="1134" y="832"/>
                  </a:lnTo>
                  <a:lnTo>
                    <a:pt x="1134" y="822"/>
                  </a:lnTo>
                  <a:lnTo>
                    <a:pt x="1139" y="811"/>
                  </a:lnTo>
                  <a:lnTo>
                    <a:pt x="1139" y="800"/>
                  </a:lnTo>
                  <a:lnTo>
                    <a:pt x="1145" y="791"/>
                  </a:lnTo>
                  <a:lnTo>
                    <a:pt x="1145" y="777"/>
                  </a:lnTo>
                  <a:lnTo>
                    <a:pt x="1150" y="767"/>
                  </a:lnTo>
                  <a:lnTo>
                    <a:pt x="1150" y="756"/>
                  </a:lnTo>
                  <a:lnTo>
                    <a:pt x="1156" y="747"/>
                  </a:lnTo>
                  <a:lnTo>
                    <a:pt x="1156" y="736"/>
                  </a:lnTo>
                  <a:lnTo>
                    <a:pt x="1161" y="723"/>
                  </a:lnTo>
                  <a:lnTo>
                    <a:pt x="1161" y="712"/>
                  </a:lnTo>
                  <a:lnTo>
                    <a:pt x="1167" y="701"/>
                  </a:lnTo>
                  <a:lnTo>
                    <a:pt x="1172" y="692"/>
                  </a:lnTo>
                  <a:lnTo>
                    <a:pt x="1172" y="681"/>
                  </a:lnTo>
                  <a:lnTo>
                    <a:pt x="1178" y="669"/>
                  </a:lnTo>
                  <a:lnTo>
                    <a:pt x="1178" y="658"/>
                  </a:lnTo>
                  <a:lnTo>
                    <a:pt x="1183" y="647"/>
                  </a:lnTo>
                  <a:lnTo>
                    <a:pt x="1183" y="637"/>
                  </a:lnTo>
                  <a:lnTo>
                    <a:pt x="1189" y="626"/>
                  </a:lnTo>
                  <a:lnTo>
                    <a:pt x="1189" y="614"/>
                  </a:lnTo>
                  <a:lnTo>
                    <a:pt x="1194" y="603"/>
                  </a:lnTo>
                  <a:lnTo>
                    <a:pt x="1194" y="592"/>
                  </a:lnTo>
                  <a:lnTo>
                    <a:pt x="1199" y="582"/>
                  </a:lnTo>
                  <a:lnTo>
                    <a:pt x="1199" y="571"/>
                  </a:lnTo>
                  <a:lnTo>
                    <a:pt x="1205" y="559"/>
                  </a:lnTo>
                  <a:lnTo>
                    <a:pt x="1205" y="548"/>
                  </a:lnTo>
                  <a:lnTo>
                    <a:pt x="1210" y="537"/>
                  </a:lnTo>
                  <a:lnTo>
                    <a:pt x="1210" y="527"/>
                  </a:lnTo>
                  <a:lnTo>
                    <a:pt x="1216" y="516"/>
                  </a:lnTo>
                  <a:lnTo>
                    <a:pt x="1216" y="507"/>
                  </a:lnTo>
                  <a:lnTo>
                    <a:pt x="1223" y="496"/>
                  </a:lnTo>
                  <a:lnTo>
                    <a:pt x="1223" y="485"/>
                  </a:lnTo>
                  <a:lnTo>
                    <a:pt x="1229" y="476"/>
                  </a:lnTo>
                  <a:lnTo>
                    <a:pt x="1229" y="465"/>
                  </a:lnTo>
                  <a:lnTo>
                    <a:pt x="1234" y="456"/>
                  </a:lnTo>
                  <a:lnTo>
                    <a:pt x="1234" y="445"/>
                  </a:lnTo>
                  <a:lnTo>
                    <a:pt x="1240" y="434"/>
                  </a:lnTo>
                  <a:lnTo>
                    <a:pt x="1245" y="425"/>
                  </a:lnTo>
                  <a:lnTo>
                    <a:pt x="1245" y="414"/>
                  </a:lnTo>
                  <a:lnTo>
                    <a:pt x="1251" y="405"/>
                  </a:lnTo>
                  <a:lnTo>
                    <a:pt x="1251" y="394"/>
                  </a:lnTo>
                  <a:lnTo>
                    <a:pt x="1256" y="383"/>
                  </a:lnTo>
                  <a:lnTo>
                    <a:pt x="1256" y="374"/>
                  </a:lnTo>
                  <a:lnTo>
                    <a:pt x="1262" y="363"/>
                  </a:lnTo>
                  <a:lnTo>
                    <a:pt x="1262" y="353"/>
                  </a:lnTo>
                  <a:lnTo>
                    <a:pt x="1267" y="346"/>
                  </a:lnTo>
                  <a:lnTo>
                    <a:pt x="1267" y="335"/>
                  </a:lnTo>
                  <a:lnTo>
                    <a:pt x="1273" y="326"/>
                  </a:lnTo>
                  <a:lnTo>
                    <a:pt x="1273" y="315"/>
                  </a:lnTo>
                  <a:lnTo>
                    <a:pt x="1278" y="308"/>
                  </a:lnTo>
                  <a:lnTo>
                    <a:pt x="1278" y="298"/>
                  </a:lnTo>
                  <a:lnTo>
                    <a:pt x="1284" y="291"/>
                  </a:lnTo>
                  <a:lnTo>
                    <a:pt x="1284" y="280"/>
                  </a:lnTo>
                  <a:lnTo>
                    <a:pt x="1289" y="271"/>
                  </a:lnTo>
                  <a:lnTo>
                    <a:pt x="1289" y="264"/>
                  </a:lnTo>
                  <a:lnTo>
                    <a:pt x="1295" y="253"/>
                  </a:lnTo>
                  <a:lnTo>
                    <a:pt x="1295" y="245"/>
                  </a:lnTo>
                  <a:lnTo>
                    <a:pt x="1300" y="236"/>
                  </a:lnTo>
                  <a:lnTo>
                    <a:pt x="1300" y="229"/>
                  </a:lnTo>
                  <a:lnTo>
                    <a:pt x="1306" y="222"/>
                  </a:lnTo>
                  <a:lnTo>
                    <a:pt x="1306" y="212"/>
                  </a:lnTo>
                  <a:lnTo>
                    <a:pt x="1313" y="205"/>
                  </a:lnTo>
                  <a:lnTo>
                    <a:pt x="1319" y="198"/>
                  </a:lnTo>
                  <a:lnTo>
                    <a:pt x="1319" y="192"/>
                  </a:lnTo>
                  <a:lnTo>
                    <a:pt x="1324" y="181"/>
                  </a:lnTo>
                  <a:lnTo>
                    <a:pt x="1324" y="174"/>
                  </a:lnTo>
                  <a:lnTo>
                    <a:pt x="1330" y="167"/>
                  </a:lnTo>
                  <a:lnTo>
                    <a:pt x="1330" y="161"/>
                  </a:lnTo>
                  <a:lnTo>
                    <a:pt x="1335" y="154"/>
                  </a:lnTo>
                  <a:lnTo>
                    <a:pt x="1335" y="146"/>
                  </a:lnTo>
                  <a:lnTo>
                    <a:pt x="1341" y="141"/>
                  </a:lnTo>
                  <a:lnTo>
                    <a:pt x="1341" y="134"/>
                  </a:lnTo>
                  <a:lnTo>
                    <a:pt x="1346" y="126"/>
                  </a:lnTo>
                  <a:lnTo>
                    <a:pt x="1346" y="119"/>
                  </a:lnTo>
                  <a:lnTo>
                    <a:pt x="1352" y="115"/>
                  </a:lnTo>
                  <a:lnTo>
                    <a:pt x="1352" y="110"/>
                  </a:lnTo>
                  <a:lnTo>
                    <a:pt x="1357" y="102"/>
                  </a:lnTo>
                  <a:lnTo>
                    <a:pt x="1357" y="99"/>
                  </a:lnTo>
                  <a:lnTo>
                    <a:pt x="1363" y="91"/>
                  </a:lnTo>
                  <a:lnTo>
                    <a:pt x="1363" y="86"/>
                  </a:lnTo>
                  <a:lnTo>
                    <a:pt x="1368" y="82"/>
                  </a:lnTo>
                  <a:lnTo>
                    <a:pt x="1368" y="75"/>
                  </a:lnTo>
                  <a:lnTo>
                    <a:pt x="1374" y="71"/>
                  </a:lnTo>
                  <a:lnTo>
                    <a:pt x="1374" y="68"/>
                  </a:lnTo>
                  <a:lnTo>
                    <a:pt x="1379" y="62"/>
                  </a:lnTo>
                  <a:lnTo>
                    <a:pt x="1379" y="59"/>
                  </a:lnTo>
                  <a:lnTo>
                    <a:pt x="1385" y="55"/>
                  </a:lnTo>
                  <a:lnTo>
                    <a:pt x="1390" y="48"/>
                  </a:lnTo>
                  <a:lnTo>
                    <a:pt x="1390" y="44"/>
                  </a:lnTo>
                  <a:lnTo>
                    <a:pt x="1397" y="40"/>
                  </a:lnTo>
                  <a:lnTo>
                    <a:pt x="1397" y="37"/>
                  </a:lnTo>
                  <a:lnTo>
                    <a:pt x="1403" y="35"/>
                  </a:lnTo>
                  <a:lnTo>
                    <a:pt x="1403" y="31"/>
                  </a:lnTo>
                  <a:lnTo>
                    <a:pt x="1408" y="27"/>
                  </a:lnTo>
                  <a:lnTo>
                    <a:pt x="1408" y="24"/>
                  </a:lnTo>
                  <a:lnTo>
                    <a:pt x="1414" y="20"/>
                  </a:lnTo>
                  <a:lnTo>
                    <a:pt x="1419" y="16"/>
                  </a:lnTo>
                  <a:lnTo>
                    <a:pt x="1425" y="13"/>
                  </a:lnTo>
                  <a:lnTo>
                    <a:pt x="1430" y="9"/>
                  </a:lnTo>
                  <a:lnTo>
                    <a:pt x="1436" y="7"/>
                  </a:lnTo>
                  <a:lnTo>
                    <a:pt x="1441" y="4"/>
                  </a:lnTo>
                  <a:lnTo>
                    <a:pt x="1447" y="0"/>
                  </a:lnTo>
                  <a:lnTo>
                    <a:pt x="1452" y="0"/>
                  </a:lnTo>
                  <a:lnTo>
                    <a:pt x="1458" y="0"/>
                  </a:lnTo>
                  <a:lnTo>
                    <a:pt x="1463" y="0"/>
                  </a:lnTo>
                  <a:lnTo>
                    <a:pt x="1469" y="0"/>
                  </a:lnTo>
                  <a:lnTo>
                    <a:pt x="1474" y="4"/>
                  </a:lnTo>
                  <a:lnTo>
                    <a:pt x="1480" y="7"/>
                  </a:lnTo>
                  <a:lnTo>
                    <a:pt x="1487" y="9"/>
                  </a:lnTo>
                  <a:lnTo>
                    <a:pt x="1493" y="13"/>
                  </a:lnTo>
                  <a:lnTo>
                    <a:pt x="1498" y="16"/>
                  </a:lnTo>
                  <a:lnTo>
                    <a:pt x="1504" y="20"/>
                  </a:lnTo>
                  <a:lnTo>
                    <a:pt x="1509" y="24"/>
                  </a:lnTo>
                  <a:lnTo>
                    <a:pt x="1509" y="27"/>
                  </a:lnTo>
                  <a:lnTo>
                    <a:pt x="1515" y="31"/>
                  </a:lnTo>
                  <a:lnTo>
                    <a:pt x="1515" y="35"/>
                  </a:lnTo>
                  <a:lnTo>
                    <a:pt x="1520" y="37"/>
                  </a:lnTo>
                  <a:lnTo>
                    <a:pt x="1520" y="40"/>
                  </a:lnTo>
                  <a:lnTo>
                    <a:pt x="1526" y="44"/>
                  </a:lnTo>
                  <a:lnTo>
                    <a:pt x="1526" y="48"/>
                  </a:lnTo>
                  <a:lnTo>
                    <a:pt x="1531" y="55"/>
                  </a:lnTo>
                  <a:lnTo>
                    <a:pt x="1537" y="59"/>
                  </a:lnTo>
                  <a:lnTo>
                    <a:pt x="1537" y="62"/>
                  </a:lnTo>
                  <a:lnTo>
                    <a:pt x="1542" y="68"/>
                  </a:lnTo>
                  <a:lnTo>
                    <a:pt x="1542" y="71"/>
                  </a:lnTo>
                  <a:lnTo>
                    <a:pt x="1548" y="75"/>
                  </a:lnTo>
                  <a:lnTo>
                    <a:pt x="1548" y="82"/>
                  </a:lnTo>
                  <a:lnTo>
                    <a:pt x="1553" y="86"/>
                  </a:lnTo>
                  <a:lnTo>
                    <a:pt x="1553" y="91"/>
                  </a:lnTo>
                  <a:lnTo>
                    <a:pt x="1559" y="99"/>
                  </a:lnTo>
                  <a:lnTo>
                    <a:pt x="1559" y="102"/>
                  </a:lnTo>
                  <a:lnTo>
                    <a:pt x="1564" y="110"/>
                  </a:lnTo>
                  <a:lnTo>
                    <a:pt x="1564" y="115"/>
                  </a:lnTo>
                  <a:lnTo>
                    <a:pt x="1570" y="119"/>
                  </a:lnTo>
                  <a:lnTo>
                    <a:pt x="1570" y="126"/>
                  </a:lnTo>
                  <a:lnTo>
                    <a:pt x="1577" y="134"/>
                  </a:lnTo>
                  <a:lnTo>
                    <a:pt x="1577" y="141"/>
                  </a:lnTo>
                  <a:lnTo>
                    <a:pt x="1582" y="146"/>
                  </a:lnTo>
                  <a:lnTo>
                    <a:pt x="1582" y="154"/>
                  </a:lnTo>
                  <a:lnTo>
                    <a:pt x="1588" y="161"/>
                  </a:lnTo>
                  <a:lnTo>
                    <a:pt x="1588" y="167"/>
                  </a:lnTo>
                  <a:lnTo>
                    <a:pt x="1593" y="174"/>
                  </a:lnTo>
                  <a:lnTo>
                    <a:pt x="1593" y="181"/>
                  </a:lnTo>
                  <a:lnTo>
                    <a:pt x="1599" y="192"/>
                  </a:lnTo>
                  <a:lnTo>
                    <a:pt x="1599" y="198"/>
                  </a:lnTo>
                  <a:lnTo>
                    <a:pt x="1604" y="205"/>
                  </a:lnTo>
                  <a:lnTo>
                    <a:pt x="1610" y="212"/>
                  </a:lnTo>
                  <a:lnTo>
                    <a:pt x="1610" y="222"/>
                  </a:lnTo>
                  <a:lnTo>
                    <a:pt x="1615" y="229"/>
                  </a:lnTo>
                  <a:lnTo>
                    <a:pt x="1615" y="236"/>
                  </a:lnTo>
                  <a:lnTo>
                    <a:pt x="1621" y="245"/>
                  </a:lnTo>
                  <a:lnTo>
                    <a:pt x="1621" y="253"/>
                  </a:lnTo>
                  <a:lnTo>
                    <a:pt x="1626" y="264"/>
                  </a:lnTo>
                  <a:lnTo>
                    <a:pt x="1626" y="271"/>
                  </a:lnTo>
                  <a:lnTo>
                    <a:pt x="1632" y="280"/>
                  </a:lnTo>
                  <a:lnTo>
                    <a:pt x="1632" y="291"/>
                  </a:lnTo>
                  <a:lnTo>
                    <a:pt x="1637" y="298"/>
                  </a:lnTo>
                  <a:lnTo>
                    <a:pt x="1637" y="308"/>
                  </a:lnTo>
                  <a:lnTo>
                    <a:pt x="1643" y="315"/>
                  </a:lnTo>
                  <a:lnTo>
                    <a:pt x="1643" y="326"/>
                  </a:lnTo>
                  <a:lnTo>
                    <a:pt x="1648" y="335"/>
                  </a:lnTo>
                  <a:lnTo>
                    <a:pt x="1648" y="346"/>
                  </a:lnTo>
                  <a:lnTo>
                    <a:pt x="1654" y="353"/>
                  </a:lnTo>
                  <a:lnTo>
                    <a:pt x="1654" y="363"/>
                  </a:lnTo>
                  <a:lnTo>
                    <a:pt x="1659" y="374"/>
                  </a:lnTo>
                  <a:lnTo>
                    <a:pt x="1659" y="383"/>
                  </a:lnTo>
                  <a:lnTo>
                    <a:pt x="1667" y="394"/>
                  </a:lnTo>
                  <a:lnTo>
                    <a:pt x="1667" y="405"/>
                  </a:lnTo>
                  <a:lnTo>
                    <a:pt x="1670" y="414"/>
                  </a:lnTo>
                  <a:lnTo>
                    <a:pt x="1670" y="425"/>
                  </a:lnTo>
                  <a:lnTo>
                    <a:pt x="1678" y="434"/>
                  </a:lnTo>
                  <a:lnTo>
                    <a:pt x="1683" y="445"/>
                  </a:lnTo>
                  <a:lnTo>
                    <a:pt x="1683" y="456"/>
                  </a:lnTo>
                  <a:lnTo>
                    <a:pt x="1689" y="465"/>
                  </a:lnTo>
                  <a:lnTo>
                    <a:pt x="1689" y="476"/>
                  </a:lnTo>
                  <a:lnTo>
                    <a:pt x="1694" y="485"/>
                  </a:lnTo>
                  <a:lnTo>
                    <a:pt x="1694" y="496"/>
                  </a:lnTo>
                  <a:lnTo>
                    <a:pt x="1700" y="507"/>
                  </a:lnTo>
                  <a:lnTo>
                    <a:pt x="1700" y="516"/>
                  </a:lnTo>
                  <a:lnTo>
                    <a:pt x="1705" y="527"/>
                  </a:lnTo>
                  <a:lnTo>
                    <a:pt x="1705" y="537"/>
                  </a:lnTo>
                  <a:lnTo>
                    <a:pt x="1711" y="548"/>
                  </a:lnTo>
                  <a:lnTo>
                    <a:pt x="1711" y="559"/>
                  </a:lnTo>
                  <a:lnTo>
                    <a:pt x="1716" y="571"/>
                  </a:lnTo>
                  <a:lnTo>
                    <a:pt x="1716" y="582"/>
                  </a:lnTo>
                  <a:lnTo>
                    <a:pt x="1722" y="592"/>
                  </a:lnTo>
                  <a:lnTo>
                    <a:pt x="1722" y="603"/>
                  </a:lnTo>
                  <a:lnTo>
                    <a:pt x="1727" y="614"/>
                  </a:lnTo>
                  <a:lnTo>
                    <a:pt x="1727" y="626"/>
                  </a:lnTo>
                  <a:lnTo>
                    <a:pt x="1733" y="637"/>
                  </a:lnTo>
                  <a:lnTo>
                    <a:pt x="1733" y="647"/>
                  </a:lnTo>
                  <a:lnTo>
                    <a:pt x="1738" y="658"/>
                  </a:lnTo>
                  <a:lnTo>
                    <a:pt x="1738" y="669"/>
                  </a:lnTo>
                  <a:lnTo>
                    <a:pt x="1744" y="681"/>
                  </a:lnTo>
                  <a:lnTo>
                    <a:pt x="1744" y="692"/>
                  </a:lnTo>
                  <a:lnTo>
                    <a:pt x="1749" y="701"/>
                  </a:lnTo>
                  <a:lnTo>
                    <a:pt x="1756" y="712"/>
                  </a:lnTo>
                  <a:lnTo>
                    <a:pt x="1756" y="723"/>
                  </a:lnTo>
                  <a:lnTo>
                    <a:pt x="1760" y="736"/>
                  </a:lnTo>
                  <a:lnTo>
                    <a:pt x="1760" y="747"/>
                  </a:lnTo>
                  <a:lnTo>
                    <a:pt x="1767" y="756"/>
                  </a:lnTo>
                  <a:lnTo>
                    <a:pt x="1767" y="767"/>
                  </a:lnTo>
                  <a:lnTo>
                    <a:pt x="1773" y="777"/>
                  </a:lnTo>
                  <a:lnTo>
                    <a:pt x="1773" y="791"/>
                  </a:lnTo>
                  <a:lnTo>
                    <a:pt x="1778" y="800"/>
                  </a:lnTo>
                  <a:lnTo>
                    <a:pt x="1778" y="811"/>
                  </a:lnTo>
                  <a:lnTo>
                    <a:pt x="1784" y="822"/>
                  </a:lnTo>
                  <a:lnTo>
                    <a:pt x="1784" y="832"/>
                  </a:lnTo>
                  <a:lnTo>
                    <a:pt x="1789" y="846"/>
                  </a:lnTo>
                  <a:lnTo>
                    <a:pt x="1789" y="855"/>
                  </a:lnTo>
                  <a:lnTo>
                    <a:pt x="1795" y="866"/>
                  </a:lnTo>
                  <a:lnTo>
                    <a:pt x="1795" y="877"/>
                  </a:lnTo>
                  <a:lnTo>
                    <a:pt x="1800" y="887"/>
                  </a:lnTo>
                  <a:lnTo>
                    <a:pt x="1800" y="898"/>
                  </a:lnTo>
                  <a:lnTo>
                    <a:pt x="1806" y="907"/>
                  </a:lnTo>
                  <a:lnTo>
                    <a:pt x="1806" y="918"/>
                  </a:lnTo>
                  <a:lnTo>
                    <a:pt x="1811" y="929"/>
                  </a:lnTo>
                  <a:lnTo>
                    <a:pt x="1811" y="938"/>
                  </a:lnTo>
                  <a:lnTo>
                    <a:pt x="1817" y="949"/>
                  </a:lnTo>
                  <a:lnTo>
                    <a:pt x="1817" y="958"/>
                  </a:lnTo>
                  <a:lnTo>
                    <a:pt x="1822" y="969"/>
                  </a:lnTo>
                  <a:lnTo>
                    <a:pt x="1828" y="980"/>
                  </a:lnTo>
                  <a:lnTo>
                    <a:pt x="1828" y="989"/>
                  </a:lnTo>
                  <a:lnTo>
                    <a:pt x="1833" y="1000"/>
                  </a:lnTo>
                  <a:lnTo>
                    <a:pt x="1833" y="1011"/>
                  </a:lnTo>
                  <a:lnTo>
                    <a:pt x="1839" y="1020"/>
                  </a:lnTo>
                  <a:lnTo>
                    <a:pt x="1839" y="1031"/>
                  </a:lnTo>
                  <a:lnTo>
                    <a:pt x="1846" y="1040"/>
                  </a:lnTo>
                  <a:lnTo>
                    <a:pt x="1846" y="1051"/>
                  </a:lnTo>
                  <a:lnTo>
                    <a:pt x="1850" y="1059"/>
                  </a:lnTo>
                  <a:lnTo>
                    <a:pt x="1850" y="1068"/>
                  </a:lnTo>
                  <a:lnTo>
                    <a:pt x="1857" y="1079"/>
                  </a:lnTo>
                  <a:lnTo>
                    <a:pt x="1857" y="1090"/>
                  </a:lnTo>
                  <a:lnTo>
                    <a:pt x="1863" y="1095"/>
                  </a:lnTo>
                  <a:lnTo>
                    <a:pt x="1863" y="1106"/>
                  </a:lnTo>
                  <a:lnTo>
                    <a:pt x="1868" y="1114"/>
                  </a:lnTo>
                  <a:lnTo>
                    <a:pt x="1868" y="1123"/>
                  </a:lnTo>
                  <a:lnTo>
                    <a:pt x="1874" y="1134"/>
                  </a:lnTo>
                  <a:lnTo>
                    <a:pt x="1874" y="1141"/>
                  </a:lnTo>
                  <a:lnTo>
                    <a:pt x="1879" y="1150"/>
                  </a:lnTo>
                  <a:lnTo>
                    <a:pt x="1879" y="1158"/>
                  </a:lnTo>
                  <a:lnTo>
                    <a:pt x="1885" y="1169"/>
                  </a:lnTo>
                  <a:lnTo>
                    <a:pt x="1885" y="1174"/>
                  </a:lnTo>
                  <a:lnTo>
                    <a:pt x="1890" y="1181"/>
                  </a:lnTo>
                  <a:lnTo>
                    <a:pt x="1890" y="1192"/>
                  </a:lnTo>
                  <a:lnTo>
                    <a:pt x="1896" y="1198"/>
                  </a:lnTo>
                  <a:lnTo>
                    <a:pt x="1901" y="1205"/>
                  </a:lnTo>
                  <a:lnTo>
                    <a:pt x="1901" y="1213"/>
                  </a:lnTo>
                  <a:lnTo>
                    <a:pt x="1907" y="1222"/>
                  </a:lnTo>
                  <a:lnTo>
                    <a:pt x="1907" y="1229"/>
                  </a:lnTo>
                  <a:lnTo>
                    <a:pt x="1912" y="1236"/>
                  </a:lnTo>
                  <a:lnTo>
                    <a:pt x="1912" y="1244"/>
                  </a:lnTo>
                  <a:lnTo>
                    <a:pt x="1918" y="1249"/>
                  </a:lnTo>
                  <a:lnTo>
                    <a:pt x="1918" y="1257"/>
                  </a:lnTo>
                  <a:lnTo>
                    <a:pt x="1923" y="1264"/>
                  </a:lnTo>
                  <a:lnTo>
                    <a:pt x="1923" y="1271"/>
                  </a:lnTo>
                  <a:lnTo>
                    <a:pt x="1929" y="1277"/>
                  </a:lnTo>
                  <a:lnTo>
                    <a:pt x="1929" y="1284"/>
                  </a:lnTo>
                  <a:lnTo>
                    <a:pt x="1936" y="1288"/>
                  </a:lnTo>
                  <a:lnTo>
                    <a:pt x="1936" y="1295"/>
                  </a:lnTo>
                  <a:lnTo>
                    <a:pt x="1940" y="1302"/>
                  </a:lnTo>
                  <a:lnTo>
                    <a:pt x="1940" y="1304"/>
                  </a:lnTo>
                  <a:lnTo>
                    <a:pt x="1947" y="1312"/>
                  </a:lnTo>
                  <a:lnTo>
                    <a:pt x="1947" y="1319"/>
                  </a:lnTo>
                  <a:lnTo>
                    <a:pt x="1952" y="1323"/>
                  </a:lnTo>
                  <a:lnTo>
                    <a:pt x="1952" y="1330"/>
                  </a:lnTo>
                  <a:lnTo>
                    <a:pt x="1958" y="1332"/>
                  </a:lnTo>
                  <a:lnTo>
                    <a:pt x="1958" y="1335"/>
                  </a:lnTo>
                  <a:lnTo>
                    <a:pt x="1963" y="1343"/>
                  </a:lnTo>
                  <a:lnTo>
                    <a:pt x="1963" y="1346"/>
                  </a:lnTo>
                  <a:lnTo>
                    <a:pt x="1969" y="1350"/>
                  </a:lnTo>
                  <a:lnTo>
                    <a:pt x="1974" y="1357"/>
                  </a:lnTo>
                  <a:lnTo>
                    <a:pt x="1974" y="1359"/>
                  </a:lnTo>
                  <a:lnTo>
                    <a:pt x="1980" y="1363"/>
                  </a:lnTo>
                  <a:lnTo>
                    <a:pt x="1980" y="1366"/>
                  </a:lnTo>
                  <a:lnTo>
                    <a:pt x="1985" y="1370"/>
                  </a:lnTo>
                  <a:lnTo>
                    <a:pt x="1985" y="1374"/>
                  </a:lnTo>
                  <a:lnTo>
                    <a:pt x="1991" y="1377"/>
                  </a:lnTo>
                  <a:lnTo>
                    <a:pt x="1991" y="1381"/>
                  </a:lnTo>
                  <a:lnTo>
                    <a:pt x="1996" y="1383"/>
                  </a:lnTo>
                  <a:lnTo>
                    <a:pt x="2002" y="1387"/>
                  </a:lnTo>
                  <a:lnTo>
                    <a:pt x="2007" y="1390"/>
                  </a:lnTo>
                  <a:lnTo>
                    <a:pt x="2013" y="1394"/>
                  </a:lnTo>
                  <a:lnTo>
                    <a:pt x="2018" y="1398"/>
                  </a:lnTo>
                  <a:lnTo>
                    <a:pt x="2026" y="1401"/>
                  </a:lnTo>
                  <a:lnTo>
                    <a:pt x="2029" y="1405"/>
                  </a:lnTo>
                  <a:lnTo>
                    <a:pt x="2037" y="1405"/>
                  </a:lnTo>
                  <a:lnTo>
                    <a:pt x="2042" y="1405"/>
                  </a:lnTo>
                  <a:lnTo>
                    <a:pt x="2048" y="1405"/>
                  </a:lnTo>
                  <a:lnTo>
                    <a:pt x="2053" y="1405"/>
                  </a:lnTo>
                  <a:lnTo>
                    <a:pt x="2059" y="1401"/>
                  </a:lnTo>
                  <a:lnTo>
                    <a:pt x="2064" y="1398"/>
                  </a:lnTo>
                  <a:lnTo>
                    <a:pt x="2070" y="1394"/>
                  </a:lnTo>
                  <a:lnTo>
                    <a:pt x="2075" y="1390"/>
                  </a:lnTo>
                  <a:lnTo>
                    <a:pt x="2081" y="1387"/>
                  </a:lnTo>
                  <a:lnTo>
                    <a:pt x="2086" y="1383"/>
                  </a:lnTo>
                  <a:lnTo>
                    <a:pt x="2092" y="1381"/>
                  </a:lnTo>
                  <a:lnTo>
                    <a:pt x="2092" y="1377"/>
                  </a:lnTo>
                  <a:lnTo>
                    <a:pt x="2097" y="1374"/>
                  </a:lnTo>
                  <a:lnTo>
                    <a:pt x="2097" y="1370"/>
                  </a:lnTo>
                  <a:lnTo>
                    <a:pt x="2103" y="1366"/>
                  </a:lnTo>
                  <a:lnTo>
                    <a:pt x="2103" y="1363"/>
                  </a:lnTo>
                  <a:lnTo>
                    <a:pt x="2108" y="1359"/>
                  </a:lnTo>
                  <a:lnTo>
                    <a:pt x="2108" y="1357"/>
                  </a:lnTo>
                  <a:lnTo>
                    <a:pt x="2115" y="1350"/>
                  </a:lnTo>
                  <a:lnTo>
                    <a:pt x="2119" y="1346"/>
                  </a:lnTo>
                  <a:lnTo>
                    <a:pt x="2119" y="1343"/>
                  </a:lnTo>
                  <a:lnTo>
                    <a:pt x="2126" y="1335"/>
                  </a:lnTo>
                  <a:lnTo>
                    <a:pt x="2126" y="1332"/>
                  </a:lnTo>
                  <a:lnTo>
                    <a:pt x="2132" y="1330"/>
                  </a:lnTo>
                  <a:lnTo>
                    <a:pt x="2132" y="1323"/>
                  </a:lnTo>
                  <a:lnTo>
                    <a:pt x="2137" y="1319"/>
                  </a:lnTo>
                  <a:lnTo>
                    <a:pt x="2137" y="1312"/>
                  </a:lnTo>
                  <a:lnTo>
                    <a:pt x="2143" y="1304"/>
                  </a:lnTo>
                  <a:lnTo>
                    <a:pt x="2143" y="1302"/>
                  </a:lnTo>
                  <a:lnTo>
                    <a:pt x="2148" y="1295"/>
                  </a:lnTo>
                  <a:lnTo>
                    <a:pt x="2148" y="1288"/>
                  </a:lnTo>
                  <a:lnTo>
                    <a:pt x="2154" y="1284"/>
                  </a:lnTo>
                  <a:lnTo>
                    <a:pt x="2154" y="1277"/>
                  </a:lnTo>
                  <a:lnTo>
                    <a:pt x="2159" y="1271"/>
                  </a:lnTo>
                  <a:lnTo>
                    <a:pt x="2159" y="1264"/>
                  </a:lnTo>
                  <a:lnTo>
                    <a:pt x="2165" y="1257"/>
                  </a:lnTo>
                  <a:lnTo>
                    <a:pt x="2165" y="1249"/>
                  </a:lnTo>
                  <a:lnTo>
                    <a:pt x="2170" y="1244"/>
                  </a:lnTo>
                  <a:lnTo>
                    <a:pt x="2170" y="1236"/>
                  </a:lnTo>
                  <a:lnTo>
                    <a:pt x="2176" y="1229"/>
                  </a:lnTo>
                  <a:lnTo>
                    <a:pt x="2176" y="1222"/>
                  </a:lnTo>
                  <a:lnTo>
                    <a:pt x="2181" y="1213"/>
                  </a:lnTo>
                  <a:lnTo>
                    <a:pt x="2181" y="1205"/>
                  </a:lnTo>
                  <a:lnTo>
                    <a:pt x="2187" y="1198"/>
                  </a:lnTo>
                  <a:lnTo>
                    <a:pt x="2192" y="1192"/>
                  </a:lnTo>
                  <a:lnTo>
                    <a:pt x="2192" y="1181"/>
                  </a:lnTo>
                  <a:lnTo>
                    <a:pt x="2198" y="1174"/>
                  </a:lnTo>
                  <a:lnTo>
                    <a:pt x="2198" y="1169"/>
                  </a:lnTo>
                  <a:lnTo>
                    <a:pt x="2205" y="1158"/>
                  </a:lnTo>
                  <a:lnTo>
                    <a:pt x="2205" y="1150"/>
                  </a:lnTo>
                  <a:lnTo>
                    <a:pt x="2209" y="1141"/>
                  </a:lnTo>
                  <a:lnTo>
                    <a:pt x="2209" y="1134"/>
                  </a:lnTo>
                  <a:lnTo>
                    <a:pt x="2216" y="1123"/>
                  </a:lnTo>
                  <a:lnTo>
                    <a:pt x="2216" y="1114"/>
                  </a:lnTo>
                  <a:lnTo>
                    <a:pt x="2222" y="1106"/>
                  </a:lnTo>
                  <a:lnTo>
                    <a:pt x="2222" y="1095"/>
                  </a:lnTo>
                  <a:lnTo>
                    <a:pt x="2227" y="1090"/>
                  </a:lnTo>
                  <a:lnTo>
                    <a:pt x="2227" y="1079"/>
                  </a:lnTo>
                  <a:lnTo>
                    <a:pt x="2233" y="1068"/>
                  </a:lnTo>
                  <a:lnTo>
                    <a:pt x="2233" y="1059"/>
                  </a:lnTo>
                  <a:lnTo>
                    <a:pt x="2238" y="1051"/>
                  </a:lnTo>
                  <a:lnTo>
                    <a:pt x="2238" y="1040"/>
                  </a:lnTo>
                  <a:lnTo>
                    <a:pt x="2244" y="1031"/>
                  </a:lnTo>
                  <a:lnTo>
                    <a:pt x="2244" y="1020"/>
                  </a:lnTo>
                  <a:lnTo>
                    <a:pt x="2249" y="1011"/>
                  </a:lnTo>
                  <a:lnTo>
                    <a:pt x="2249" y="1000"/>
                  </a:lnTo>
                  <a:lnTo>
                    <a:pt x="2255" y="989"/>
                  </a:lnTo>
                  <a:lnTo>
                    <a:pt x="2255" y="980"/>
                  </a:lnTo>
                  <a:lnTo>
                    <a:pt x="2260" y="969"/>
                  </a:lnTo>
                  <a:lnTo>
                    <a:pt x="2266" y="958"/>
                  </a:lnTo>
                  <a:lnTo>
                    <a:pt x="2266" y="949"/>
                  </a:lnTo>
                  <a:lnTo>
                    <a:pt x="2271" y="938"/>
                  </a:lnTo>
                  <a:lnTo>
                    <a:pt x="2271" y="929"/>
                  </a:lnTo>
                  <a:lnTo>
                    <a:pt x="2277" y="918"/>
                  </a:lnTo>
                  <a:lnTo>
                    <a:pt x="2277" y="907"/>
                  </a:lnTo>
                  <a:lnTo>
                    <a:pt x="2282" y="898"/>
                  </a:lnTo>
                  <a:lnTo>
                    <a:pt x="2282" y="887"/>
                  </a:lnTo>
                  <a:lnTo>
                    <a:pt x="2288" y="877"/>
                  </a:lnTo>
                  <a:lnTo>
                    <a:pt x="2288" y="866"/>
                  </a:lnTo>
                  <a:lnTo>
                    <a:pt x="2293" y="855"/>
                  </a:lnTo>
                  <a:lnTo>
                    <a:pt x="2293" y="846"/>
                  </a:lnTo>
                  <a:lnTo>
                    <a:pt x="2299" y="832"/>
                  </a:lnTo>
                  <a:lnTo>
                    <a:pt x="2299" y="822"/>
                  </a:lnTo>
                  <a:lnTo>
                    <a:pt x="2306" y="811"/>
                  </a:lnTo>
                  <a:lnTo>
                    <a:pt x="2306" y="800"/>
                  </a:lnTo>
                  <a:lnTo>
                    <a:pt x="2311" y="791"/>
                  </a:lnTo>
                  <a:lnTo>
                    <a:pt x="2311" y="777"/>
                  </a:lnTo>
                  <a:lnTo>
                    <a:pt x="2317" y="767"/>
                  </a:lnTo>
                  <a:lnTo>
                    <a:pt x="2317" y="756"/>
                  </a:lnTo>
                  <a:lnTo>
                    <a:pt x="2322" y="747"/>
                  </a:lnTo>
                  <a:lnTo>
                    <a:pt x="2322" y="736"/>
                  </a:lnTo>
                  <a:lnTo>
                    <a:pt x="2328" y="723"/>
                  </a:lnTo>
                  <a:lnTo>
                    <a:pt x="2328" y="712"/>
                  </a:lnTo>
                  <a:lnTo>
                    <a:pt x="2333" y="701"/>
                  </a:lnTo>
                  <a:lnTo>
                    <a:pt x="2339" y="692"/>
                  </a:lnTo>
                  <a:lnTo>
                    <a:pt x="2339" y="681"/>
                  </a:lnTo>
                  <a:lnTo>
                    <a:pt x="2344" y="669"/>
                  </a:lnTo>
                  <a:lnTo>
                    <a:pt x="2344" y="658"/>
                  </a:lnTo>
                  <a:lnTo>
                    <a:pt x="2350" y="647"/>
                  </a:lnTo>
                  <a:lnTo>
                    <a:pt x="2350" y="637"/>
                  </a:lnTo>
                  <a:lnTo>
                    <a:pt x="2355" y="626"/>
                  </a:lnTo>
                  <a:lnTo>
                    <a:pt x="2355" y="614"/>
                  </a:lnTo>
                  <a:lnTo>
                    <a:pt x="2361" y="603"/>
                  </a:lnTo>
                  <a:lnTo>
                    <a:pt x="2361" y="592"/>
                  </a:lnTo>
                  <a:lnTo>
                    <a:pt x="2366" y="582"/>
                  </a:lnTo>
                  <a:lnTo>
                    <a:pt x="2366" y="571"/>
                  </a:lnTo>
                  <a:lnTo>
                    <a:pt x="2372" y="559"/>
                  </a:lnTo>
                  <a:lnTo>
                    <a:pt x="2372" y="548"/>
                  </a:lnTo>
                  <a:lnTo>
                    <a:pt x="2377" y="537"/>
                  </a:lnTo>
                  <a:lnTo>
                    <a:pt x="2377" y="527"/>
                  </a:lnTo>
                  <a:lnTo>
                    <a:pt x="2383" y="516"/>
                  </a:lnTo>
                  <a:lnTo>
                    <a:pt x="2383" y="507"/>
                  </a:lnTo>
                  <a:lnTo>
                    <a:pt x="2388" y="496"/>
                  </a:lnTo>
                  <a:lnTo>
                    <a:pt x="2388" y="485"/>
                  </a:lnTo>
                  <a:lnTo>
                    <a:pt x="2396" y="476"/>
                  </a:lnTo>
                  <a:lnTo>
                    <a:pt x="2396" y="465"/>
                  </a:lnTo>
                  <a:lnTo>
                    <a:pt x="2401" y="456"/>
                  </a:lnTo>
                  <a:lnTo>
                    <a:pt x="2401" y="445"/>
                  </a:lnTo>
                  <a:lnTo>
                    <a:pt x="2407" y="434"/>
                  </a:lnTo>
                  <a:lnTo>
                    <a:pt x="2412" y="425"/>
                  </a:lnTo>
                  <a:lnTo>
                    <a:pt x="2412" y="414"/>
                  </a:lnTo>
                  <a:lnTo>
                    <a:pt x="2418" y="405"/>
                  </a:lnTo>
                  <a:lnTo>
                    <a:pt x="2418" y="394"/>
                  </a:lnTo>
                  <a:lnTo>
                    <a:pt x="2423" y="383"/>
                  </a:lnTo>
                  <a:lnTo>
                    <a:pt x="2423" y="374"/>
                  </a:lnTo>
                  <a:lnTo>
                    <a:pt x="2429" y="363"/>
                  </a:lnTo>
                  <a:lnTo>
                    <a:pt x="2429" y="353"/>
                  </a:lnTo>
                  <a:lnTo>
                    <a:pt x="2434" y="346"/>
                  </a:lnTo>
                  <a:lnTo>
                    <a:pt x="2434" y="335"/>
                  </a:lnTo>
                  <a:lnTo>
                    <a:pt x="2440" y="326"/>
                  </a:lnTo>
                  <a:lnTo>
                    <a:pt x="2440" y="315"/>
                  </a:lnTo>
                  <a:lnTo>
                    <a:pt x="2445" y="308"/>
                  </a:lnTo>
                  <a:lnTo>
                    <a:pt x="2445" y="298"/>
                  </a:lnTo>
                  <a:lnTo>
                    <a:pt x="2451" y="291"/>
                  </a:lnTo>
                  <a:lnTo>
                    <a:pt x="2451" y="280"/>
                  </a:lnTo>
                  <a:lnTo>
                    <a:pt x="2456" y="271"/>
                  </a:lnTo>
                  <a:lnTo>
                    <a:pt x="2456" y="264"/>
                  </a:lnTo>
                  <a:lnTo>
                    <a:pt x="2462" y="253"/>
                  </a:lnTo>
                  <a:lnTo>
                    <a:pt x="2462" y="245"/>
                  </a:lnTo>
                  <a:lnTo>
                    <a:pt x="2467" y="236"/>
                  </a:lnTo>
                  <a:lnTo>
                    <a:pt x="2467" y="229"/>
                  </a:lnTo>
                  <a:lnTo>
                    <a:pt x="2473" y="222"/>
                  </a:lnTo>
                  <a:lnTo>
                    <a:pt x="2473" y="212"/>
                  </a:lnTo>
                  <a:lnTo>
                    <a:pt x="2478" y="205"/>
                  </a:lnTo>
                  <a:lnTo>
                    <a:pt x="2485" y="198"/>
                  </a:lnTo>
                  <a:lnTo>
                    <a:pt x="2485" y="192"/>
                  </a:lnTo>
                  <a:lnTo>
                    <a:pt x="2491" y="181"/>
                  </a:lnTo>
                  <a:lnTo>
                    <a:pt x="2491" y="174"/>
                  </a:lnTo>
                  <a:lnTo>
                    <a:pt x="2496" y="167"/>
                  </a:lnTo>
                  <a:lnTo>
                    <a:pt x="2496" y="161"/>
                  </a:lnTo>
                  <a:lnTo>
                    <a:pt x="2502" y="154"/>
                  </a:lnTo>
                  <a:lnTo>
                    <a:pt x="2502" y="146"/>
                  </a:lnTo>
                  <a:lnTo>
                    <a:pt x="2507" y="141"/>
                  </a:lnTo>
                  <a:lnTo>
                    <a:pt x="2507" y="134"/>
                  </a:lnTo>
                  <a:lnTo>
                    <a:pt x="2513" y="126"/>
                  </a:lnTo>
                  <a:lnTo>
                    <a:pt x="2513" y="119"/>
                  </a:lnTo>
                  <a:lnTo>
                    <a:pt x="2518" y="115"/>
                  </a:lnTo>
                  <a:lnTo>
                    <a:pt x="2518" y="110"/>
                  </a:lnTo>
                  <a:lnTo>
                    <a:pt x="2524" y="102"/>
                  </a:lnTo>
                  <a:lnTo>
                    <a:pt x="2524" y="99"/>
                  </a:lnTo>
                  <a:lnTo>
                    <a:pt x="2529" y="91"/>
                  </a:lnTo>
                  <a:lnTo>
                    <a:pt x="2529" y="86"/>
                  </a:lnTo>
                  <a:lnTo>
                    <a:pt x="2535" y="82"/>
                  </a:lnTo>
                  <a:lnTo>
                    <a:pt x="2535" y="75"/>
                  </a:lnTo>
                  <a:lnTo>
                    <a:pt x="2540" y="71"/>
                  </a:lnTo>
                  <a:lnTo>
                    <a:pt x="2540" y="68"/>
                  </a:lnTo>
                  <a:lnTo>
                    <a:pt x="2546" y="62"/>
                  </a:lnTo>
                  <a:lnTo>
                    <a:pt x="2546" y="59"/>
                  </a:lnTo>
                  <a:lnTo>
                    <a:pt x="2551" y="55"/>
                  </a:lnTo>
                  <a:lnTo>
                    <a:pt x="2557" y="48"/>
                  </a:lnTo>
                  <a:lnTo>
                    <a:pt x="2557" y="44"/>
                  </a:lnTo>
                  <a:lnTo>
                    <a:pt x="2562" y="40"/>
                  </a:lnTo>
                  <a:lnTo>
                    <a:pt x="2562" y="37"/>
                  </a:lnTo>
                  <a:lnTo>
                    <a:pt x="2568" y="35"/>
                  </a:lnTo>
                  <a:lnTo>
                    <a:pt x="2568" y="31"/>
                  </a:lnTo>
                  <a:lnTo>
                    <a:pt x="2575" y="27"/>
                  </a:lnTo>
                  <a:lnTo>
                    <a:pt x="2575" y="24"/>
                  </a:lnTo>
                  <a:lnTo>
                    <a:pt x="2581" y="20"/>
                  </a:lnTo>
                  <a:lnTo>
                    <a:pt x="2586" y="16"/>
                  </a:lnTo>
                  <a:lnTo>
                    <a:pt x="2592" y="13"/>
                  </a:lnTo>
                  <a:lnTo>
                    <a:pt x="2597" y="9"/>
                  </a:lnTo>
                  <a:lnTo>
                    <a:pt x="2603" y="7"/>
                  </a:lnTo>
                  <a:lnTo>
                    <a:pt x="2608" y="4"/>
                  </a:lnTo>
                  <a:lnTo>
                    <a:pt x="2614" y="0"/>
                  </a:lnTo>
                  <a:lnTo>
                    <a:pt x="2619" y="0"/>
                  </a:lnTo>
                  <a:lnTo>
                    <a:pt x="2625" y="0"/>
                  </a:lnTo>
                  <a:lnTo>
                    <a:pt x="2630" y="0"/>
                  </a:lnTo>
                  <a:lnTo>
                    <a:pt x="2636" y="0"/>
                  </a:lnTo>
                  <a:lnTo>
                    <a:pt x="2641" y="4"/>
                  </a:lnTo>
                  <a:lnTo>
                    <a:pt x="2647" y="7"/>
                  </a:lnTo>
                  <a:lnTo>
                    <a:pt x="2652" y="9"/>
                  </a:lnTo>
                  <a:lnTo>
                    <a:pt x="2658" y="13"/>
                  </a:lnTo>
                  <a:lnTo>
                    <a:pt x="2665" y="16"/>
                  </a:lnTo>
                  <a:lnTo>
                    <a:pt x="2670" y="20"/>
                  </a:lnTo>
                  <a:lnTo>
                    <a:pt x="2676" y="24"/>
                  </a:lnTo>
                  <a:lnTo>
                    <a:pt x="2676" y="27"/>
                  </a:lnTo>
                  <a:lnTo>
                    <a:pt x="2681" y="31"/>
                  </a:lnTo>
                  <a:lnTo>
                    <a:pt x="2681" y="35"/>
                  </a:lnTo>
                  <a:lnTo>
                    <a:pt x="2687" y="37"/>
                  </a:lnTo>
                  <a:lnTo>
                    <a:pt x="2687" y="40"/>
                  </a:lnTo>
                  <a:lnTo>
                    <a:pt x="2692" y="44"/>
                  </a:lnTo>
                  <a:lnTo>
                    <a:pt x="2692" y="48"/>
                  </a:lnTo>
                  <a:lnTo>
                    <a:pt x="2698" y="55"/>
                  </a:lnTo>
                  <a:lnTo>
                    <a:pt x="2703" y="59"/>
                  </a:lnTo>
                  <a:lnTo>
                    <a:pt x="2703" y="62"/>
                  </a:lnTo>
                  <a:lnTo>
                    <a:pt x="2709" y="68"/>
                  </a:lnTo>
                  <a:lnTo>
                    <a:pt x="2709" y="71"/>
                  </a:lnTo>
                  <a:lnTo>
                    <a:pt x="2714" y="75"/>
                  </a:lnTo>
                  <a:lnTo>
                    <a:pt x="2714" y="82"/>
                  </a:lnTo>
                  <a:lnTo>
                    <a:pt x="2720" y="86"/>
                  </a:lnTo>
                  <a:lnTo>
                    <a:pt x="2720" y="91"/>
                  </a:lnTo>
                  <a:lnTo>
                    <a:pt x="2725" y="99"/>
                  </a:lnTo>
                  <a:lnTo>
                    <a:pt x="2725" y="102"/>
                  </a:lnTo>
                  <a:lnTo>
                    <a:pt x="2731" y="110"/>
                  </a:lnTo>
                  <a:lnTo>
                    <a:pt x="2731" y="115"/>
                  </a:lnTo>
                  <a:lnTo>
                    <a:pt x="2736" y="119"/>
                  </a:lnTo>
                  <a:lnTo>
                    <a:pt x="2736" y="126"/>
                  </a:lnTo>
                  <a:lnTo>
                    <a:pt x="2742" y="134"/>
                  </a:lnTo>
                  <a:lnTo>
                    <a:pt x="2742" y="141"/>
                  </a:lnTo>
                  <a:lnTo>
                    <a:pt x="2747" y="146"/>
                  </a:lnTo>
                  <a:lnTo>
                    <a:pt x="2747" y="154"/>
                  </a:lnTo>
                  <a:lnTo>
                    <a:pt x="2753" y="161"/>
                  </a:lnTo>
                  <a:lnTo>
                    <a:pt x="2753" y="167"/>
                  </a:lnTo>
                  <a:lnTo>
                    <a:pt x="2760" y="174"/>
                  </a:lnTo>
                  <a:lnTo>
                    <a:pt x="2760" y="181"/>
                  </a:lnTo>
                  <a:lnTo>
                    <a:pt x="2766" y="192"/>
                  </a:lnTo>
                  <a:lnTo>
                    <a:pt x="2766" y="198"/>
                  </a:lnTo>
                  <a:lnTo>
                    <a:pt x="2771" y="205"/>
                  </a:lnTo>
                  <a:lnTo>
                    <a:pt x="2777" y="212"/>
                  </a:lnTo>
                  <a:lnTo>
                    <a:pt x="2777" y="222"/>
                  </a:lnTo>
                  <a:lnTo>
                    <a:pt x="2782" y="229"/>
                  </a:lnTo>
                  <a:lnTo>
                    <a:pt x="2782" y="236"/>
                  </a:lnTo>
                  <a:lnTo>
                    <a:pt x="2788" y="245"/>
                  </a:lnTo>
                  <a:lnTo>
                    <a:pt x="2788" y="253"/>
                  </a:lnTo>
                  <a:lnTo>
                    <a:pt x="2793" y="264"/>
                  </a:lnTo>
                  <a:lnTo>
                    <a:pt x="2793" y="271"/>
                  </a:lnTo>
                  <a:lnTo>
                    <a:pt x="2799" y="280"/>
                  </a:lnTo>
                  <a:lnTo>
                    <a:pt x="2799" y="291"/>
                  </a:lnTo>
                  <a:lnTo>
                    <a:pt x="2804" y="298"/>
                  </a:lnTo>
                  <a:lnTo>
                    <a:pt x="2804" y="308"/>
                  </a:lnTo>
                  <a:lnTo>
                    <a:pt x="2810" y="315"/>
                  </a:lnTo>
                  <a:lnTo>
                    <a:pt x="2810" y="326"/>
                  </a:lnTo>
                  <a:lnTo>
                    <a:pt x="2815" y="335"/>
                  </a:lnTo>
                  <a:lnTo>
                    <a:pt x="2815" y="346"/>
                  </a:lnTo>
                  <a:lnTo>
                    <a:pt x="2821" y="353"/>
                  </a:lnTo>
                  <a:lnTo>
                    <a:pt x="2821" y="363"/>
                  </a:lnTo>
                  <a:lnTo>
                    <a:pt x="2826" y="374"/>
                  </a:lnTo>
                  <a:lnTo>
                    <a:pt x="2826" y="383"/>
                  </a:lnTo>
                  <a:lnTo>
                    <a:pt x="2832" y="394"/>
                  </a:lnTo>
                  <a:lnTo>
                    <a:pt x="2832" y="405"/>
                  </a:lnTo>
                  <a:lnTo>
                    <a:pt x="2839" y="414"/>
                  </a:lnTo>
                  <a:lnTo>
                    <a:pt x="2839" y="425"/>
                  </a:lnTo>
                  <a:lnTo>
                    <a:pt x="2843" y="434"/>
                  </a:lnTo>
                  <a:lnTo>
                    <a:pt x="2850" y="445"/>
                  </a:lnTo>
                  <a:lnTo>
                    <a:pt x="2850" y="456"/>
                  </a:lnTo>
                  <a:lnTo>
                    <a:pt x="2856" y="465"/>
                  </a:lnTo>
                  <a:lnTo>
                    <a:pt x="2856" y="476"/>
                  </a:lnTo>
                  <a:lnTo>
                    <a:pt x="2861" y="485"/>
                  </a:lnTo>
                  <a:lnTo>
                    <a:pt x="2861" y="496"/>
                  </a:lnTo>
                  <a:lnTo>
                    <a:pt x="2867" y="507"/>
                  </a:lnTo>
                  <a:lnTo>
                    <a:pt x="2867" y="516"/>
                  </a:lnTo>
                  <a:lnTo>
                    <a:pt x="2872" y="527"/>
                  </a:lnTo>
                  <a:lnTo>
                    <a:pt x="2872" y="537"/>
                  </a:lnTo>
                  <a:lnTo>
                    <a:pt x="2878" y="548"/>
                  </a:lnTo>
                  <a:lnTo>
                    <a:pt x="2878" y="559"/>
                  </a:lnTo>
                  <a:lnTo>
                    <a:pt x="2883" y="571"/>
                  </a:lnTo>
                  <a:lnTo>
                    <a:pt x="2883" y="582"/>
                  </a:lnTo>
                  <a:lnTo>
                    <a:pt x="2888" y="592"/>
                  </a:lnTo>
                  <a:lnTo>
                    <a:pt x="2888" y="603"/>
                  </a:lnTo>
                  <a:lnTo>
                    <a:pt x="2894" y="614"/>
                  </a:lnTo>
                  <a:lnTo>
                    <a:pt x="2894" y="626"/>
                  </a:lnTo>
                  <a:lnTo>
                    <a:pt x="2899" y="637"/>
                  </a:lnTo>
                  <a:lnTo>
                    <a:pt x="2899" y="647"/>
                  </a:lnTo>
                  <a:lnTo>
                    <a:pt x="2905" y="658"/>
                  </a:lnTo>
                  <a:lnTo>
                    <a:pt x="2905" y="669"/>
                  </a:lnTo>
                  <a:lnTo>
                    <a:pt x="2910" y="681"/>
                  </a:lnTo>
                  <a:lnTo>
                    <a:pt x="2910" y="692"/>
                  </a:lnTo>
                  <a:lnTo>
                    <a:pt x="2916" y="70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74"/>
            <p:cNvGrpSpPr/>
            <p:nvPr/>
          </p:nvGrpSpPr>
          <p:grpSpPr>
            <a:xfrm>
              <a:off x="4668840" y="4900680"/>
              <a:ext cx="3222000" cy="109080"/>
              <a:chOff x="4668840" y="4900680"/>
              <a:chExt cx="3222000" cy="109080"/>
            </a:xfrm>
          </p:grpSpPr>
          <p:sp>
            <p:nvSpPr>
              <p:cNvPr id="202" name="Line 175"/>
              <p:cNvSpPr/>
              <p:nvPr/>
            </p:nvSpPr>
            <p:spPr>
              <a:xfrm>
                <a:off x="4668840" y="4954320"/>
                <a:ext cx="310356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76"/>
              <p:cNvSpPr/>
              <p:nvPr/>
            </p:nvSpPr>
            <p:spPr>
              <a:xfrm>
                <a:off x="7768440" y="4900680"/>
                <a:ext cx="122400" cy="1090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21" h="119">
                    <a:moveTo>
                      <a:pt x="0" y="119"/>
                    </a:moveTo>
                    <a:lnTo>
                      <a:pt x="121" y="58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77"/>
            <p:cNvGrpSpPr/>
            <p:nvPr/>
          </p:nvGrpSpPr>
          <p:grpSpPr>
            <a:xfrm>
              <a:off x="4665600" y="5778360"/>
              <a:ext cx="3222360" cy="109440"/>
              <a:chOff x="4665600" y="5778360"/>
              <a:chExt cx="3222360" cy="109440"/>
            </a:xfrm>
          </p:grpSpPr>
          <p:sp>
            <p:nvSpPr>
              <p:cNvPr id="205" name="Line 178"/>
              <p:cNvSpPr/>
              <p:nvPr/>
            </p:nvSpPr>
            <p:spPr>
              <a:xfrm>
                <a:off x="4665600" y="5832360"/>
                <a:ext cx="31039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9"/>
              <p:cNvSpPr/>
              <p:nvPr/>
            </p:nvSpPr>
            <p:spPr>
              <a:xfrm>
                <a:off x="7765560" y="5778360"/>
                <a:ext cx="122400" cy="10944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21" h="119">
                    <a:moveTo>
                      <a:pt x="0" y="119"/>
                    </a:moveTo>
                    <a:lnTo>
                      <a:pt x="121" y="58"/>
                    </a:lnTo>
                    <a:lnTo>
                      <a:pt x="0" y="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Line 180"/>
            <p:cNvSpPr/>
            <p:nvPr/>
          </p:nvSpPr>
          <p:spPr>
            <a:xfrm flipV="1">
              <a:off x="4665600" y="3459240"/>
              <a:ext cx="0" cy="27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81"/>
            <p:cNvSpPr/>
            <p:nvPr/>
          </p:nvSpPr>
          <p:spPr>
            <a:xfrm>
              <a:off x="4410000" y="4535640"/>
              <a:ext cx="2517840" cy="826920"/>
            </a:xfrm>
            <a:custGeom>
              <a:avLst/>
              <a:gdLst>
                <a:gd name="textAreaLeft" fmla="*/ 0 w 2517840"/>
                <a:gd name="textAreaRight" fmla="*/ 2518200 w 251784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2916" h="1405">
                  <a:moveTo>
                    <a:pt x="0" y="701"/>
                  </a:moveTo>
                  <a:lnTo>
                    <a:pt x="5" y="692"/>
                  </a:lnTo>
                  <a:lnTo>
                    <a:pt x="5" y="681"/>
                  </a:lnTo>
                  <a:lnTo>
                    <a:pt x="11" y="669"/>
                  </a:lnTo>
                  <a:lnTo>
                    <a:pt x="11" y="658"/>
                  </a:lnTo>
                  <a:lnTo>
                    <a:pt x="16" y="647"/>
                  </a:lnTo>
                  <a:lnTo>
                    <a:pt x="16" y="637"/>
                  </a:lnTo>
                  <a:lnTo>
                    <a:pt x="22" y="626"/>
                  </a:lnTo>
                  <a:lnTo>
                    <a:pt x="22" y="614"/>
                  </a:lnTo>
                  <a:lnTo>
                    <a:pt x="27" y="603"/>
                  </a:lnTo>
                  <a:lnTo>
                    <a:pt x="27" y="592"/>
                  </a:lnTo>
                  <a:lnTo>
                    <a:pt x="33" y="582"/>
                  </a:lnTo>
                  <a:lnTo>
                    <a:pt x="33" y="571"/>
                  </a:lnTo>
                  <a:lnTo>
                    <a:pt x="40" y="559"/>
                  </a:lnTo>
                  <a:lnTo>
                    <a:pt x="40" y="548"/>
                  </a:lnTo>
                  <a:lnTo>
                    <a:pt x="45" y="537"/>
                  </a:lnTo>
                  <a:lnTo>
                    <a:pt x="45" y="527"/>
                  </a:lnTo>
                  <a:lnTo>
                    <a:pt x="51" y="516"/>
                  </a:lnTo>
                  <a:lnTo>
                    <a:pt x="51" y="507"/>
                  </a:lnTo>
                  <a:lnTo>
                    <a:pt x="56" y="496"/>
                  </a:lnTo>
                  <a:lnTo>
                    <a:pt x="56" y="485"/>
                  </a:lnTo>
                  <a:lnTo>
                    <a:pt x="62" y="476"/>
                  </a:lnTo>
                  <a:lnTo>
                    <a:pt x="62" y="465"/>
                  </a:lnTo>
                  <a:lnTo>
                    <a:pt x="67" y="456"/>
                  </a:lnTo>
                  <a:lnTo>
                    <a:pt x="67" y="445"/>
                  </a:lnTo>
                  <a:lnTo>
                    <a:pt x="73" y="434"/>
                  </a:lnTo>
                  <a:lnTo>
                    <a:pt x="78" y="425"/>
                  </a:lnTo>
                  <a:lnTo>
                    <a:pt x="78" y="414"/>
                  </a:lnTo>
                  <a:lnTo>
                    <a:pt x="84" y="405"/>
                  </a:lnTo>
                  <a:lnTo>
                    <a:pt x="84" y="394"/>
                  </a:lnTo>
                  <a:lnTo>
                    <a:pt x="89" y="383"/>
                  </a:lnTo>
                  <a:lnTo>
                    <a:pt x="89" y="374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100" y="346"/>
                  </a:lnTo>
                  <a:lnTo>
                    <a:pt x="100" y="335"/>
                  </a:lnTo>
                  <a:lnTo>
                    <a:pt x="106" y="326"/>
                  </a:lnTo>
                  <a:lnTo>
                    <a:pt x="106" y="315"/>
                  </a:lnTo>
                  <a:lnTo>
                    <a:pt x="111" y="308"/>
                  </a:lnTo>
                  <a:lnTo>
                    <a:pt x="111" y="298"/>
                  </a:lnTo>
                  <a:lnTo>
                    <a:pt x="117" y="291"/>
                  </a:lnTo>
                  <a:lnTo>
                    <a:pt x="117" y="280"/>
                  </a:lnTo>
                  <a:lnTo>
                    <a:pt x="122" y="271"/>
                  </a:lnTo>
                  <a:lnTo>
                    <a:pt x="122" y="264"/>
                  </a:lnTo>
                  <a:lnTo>
                    <a:pt x="128" y="253"/>
                  </a:lnTo>
                  <a:lnTo>
                    <a:pt x="128" y="245"/>
                  </a:lnTo>
                  <a:lnTo>
                    <a:pt x="135" y="236"/>
                  </a:lnTo>
                  <a:lnTo>
                    <a:pt x="135" y="229"/>
                  </a:lnTo>
                  <a:lnTo>
                    <a:pt x="141" y="222"/>
                  </a:lnTo>
                  <a:lnTo>
                    <a:pt x="141" y="212"/>
                  </a:lnTo>
                  <a:lnTo>
                    <a:pt x="146" y="205"/>
                  </a:lnTo>
                  <a:lnTo>
                    <a:pt x="152" y="198"/>
                  </a:lnTo>
                  <a:lnTo>
                    <a:pt x="152" y="192"/>
                  </a:lnTo>
                  <a:lnTo>
                    <a:pt x="157" y="181"/>
                  </a:lnTo>
                  <a:lnTo>
                    <a:pt x="157" y="174"/>
                  </a:lnTo>
                  <a:lnTo>
                    <a:pt x="163" y="167"/>
                  </a:lnTo>
                  <a:lnTo>
                    <a:pt x="163" y="161"/>
                  </a:lnTo>
                  <a:lnTo>
                    <a:pt x="168" y="154"/>
                  </a:lnTo>
                  <a:lnTo>
                    <a:pt x="168" y="146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9" y="126"/>
                  </a:lnTo>
                  <a:lnTo>
                    <a:pt x="179" y="119"/>
                  </a:lnTo>
                  <a:lnTo>
                    <a:pt x="185" y="115"/>
                  </a:lnTo>
                  <a:lnTo>
                    <a:pt x="185" y="110"/>
                  </a:lnTo>
                  <a:lnTo>
                    <a:pt x="190" y="102"/>
                  </a:lnTo>
                  <a:lnTo>
                    <a:pt x="190" y="99"/>
                  </a:lnTo>
                  <a:lnTo>
                    <a:pt x="196" y="91"/>
                  </a:lnTo>
                  <a:lnTo>
                    <a:pt x="196" y="86"/>
                  </a:lnTo>
                  <a:lnTo>
                    <a:pt x="201" y="82"/>
                  </a:lnTo>
                  <a:lnTo>
                    <a:pt x="201" y="75"/>
                  </a:lnTo>
                  <a:lnTo>
                    <a:pt x="207" y="71"/>
                  </a:lnTo>
                  <a:lnTo>
                    <a:pt x="207" y="68"/>
                  </a:lnTo>
                  <a:lnTo>
                    <a:pt x="212" y="62"/>
                  </a:lnTo>
                  <a:lnTo>
                    <a:pt x="212" y="59"/>
                  </a:lnTo>
                  <a:lnTo>
                    <a:pt x="218" y="55"/>
                  </a:lnTo>
                  <a:lnTo>
                    <a:pt x="225" y="48"/>
                  </a:lnTo>
                  <a:lnTo>
                    <a:pt x="225" y="44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6" y="35"/>
                  </a:lnTo>
                  <a:lnTo>
                    <a:pt x="236" y="31"/>
                  </a:lnTo>
                  <a:lnTo>
                    <a:pt x="241" y="27"/>
                  </a:lnTo>
                  <a:lnTo>
                    <a:pt x="241" y="24"/>
                  </a:lnTo>
                  <a:lnTo>
                    <a:pt x="247" y="20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3" y="9"/>
                  </a:lnTo>
                  <a:lnTo>
                    <a:pt x="269" y="7"/>
                  </a:lnTo>
                  <a:lnTo>
                    <a:pt x="274" y="4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4"/>
                  </a:lnTo>
                  <a:lnTo>
                    <a:pt x="315" y="7"/>
                  </a:lnTo>
                  <a:lnTo>
                    <a:pt x="320" y="9"/>
                  </a:lnTo>
                  <a:lnTo>
                    <a:pt x="326" y="13"/>
                  </a:lnTo>
                  <a:lnTo>
                    <a:pt x="331" y="16"/>
                  </a:lnTo>
                  <a:lnTo>
                    <a:pt x="337" y="20"/>
                  </a:lnTo>
                  <a:lnTo>
                    <a:pt x="342" y="24"/>
                  </a:lnTo>
                  <a:lnTo>
                    <a:pt x="342" y="27"/>
                  </a:lnTo>
                  <a:lnTo>
                    <a:pt x="348" y="31"/>
                  </a:lnTo>
                  <a:lnTo>
                    <a:pt x="348" y="35"/>
                  </a:lnTo>
                  <a:lnTo>
                    <a:pt x="353" y="37"/>
                  </a:lnTo>
                  <a:lnTo>
                    <a:pt x="353" y="40"/>
                  </a:lnTo>
                  <a:lnTo>
                    <a:pt x="359" y="44"/>
                  </a:lnTo>
                  <a:lnTo>
                    <a:pt x="359" y="48"/>
                  </a:lnTo>
                  <a:lnTo>
                    <a:pt x="364" y="55"/>
                  </a:lnTo>
                  <a:lnTo>
                    <a:pt x="370" y="59"/>
                  </a:lnTo>
                  <a:lnTo>
                    <a:pt x="370" y="62"/>
                  </a:lnTo>
                  <a:lnTo>
                    <a:pt x="375" y="68"/>
                  </a:lnTo>
                  <a:lnTo>
                    <a:pt x="375" y="71"/>
                  </a:lnTo>
                  <a:lnTo>
                    <a:pt x="381" y="75"/>
                  </a:lnTo>
                  <a:lnTo>
                    <a:pt x="381" y="82"/>
                  </a:lnTo>
                  <a:lnTo>
                    <a:pt x="386" y="86"/>
                  </a:lnTo>
                  <a:lnTo>
                    <a:pt x="386" y="91"/>
                  </a:lnTo>
                  <a:lnTo>
                    <a:pt x="392" y="99"/>
                  </a:lnTo>
                  <a:lnTo>
                    <a:pt x="392" y="102"/>
                  </a:lnTo>
                  <a:lnTo>
                    <a:pt x="397" y="110"/>
                  </a:lnTo>
                  <a:lnTo>
                    <a:pt x="397" y="115"/>
                  </a:lnTo>
                  <a:lnTo>
                    <a:pt x="404" y="119"/>
                  </a:lnTo>
                  <a:lnTo>
                    <a:pt x="404" y="126"/>
                  </a:lnTo>
                  <a:lnTo>
                    <a:pt x="410" y="134"/>
                  </a:lnTo>
                  <a:lnTo>
                    <a:pt x="410" y="141"/>
                  </a:lnTo>
                  <a:lnTo>
                    <a:pt x="415" y="146"/>
                  </a:lnTo>
                  <a:lnTo>
                    <a:pt x="415" y="154"/>
                  </a:lnTo>
                  <a:lnTo>
                    <a:pt x="421" y="161"/>
                  </a:lnTo>
                  <a:lnTo>
                    <a:pt x="421" y="167"/>
                  </a:lnTo>
                  <a:lnTo>
                    <a:pt x="426" y="174"/>
                  </a:lnTo>
                  <a:lnTo>
                    <a:pt x="426" y="181"/>
                  </a:lnTo>
                  <a:lnTo>
                    <a:pt x="432" y="192"/>
                  </a:lnTo>
                  <a:lnTo>
                    <a:pt x="432" y="198"/>
                  </a:lnTo>
                  <a:lnTo>
                    <a:pt x="437" y="205"/>
                  </a:lnTo>
                  <a:lnTo>
                    <a:pt x="443" y="212"/>
                  </a:lnTo>
                  <a:lnTo>
                    <a:pt x="443" y="222"/>
                  </a:lnTo>
                  <a:lnTo>
                    <a:pt x="448" y="229"/>
                  </a:lnTo>
                  <a:lnTo>
                    <a:pt x="448" y="236"/>
                  </a:lnTo>
                  <a:lnTo>
                    <a:pt x="454" y="245"/>
                  </a:lnTo>
                  <a:lnTo>
                    <a:pt x="454" y="253"/>
                  </a:lnTo>
                  <a:lnTo>
                    <a:pt x="459" y="264"/>
                  </a:lnTo>
                  <a:lnTo>
                    <a:pt x="459" y="271"/>
                  </a:lnTo>
                  <a:lnTo>
                    <a:pt x="465" y="280"/>
                  </a:lnTo>
                  <a:lnTo>
                    <a:pt x="465" y="291"/>
                  </a:lnTo>
                  <a:lnTo>
                    <a:pt x="470" y="298"/>
                  </a:lnTo>
                  <a:lnTo>
                    <a:pt x="470" y="308"/>
                  </a:lnTo>
                  <a:lnTo>
                    <a:pt x="476" y="315"/>
                  </a:lnTo>
                  <a:lnTo>
                    <a:pt x="476" y="326"/>
                  </a:lnTo>
                  <a:lnTo>
                    <a:pt x="481" y="335"/>
                  </a:lnTo>
                  <a:lnTo>
                    <a:pt x="481" y="346"/>
                  </a:lnTo>
                  <a:lnTo>
                    <a:pt x="487" y="353"/>
                  </a:lnTo>
                  <a:lnTo>
                    <a:pt x="487" y="363"/>
                  </a:lnTo>
                  <a:lnTo>
                    <a:pt x="494" y="374"/>
                  </a:lnTo>
                  <a:lnTo>
                    <a:pt x="494" y="383"/>
                  </a:lnTo>
                  <a:lnTo>
                    <a:pt x="500" y="394"/>
                  </a:lnTo>
                  <a:lnTo>
                    <a:pt x="500" y="405"/>
                  </a:lnTo>
                  <a:lnTo>
                    <a:pt x="505" y="414"/>
                  </a:lnTo>
                  <a:lnTo>
                    <a:pt x="505" y="425"/>
                  </a:lnTo>
                  <a:lnTo>
                    <a:pt x="511" y="434"/>
                  </a:lnTo>
                  <a:lnTo>
                    <a:pt x="516" y="445"/>
                  </a:lnTo>
                  <a:lnTo>
                    <a:pt x="516" y="456"/>
                  </a:lnTo>
                  <a:lnTo>
                    <a:pt x="522" y="465"/>
                  </a:lnTo>
                  <a:lnTo>
                    <a:pt x="522" y="476"/>
                  </a:lnTo>
                  <a:lnTo>
                    <a:pt x="527" y="485"/>
                  </a:lnTo>
                  <a:lnTo>
                    <a:pt x="527" y="496"/>
                  </a:lnTo>
                  <a:lnTo>
                    <a:pt x="533" y="507"/>
                  </a:lnTo>
                  <a:lnTo>
                    <a:pt x="533" y="516"/>
                  </a:lnTo>
                  <a:lnTo>
                    <a:pt x="538" y="527"/>
                  </a:lnTo>
                  <a:lnTo>
                    <a:pt x="538" y="537"/>
                  </a:lnTo>
                  <a:lnTo>
                    <a:pt x="544" y="548"/>
                  </a:lnTo>
                  <a:lnTo>
                    <a:pt x="544" y="559"/>
                  </a:lnTo>
                  <a:lnTo>
                    <a:pt x="549" y="571"/>
                  </a:lnTo>
                  <a:lnTo>
                    <a:pt x="549" y="582"/>
                  </a:lnTo>
                  <a:lnTo>
                    <a:pt x="555" y="592"/>
                  </a:lnTo>
                  <a:lnTo>
                    <a:pt x="555" y="603"/>
                  </a:lnTo>
                  <a:lnTo>
                    <a:pt x="560" y="614"/>
                  </a:lnTo>
                  <a:lnTo>
                    <a:pt x="560" y="626"/>
                  </a:lnTo>
                  <a:lnTo>
                    <a:pt x="566" y="637"/>
                  </a:lnTo>
                  <a:lnTo>
                    <a:pt x="566" y="647"/>
                  </a:lnTo>
                  <a:lnTo>
                    <a:pt x="571" y="658"/>
                  </a:lnTo>
                  <a:lnTo>
                    <a:pt x="571" y="669"/>
                  </a:lnTo>
                  <a:lnTo>
                    <a:pt x="577" y="681"/>
                  </a:lnTo>
                  <a:lnTo>
                    <a:pt x="577" y="692"/>
                  </a:lnTo>
                  <a:lnTo>
                    <a:pt x="584" y="701"/>
                  </a:lnTo>
                  <a:lnTo>
                    <a:pt x="588" y="712"/>
                  </a:lnTo>
                  <a:lnTo>
                    <a:pt x="588" y="723"/>
                  </a:lnTo>
                  <a:lnTo>
                    <a:pt x="595" y="736"/>
                  </a:lnTo>
                  <a:lnTo>
                    <a:pt x="595" y="747"/>
                  </a:lnTo>
                  <a:lnTo>
                    <a:pt x="600" y="756"/>
                  </a:lnTo>
                  <a:lnTo>
                    <a:pt x="600" y="767"/>
                  </a:lnTo>
                  <a:lnTo>
                    <a:pt x="606" y="777"/>
                  </a:lnTo>
                  <a:lnTo>
                    <a:pt x="606" y="791"/>
                  </a:lnTo>
                  <a:lnTo>
                    <a:pt x="611" y="800"/>
                  </a:lnTo>
                  <a:lnTo>
                    <a:pt x="611" y="811"/>
                  </a:lnTo>
                  <a:lnTo>
                    <a:pt x="617" y="822"/>
                  </a:lnTo>
                  <a:lnTo>
                    <a:pt x="617" y="832"/>
                  </a:lnTo>
                  <a:lnTo>
                    <a:pt x="622" y="846"/>
                  </a:lnTo>
                  <a:lnTo>
                    <a:pt x="622" y="855"/>
                  </a:lnTo>
                  <a:lnTo>
                    <a:pt x="628" y="866"/>
                  </a:lnTo>
                  <a:lnTo>
                    <a:pt x="628" y="877"/>
                  </a:lnTo>
                  <a:lnTo>
                    <a:pt x="633" y="887"/>
                  </a:lnTo>
                  <a:lnTo>
                    <a:pt x="633" y="898"/>
                  </a:lnTo>
                  <a:lnTo>
                    <a:pt x="639" y="907"/>
                  </a:lnTo>
                  <a:lnTo>
                    <a:pt x="639" y="918"/>
                  </a:lnTo>
                  <a:lnTo>
                    <a:pt x="644" y="929"/>
                  </a:lnTo>
                  <a:lnTo>
                    <a:pt x="644" y="938"/>
                  </a:lnTo>
                  <a:lnTo>
                    <a:pt x="650" y="949"/>
                  </a:lnTo>
                  <a:lnTo>
                    <a:pt x="650" y="958"/>
                  </a:lnTo>
                  <a:lnTo>
                    <a:pt x="655" y="969"/>
                  </a:lnTo>
                  <a:lnTo>
                    <a:pt x="661" y="980"/>
                  </a:lnTo>
                  <a:lnTo>
                    <a:pt x="661" y="989"/>
                  </a:lnTo>
                  <a:lnTo>
                    <a:pt x="666" y="1000"/>
                  </a:lnTo>
                  <a:lnTo>
                    <a:pt x="666" y="1011"/>
                  </a:lnTo>
                  <a:lnTo>
                    <a:pt x="674" y="1020"/>
                  </a:lnTo>
                  <a:lnTo>
                    <a:pt x="674" y="1031"/>
                  </a:lnTo>
                  <a:lnTo>
                    <a:pt x="677" y="1040"/>
                  </a:lnTo>
                  <a:lnTo>
                    <a:pt x="677" y="1051"/>
                  </a:lnTo>
                  <a:lnTo>
                    <a:pt x="685" y="1059"/>
                  </a:lnTo>
                  <a:lnTo>
                    <a:pt x="685" y="1068"/>
                  </a:lnTo>
                  <a:lnTo>
                    <a:pt x="690" y="1079"/>
                  </a:lnTo>
                  <a:lnTo>
                    <a:pt x="690" y="1090"/>
                  </a:lnTo>
                  <a:lnTo>
                    <a:pt x="696" y="1095"/>
                  </a:lnTo>
                  <a:lnTo>
                    <a:pt x="696" y="1106"/>
                  </a:lnTo>
                  <a:lnTo>
                    <a:pt x="701" y="1114"/>
                  </a:lnTo>
                  <a:lnTo>
                    <a:pt x="701" y="1123"/>
                  </a:lnTo>
                  <a:lnTo>
                    <a:pt x="707" y="1134"/>
                  </a:lnTo>
                  <a:lnTo>
                    <a:pt x="707" y="1141"/>
                  </a:lnTo>
                  <a:lnTo>
                    <a:pt x="712" y="1150"/>
                  </a:lnTo>
                  <a:lnTo>
                    <a:pt x="712" y="1158"/>
                  </a:lnTo>
                  <a:lnTo>
                    <a:pt x="718" y="1169"/>
                  </a:lnTo>
                  <a:lnTo>
                    <a:pt x="718" y="1174"/>
                  </a:lnTo>
                  <a:lnTo>
                    <a:pt x="723" y="1181"/>
                  </a:lnTo>
                  <a:lnTo>
                    <a:pt x="723" y="1192"/>
                  </a:lnTo>
                  <a:lnTo>
                    <a:pt x="729" y="1198"/>
                  </a:lnTo>
                  <a:lnTo>
                    <a:pt x="734" y="1205"/>
                  </a:lnTo>
                  <a:lnTo>
                    <a:pt x="734" y="1213"/>
                  </a:lnTo>
                  <a:lnTo>
                    <a:pt x="740" y="1222"/>
                  </a:lnTo>
                  <a:lnTo>
                    <a:pt x="740" y="1229"/>
                  </a:lnTo>
                  <a:lnTo>
                    <a:pt x="745" y="1236"/>
                  </a:lnTo>
                  <a:lnTo>
                    <a:pt x="745" y="1244"/>
                  </a:lnTo>
                  <a:lnTo>
                    <a:pt x="751" y="1249"/>
                  </a:lnTo>
                  <a:lnTo>
                    <a:pt x="751" y="1257"/>
                  </a:lnTo>
                  <a:lnTo>
                    <a:pt x="756" y="1264"/>
                  </a:lnTo>
                  <a:lnTo>
                    <a:pt x="756" y="1271"/>
                  </a:lnTo>
                  <a:lnTo>
                    <a:pt x="764" y="1277"/>
                  </a:lnTo>
                  <a:lnTo>
                    <a:pt x="764" y="1284"/>
                  </a:lnTo>
                  <a:lnTo>
                    <a:pt x="767" y="1288"/>
                  </a:lnTo>
                  <a:lnTo>
                    <a:pt x="767" y="1295"/>
                  </a:lnTo>
                  <a:lnTo>
                    <a:pt x="775" y="1302"/>
                  </a:lnTo>
                  <a:lnTo>
                    <a:pt x="775" y="1304"/>
                  </a:lnTo>
                  <a:lnTo>
                    <a:pt x="780" y="1312"/>
                  </a:lnTo>
                  <a:lnTo>
                    <a:pt x="780" y="1319"/>
                  </a:lnTo>
                  <a:lnTo>
                    <a:pt x="785" y="1323"/>
                  </a:lnTo>
                  <a:lnTo>
                    <a:pt x="785" y="1330"/>
                  </a:lnTo>
                  <a:lnTo>
                    <a:pt x="791" y="1332"/>
                  </a:lnTo>
                  <a:lnTo>
                    <a:pt x="791" y="1335"/>
                  </a:lnTo>
                  <a:lnTo>
                    <a:pt x="796" y="1343"/>
                  </a:lnTo>
                  <a:lnTo>
                    <a:pt x="796" y="1346"/>
                  </a:lnTo>
                  <a:lnTo>
                    <a:pt x="802" y="1350"/>
                  </a:lnTo>
                  <a:lnTo>
                    <a:pt x="807" y="1357"/>
                  </a:lnTo>
                  <a:lnTo>
                    <a:pt x="807" y="1359"/>
                  </a:lnTo>
                  <a:lnTo>
                    <a:pt x="813" y="1363"/>
                  </a:lnTo>
                  <a:lnTo>
                    <a:pt x="813" y="1366"/>
                  </a:lnTo>
                  <a:lnTo>
                    <a:pt x="818" y="1370"/>
                  </a:lnTo>
                  <a:lnTo>
                    <a:pt x="818" y="1374"/>
                  </a:lnTo>
                  <a:lnTo>
                    <a:pt x="824" y="1377"/>
                  </a:lnTo>
                  <a:lnTo>
                    <a:pt x="824" y="1381"/>
                  </a:lnTo>
                  <a:lnTo>
                    <a:pt x="829" y="1383"/>
                  </a:lnTo>
                  <a:lnTo>
                    <a:pt x="835" y="1387"/>
                  </a:lnTo>
                  <a:lnTo>
                    <a:pt x="840" y="1390"/>
                  </a:lnTo>
                  <a:lnTo>
                    <a:pt x="846" y="1394"/>
                  </a:lnTo>
                  <a:lnTo>
                    <a:pt x="853" y="1398"/>
                  </a:lnTo>
                  <a:lnTo>
                    <a:pt x="857" y="1401"/>
                  </a:lnTo>
                  <a:lnTo>
                    <a:pt x="864" y="1405"/>
                  </a:lnTo>
                  <a:lnTo>
                    <a:pt x="870" y="1405"/>
                  </a:lnTo>
                  <a:lnTo>
                    <a:pt x="875" y="1405"/>
                  </a:lnTo>
                  <a:lnTo>
                    <a:pt x="881" y="1405"/>
                  </a:lnTo>
                  <a:lnTo>
                    <a:pt x="886" y="1405"/>
                  </a:lnTo>
                  <a:lnTo>
                    <a:pt x="892" y="1401"/>
                  </a:lnTo>
                  <a:lnTo>
                    <a:pt x="897" y="1398"/>
                  </a:lnTo>
                  <a:lnTo>
                    <a:pt x="903" y="1394"/>
                  </a:lnTo>
                  <a:lnTo>
                    <a:pt x="908" y="1390"/>
                  </a:lnTo>
                  <a:lnTo>
                    <a:pt x="914" y="1387"/>
                  </a:lnTo>
                  <a:lnTo>
                    <a:pt x="919" y="1383"/>
                  </a:lnTo>
                  <a:lnTo>
                    <a:pt x="925" y="1381"/>
                  </a:lnTo>
                  <a:lnTo>
                    <a:pt x="925" y="1377"/>
                  </a:lnTo>
                  <a:lnTo>
                    <a:pt x="930" y="1374"/>
                  </a:lnTo>
                  <a:lnTo>
                    <a:pt x="930" y="1370"/>
                  </a:lnTo>
                  <a:lnTo>
                    <a:pt x="936" y="1366"/>
                  </a:lnTo>
                  <a:lnTo>
                    <a:pt x="936" y="1363"/>
                  </a:lnTo>
                  <a:lnTo>
                    <a:pt x="943" y="1359"/>
                  </a:lnTo>
                  <a:lnTo>
                    <a:pt x="943" y="1357"/>
                  </a:lnTo>
                  <a:lnTo>
                    <a:pt x="947" y="1350"/>
                  </a:lnTo>
                  <a:lnTo>
                    <a:pt x="954" y="1346"/>
                  </a:lnTo>
                  <a:lnTo>
                    <a:pt x="954" y="1343"/>
                  </a:lnTo>
                  <a:lnTo>
                    <a:pt x="960" y="1335"/>
                  </a:lnTo>
                  <a:lnTo>
                    <a:pt x="960" y="1332"/>
                  </a:lnTo>
                  <a:lnTo>
                    <a:pt x="965" y="1330"/>
                  </a:lnTo>
                  <a:lnTo>
                    <a:pt x="965" y="1323"/>
                  </a:lnTo>
                  <a:lnTo>
                    <a:pt x="971" y="1319"/>
                  </a:lnTo>
                  <a:lnTo>
                    <a:pt x="971" y="1312"/>
                  </a:lnTo>
                  <a:lnTo>
                    <a:pt x="976" y="1304"/>
                  </a:lnTo>
                  <a:lnTo>
                    <a:pt x="976" y="1302"/>
                  </a:lnTo>
                  <a:lnTo>
                    <a:pt x="982" y="1295"/>
                  </a:lnTo>
                  <a:lnTo>
                    <a:pt x="982" y="1288"/>
                  </a:lnTo>
                  <a:lnTo>
                    <a:pt x="987" y="1284"/>
                  </a:lnTo>
                  <a:lnTo>
                    <a:pt x="987" y="1277"/>
                  </a:lnTo>
                  <a:lnTo>
                    <a:pt x="992" y="1271"/>
                  </a:lnTo>
                  <a:lnTo>
                    <a:pt x="992" y="1264"/>
                  </a:lnTo>
                  <a:lnTo>
                    <a:pt x="998" y="1257"/>
                  </a:lnTo>
                  <a:lnTo>
                    <a:pt x="998" y="1249"/>
                  </a:lnTo>
                  <a:lnTo>
                    <a:pt x="1003" y="1244"/>
                  </a:lnTo>
                  <a:lnTo>
                    <a:pt x="1003" y="1236"/>
                  </a:lnTo>
                  <a:lnTo>
                    <a:pt x="1009" y="1229"/>
                  </a:lnTo>
                  <a:lnTo>
                    <a:pt x="1009" y="1222"/>
                  </a:lnTo>
                  <a:lnTo>
                    <a:pt x="1014" y="1213"/>
                  </a:lnTo>
                  <a:lnTo>
                    <a:pt x="1014" y="1205"/>
                  </a:lnTo>
                  <a:lnTo>
                    <a:pt x="1020" y="1198"/>
                  </a:lnTo>
                  <a:lnTo>
                    <a:pt x="1025" y="1192"/>
                  </a:lnTo>
                  <a:lnTo>
                    <a:pt x="1025" y="1181"/>
                  </a:lnTo>
                  <a:lnTo>
                    <a:pt x="1033" y="1174"/>
                  </a:lnTo>
                  <a:lnTo>
                    <a:pt x="1033" y="1169"/>
                  </a:lnTo>
                  <a:lnTo>
                    <a:pt x="1036" y="1158"/>
                  </a:lnTo>
                  <a:lnTo>
                    <a:pt x="1036" y="1150"/>
                  </a:lnTo>
                  <a:lnTo>
                    <a:pt x="1044" y="1141"/>
                  </a:lnTo>
                  <a:lnTo>
                    <a:pt x="1044" y="1134"/>
                  </a:lnTo>
                  <a:lnTo>
                    <a:pt x="1049" y="1123"/>
                  </a:lnTo>
                  <a:lnTo>
                    <a:pt x="1049" y="1114"/>
                  </a:lnTo>
                  <a:lnTo>
                    <a:pt x="1055" y="1106"/>
                  </a:lnTo>
                  <a:lnTo>
                    <a:pt x="1055" y="1095"/>
                  </a:lnTo>
                  <a:lnTo>
                    <a:pt x="1060" y="1090"/>
                  </a:lnTo>
                  <a:lnTo>
                    <a:pt x="1060" y="1079"/>
                  </a:lnTo>
                  <a:lnTo>
                    <a:pt x="1066" y="1068"/>
                  </a:lnTo>
                  <a:lnTo>
                    <a:pt x="1066" y="1059"/>
                  </a:lnTo>
                  <a:lnTo>
                    <a:pt x="1071" y="1051"/>
                  </a:lnTo>
                  <a:lnTo>
                    <a:pt x="1071" y="1040"/>
                  </a:lnTo>
                  <a:lnTo>
                    <a:pt x="1077" y="1031"/>
                  </a:lnTo>
                  <a:lnTo>
                    <a:pt x="1077" y="1020"/>
                  </a:lnTo>
                  <a:lnTo>
                    <a:pt x="1082" y="1011"/>
                  </a:lnTo>
                  <a:lnTo>
                    <a:pt x="1082" y="1000"/>
                  </a:lnTo>
                  <a:lnTo>
                    <a:pt x="1088" y="989"/>
                  </a:lnTo>
                  <a:lnTo>
                    <a:pt x="1088" y="980"/>
                  </a:lnTo>
                  <a:lnTo>
                    <a:pt x="1093" y="969"/>
                  </a:lnTo>
                  <a:lnTo>
                    <a:pt x="1099" y="958"/>
                  </a:lnTo>
                  <a:lnTo>
                    <a:pt x="1099" y="949"/>
                  </a:lnTo>
                  <a:lnTo>
                    <a:pt x="1104" y="938"/>
                  </a:lnTo>
                  <a:lnTo>
                    <a:pt x="1104" y="929"/>
                  </a:lnTo>
                  <a:lnTo>
                    <a:pt x="1110" y="918"/>
                  </a:lnTo>
                  <a:lnTo>
                    <a:pt x="1110" y="907"/>
                  </a:lnTo>
                  <a:lnTo>
                    <a:pt x="1115" y="898"/>
                  </a:lnTo>
                  <a:lnTo>
                    <a:pt x="1115" y="887"/>
                  </a:lnTo>
                  <a:lnTo>
                    <a:pt x="1123" y="877"/>
                  </a:lnTo>
                  <a:lnTo>
                    <a:pt x="1123" y="866"/>
                  </a:lnTo>
                  <a:lnTo>
                    <a:pt x="1126" y="855"/>
                  </a:lnTo>
                  <a:lnTo>
                    <a:pt x="1126" y="846"/>
                  </a:lnTo>
                  <a:lnTo>
                    <a:pt x="1134" y="832"/>
                  </a:lnTo>
                  <a:lnTo>
                    <a:pt x="1134" y="822"/>
                  </a:lnTo>
                  <a:lnTo>
                    <a:pt x="1139" y="811"/>
                  </a:lnTo>
                  <a:lnTo>
                    <a:pt x="1139" y="800"/>
                  </a:lnTo>
                  <a:lnTo>
                    <a:pt x="1145" y="791"/>
                  </a:lnTo>
                  <a:lnTo>
                    <a:pt x="1145" y="777"/>
                  </a:lnTo>
                  <a:lnTo>
                    <a:pt x="1150" y="767"/>
                  </a:lnTo>
                  <a:lnTo>
                    <a:pt x="1150" y="756"/>
                  </a:lnTo>
                  <a:lnTo>
                    <a:pt x="1156" y="747"/>
                  </a:lnTo>
                  <a:lnTo>
                    <a:pt x="1156" y="736"/>
                  </a:lnTo>
                  <a:lnTo>
                    <a:pt x="1161" y="723"/>
                  </a:lnTo>
                  <a:lnTo>
                    <a:pt x="1161" y="712"/>
                  </a:lnTo>
                  <a:lnTo>
                    <a:pt x="1167" y="701"/>
                  </a:lnTo>
                  <a:lnTo>
                    <a:pt x="1172" y="692"/>
                  </a:lnTo>
                  <a:lnTo>
                    <a:pt x="1172" y="681"/>
                  </a:lnTo>
                  <a:lnTo>
                    <a:pt x="1178" y="669"/>
                  </a:lnTo>
                  <a:lnTo>
                    <a:pt x="1178" y="658"/>
                  </a:lnTo>
                  <a:lnTo>
                    <a:pt x="1183" y="647"/>
                  </a:lnTo>
                  <a:lnTo>
                    <a:pt x="1183" y="637"/>
                  </a:lnTo>
                  <a:lnTo>
                    <a:pt x="1189" y="626"/>
                  </a:lnTo>
                  <a:lnTo>
                    <a:pt x="1189" y="614"/>
                  </a:lnTo>
                  <a:lnTo>
                    <a:pt x="1194" y="603"/>
                  </a:lnTo>
                  <a:lnTo>
                    <a:pt x="1194" y="592"/>
                  </a:lnTo>
                  <a:lnTo>
                    <a:pt x="1199" y="582"/>
                  </a:lnTo>
                  <a:lnTo>
                    <a:pt x="1199" y="571"/>
                  </a:lnTo>
                  <a:lnTo>
                    <a:pt x="1205" y="559"/>
                  </a:lnTo>
                  <a:lnTo>
                    <a:pt x="1205" y="548"/>
                  </a:lnTo>
                  <a:lnTo>
                    <a:pt x="1210" y="537"/>
                  </a:lnTo>
                  <a:lnTo>
                    <a:pt x="1210" y="527"/>
                  </a:lnTo>
                  <a:lnTo>
                    <a:pt x="1216" y="516"/>
                  </a:lnTo>
                  <a:lnTo>
                    <a:pt x="1216" y="507"/>
                  </a:lnTo>
                  <a:lnTo>
                    <a:pt x="1223" y="496"/>
                  </a:lnTo>
                  <a:lnTo>
                    <a:pt x="1223" y="485"/>
                  </a:lnTo>
                  <a:lnTo>
                    <a:pt x="1229" y="476"/>
                  </a:lnTo>
                  <a:lnTo>
                    <a:pt x="1229" y="465"/>
                  </a:lnTo>
                  <a:lnTo>
                    <a:pt x="1234" y="456"/>
                  </a:lnTo>
                  <a:lnTo>
                    <a:pt x="1234" y="445"/>
                  </a:lnTo>
                  <a:lnTo>
                    <a:pt x="1240" y="434"/>
                  </a:lnTo>
                  <a:lnTo>
                    <a:pt x="1245" y="425"/>
                  </a:lnTo>
                  <a:lnTo>
                    <a:pt x="1245" y="414"/>
                  </a:lnTo>
                  <a:lnTo>
                    <a:pt x="1251" y="405"/>
                  </a:lnTo>
                  <a:lnTo>
                    <a:pt x="1251" y="394"/>
                  </a:lnTo>
                  <a:lnTo>
                    <a:pt x="1256" y="383"/>
                  </a:lnTo>
                  <a:lnTo>
                    <a:pt x="1256" y="374"/>
                  </a:lnTo>
                  <a:lnTo>
                    <a:pt x="1262" y="363"/>
                  </a:lnTo>
                  <a:lnTo>
                    <a:pt x="1262" y="353"/>
                  </a:lnTo>
                  <a:lnTo>
                    <a:pt x="1267" y="346"/>
                  </a:lnTo>
                  <a:lnTo>
                    <a:pt x="1267" y="335"/>
                  </a:lnTo>
                  <a:lnTo>
                    <a:pt x="1273" y="326"/>
                  </a:lnTo>
                  <a:lnTo>
                    <a:pt x="1273" y="315"/>
                  </a:lnTo>
                  <a:lnTo>
                    <a:pt x="1278" y="308"/>
                  </a:lnTo>
                  <a:lnTo>
                    <a:pt x="1278" y="298"/>
                  </a:lnTo>
                  <a:lnTo>
                    <a:pt x="1284" y="291"/>
                  </a:lnTo>
                  <a:lnTo>
                    <a:pt x="1284" y="280"/>
                  </a:lnTo>
                  <a:lnTo>
                    <a:pt x="1289" y="271"/>
                  </a:lnTo>
                  <a:lnTo>
                    <a:pt x="1289" y="264"/>
                  </a:lnTo>
                  <a:lnTo>
                    <a:pt x="1295" y="253"/>
                  </a:lnTo>
                  <a:lnTo>
                    <a:pt x="1295" y="245"/>
                  </a:lnTo>
                  <a:lnTo>
                    <a:pt x="1300" y="236"/>
                  </a:lnTo>
                  <a:lnTo>
                    <a:pt x="1300" y="229"/>
                  </a:lnTo>
                  <a:lnTo>
                    <a:pt x="1306" y="222"/>
                  </a:lnTo>
                  <a:lnTo>
                    <a:pt x="1306" y="212"/>
                  </a:lnTo>
                  <a:lnTo>
                    <a:pt x="1313" y="205"/>
                  </a:lnTo>
                  <a:lnTo>
                    <a:pt x="1319" y="198"/>
                  </a:lnTo>
                  <a:lnTo>
                    <a:pt x="1319" y="192"/>
                  </a:lnTo>
                  <a:lnTo>
                    <a:pt x="1324" y="181"/>
                  </a:lnTo>
                  <a:lnTo>
                    <a:pt x="1324" y="174"/>
                  </a:lnTo>
                  <a:lnTo>
                    <a:pt x="1330" y="167"/>
                  </a:lnTo>
                  <a:lnTo>
                    <a:pt x="1330" y="161"/>
                  </a:lnTo>
                  <a:lnTo>
                    <a:pt x="1335" y="154"/>
                  </a:lnTo>
                  <a:lnTo>
                    <a:pt x="1335" y="146"/>
                  </a:lnTo>
                  <a:lnTo>
                    <a:pt x="1341" y="141"/>
                  </a:lnTo>
                  <a:lnTo>
                    <a:pt x="1341" y="134"/>
                  </a:lnTo>
                  <a:lnTo>
                    <a:pt x="1346" y="126"/>
                  </a:lnTo>
                  <a:lnTo>
                    <a:pt x="1346" y="119"/>
                  </a:lnTo>
                  <a:lnTo>
                    <a:pt x="1352" y="115"/>
                  </a:lnTo>
                  <a:lnTo>
                    <a:pt x="1352" y="110"/>
                  </a:lnTo>
                  <a:lnTo>
                    <a:pt x="1357" y="102"/>
                  </a:lnTo>
                  <a:lnTo>
                    <a:pt x="1357" y="99"/>
                  </a:lnTo>
                  <a:lnTo>
                    <a:pt x="1363" y="91"/>
                  </a:lnTo>
                  <a:lnTo>
                    <a:pt x="1363" y="86"/>
                  </a:lnTo>
                  <a:lnTo>
                    <a:pt x="1368" y="82"/>
                  </a:lnTo>
                  <a:lnTo>
                    <a:pt x="1368" y="75"/>
                  </a:lnTo>
                  <a:lnTo>
                    <a:pt x="1374" y="71"/>
                  </a:lnTo>
                  <a:lnTo>
                    <a:pt x="1374" y="68"/>
                  </a:lnTo>
                  <a:lnTo>
                    <a:pt x="1379" y="62"/>
                  </a:lnTo>
                  <a:lnTo>
                    <a:pt x="1379" y="59"/>
                  </a:lnTo>
                  <a:lnTo>
                    <a:pt x="1385" y="55"/>
                  </a:lnTo>
                  <a:lnTo>
                    <a:pt x="1390" y="48"/>
                  </a:lnTo>
                  <a:lnTo>
                    <a:pt x="1390" y="44"/>
                  </a:lnTo>
                  <a:lnTo>
                    <a:pt x="1397" y="40"/>
                  </a:lnTo>
                  <a:lnTo>
                    <a:pt x="1397" y="37"/>
                  </a:lnTo>
                  <a:lnTo>
                    <a:pt x="1403" y="35"/>
                  </a:lnTo>
                  <a:lnTo>
                    <a:pt x="1403" y="31"/>
                  </a:lnTo>
                  <a:lnTo>
                    <a:pt x="1408" y="27"/>
                  </a:lnTo>
                  <a:lnTo>
                    <a:pt x="1408" y="24"/>
                  </a:lnTo>
                  <a:lnTo>
                    <a:pt x="1414" y="20"/>
                  </a:lnTo>
                  <a:lnTo>
                    <a:pt x="1419" y="16"/>
                  </a:lnTo>
                  <a:lnTo>
                    <a:pt x="1425" y="13"/>
                  </a:lnTo>
                  <a:lnTo>
                    <a:pt x="1430" y="9"/>
                  </a:lnTo>
                  <a:lnTo>
                    <a:pt x="1436" y="7"/>
                  </a:lnTo>
                  <a:lnTo>
                    <a:pt x="1441" y="4"/>
                  </a:lnTo>
                  <a:lnTo>
                    <a:pt x="1447" y="0"/>
                  </a:lnTo>
                  <a:lnTo>
                    <a:pt x="1452" y="0"/>
                  </a:lnTo>
                  <a:lnTo>
                    <a:pt x="1458" y="0"/>
                  </a:lnTo>
                  <a:lnTo>
                    <a:pt x="1463" y="0"/>
                  </a:lnTo>
                  <a:lnTo>
                    <a:pt x="1469" y="0"/>
                  </a:lnTo>
                  <a:lnTo>
                    <a:pt x="1474" y="4"/>
                  </a:lnTo>
                  <a:lnTo>
                    <a:pt x="1480" y="7"/>
                  </a:lnTo>
                  <a:lnTo>
                    <a:pt x="1487" y="9"/>
                  </a:lnTo>
                  <a:lnTo>
                    <a:pt x="1493" y="13"/>
                  </a:lnTo>
                  <a:lnTo>
                    <a:pt x="1498" y="16"/>
                  </a:lnTo>
                  <a:lnTo>
                    <a:pt x="1504" y="20"/>
                  </a:lnTo>
                  <a:lnTo>
                    <a:pt x="1509" y="24"/>
                  </a:lnTo>
                  <a:lnTo>
                    <a:pt x="1509" y="27"/>
                  </a:lnTo>
                  <a:lnTo>
                    <a:pt x="1515" y="31"/>
                  </a:lnTo>
                  <a:lnTo>
                    <a:pt x="1515" y="35"/>
                  </a:lnTo>
                  <a:lnTo>
                    <a:pt x="1520" y="37"/>
                  </a:lnTo>
                  <a:lnTo>
                    <a:pt x="1520" y="40"/>
                  </a:lnTo>
                  <a:lnTo>
                    <a:pt x="1526" y="44"/>
                  </a:lnTo>
                  <a:lnTo>
                    <a:pt x="1526" y="48"/>
                  </a:lnTo>
                  <a:lnTo>
                    <a:pt x="1531" y="55"/>
                  </a:lnTo>
                  <a:lnTo>
                    <a:pt x="1537" y="59"/>
                  </a:lnTo>
                  <a:lnTo>
                    <a:pt x="1537" y="62"/>
                  </a:lnTo>
                  <a:lnTo>
                    <a:pt x="1542" y="68"/>
                  </a:lnTo>
                  <a:lnTo>
                    <a:pt x="1542" y="71"/>
                  </a:lnTo>
                  <a:lnTo>
                    <a:pt x="1548" y="75"/>
                  </a:lnTo>
                  <a:lnTo>
                    <a:pt x="1548" y="82"/>
                  </a:lnTo>
                  <a:lnTo>
                    <a:pt x="1553" y="86"/>
                  </a:lnTo>
                  <a:lnTo>
                    <a:pt x="1553" y="91"/>
                  </a:lnTo>
                  <a:lnTo>
                    <a:pt x="1559" y="99"/>
                  </a:lnTo>
                  <a:lnTo>
                    <a:pt x="1559" y="102"/>
                  </a:lnTo>
                  <a:lnTo>
                    <a:pt x="1564" y="110"/>
                  </a:lnTo>
                  <a:lnTo>
                    <a:pt x="1564" y="115"/>
                  </a:lnTo>
                  <a:lnTo>
                    <a:pt x="1570" y="119"/>
                  </a:lnTo>
                  <a:lnTo>
                    <a:pt x="1570" y="126"/>
                  </a:lnTo>
                  <a:lnTo>
                    <a:pt x="1577" y="134"/>
                  </a:lnTo>
                  <a:lnTo>
                    <a:pt x="1577" y="141"/>
                  </a:lnTo>
                  <a:lnTo>
                    <a:pt x="1582" y="146"/>
                  </a:lnTo>
                  <a:lnTo>
                    <a:pt x="1582" y="154"/>
                  </a:lnTo>
                  <a:lnTo>
                    <a:pt x="1588" y="161"/>
                  </a:lnTo>
                  <a:lnTo>
                    <a:pt x="1588" y="167"/>
                  </a:lnTo>
                  <a:lnTo>
                    <a:pt x="1593" y="174"/>
                  </a:lnTo>
                  <a:lnTo>
                    <a:pt x="1593" y="181"/>
                  </a:lnTo>
                  <a:lnTo>
                    <a:pt x="1599" y="192"/>
                  </a:lnTo>
                  <a:lnTo>
                    <a:pt x="1599" y="198"/>
                  </a:lnTo>
                  <a:lnTo>
                    <a:pt x="1604" y="205"/>
                  </a:lnTo>
                  <a:lnTo>
                    <a:pt x="1610" y="212"/>
                  </a:lnTo>
                  <a:lnTo>
                    <a:pt x="1610" y="222"/>
                  </a:lnTo>
                  <a:lnTo>
                    <a:pt x="1615" y="229"/>
                  </a:lnTo>
                  <a:lnTo>
                    <a:pt x="1615" y="236"/>
                  </a:lnTo>
                  <a:lnTo>
                    <a:pt x="1621" y="245"/>
                  </a:lnTo>
                  <a:lnTo>
                    <a:pt x="1621" y="253"/>
                  </a:lnTo>
                  <a:lnTo>
                    <a:pt x="1626" y="264"/>
                  </a:lnTo>
                  <a:lnTo>
                    <a:pt x="1626" y="271"/>
                  </a:lnTo>
                  <a:lnTo>
                    <a:pt x="1632" y="280"/>
                  </a:lnTo>
                  <a:lnTo>
                    <a:pt x="1632" y="291"/>
                  </a:lnTo>
                  <a:lnTo>
                    <a:pt x="1637" y="298"/>
                  </a:lnTo>
                  <a:lnTo>
                    <a:pt x="1637" y="308"/>
                  </a:lnTo>
                  <a:lnTo>
                    <a:pt x="1643" y="315"/>
                  </a:lnTo>
                  <a:lnTo>
                    <a:pt x="1643" y="326"/>
                  </a:lnTo>
                  <a:lnTo>
                    <a:pt x="1648" y="335"/>
                  </a:lnTo>
                  <a:lnTo>
                    <a:pt x="1648" y="346"/>
                  </a:lnTo>
                  <a:lnTo>
                    <a:pt x="1654" y="353"/>
                  </a:lnTo>
                  <a:lnTo>
                    <a:pt x="1654" y="363"/>
                  </a:lnTo>
                  <a:lnTo>
                    <a:pt x="1659" y="374"/>
                  </a:lnTo>
                  <a:lnTo>
                    <a:pt x="1659" y="383"/>
                  </a:lnTo>
                  <a:lnTo>
                    <a:pt x="1667" y="394"/>
                  </a:lnTo>
                  <a:lnTo>
                    <a:pt x="1667" y="405"/>
                  </a:lnTo>
                  <a:lnTo>
                    <a:pt x="1670" y="414"/>
                  </a:lnTo>
                  <a:lnTo>
                    <a:pt x="1670" y="425"/>
                  </a:lnTo>
                  <a:lnTo>
                    <a:pt x="1678" y="434"/>
                  </a:lnTo>
                  <a:lnTo>
                    <a:pt x="1683" y="445"/>
                  </a:lnTo>
                  <a:lnTo>
                    <a:pt x="1683" y="456"/>
                  </a:lnTo>
                  <a:lnTo>
                    <a:pt x="1689" y="465"/>
                  </a:lnTo>
                  <a:lnTo>
                    <a:pt x="1689" y="476"/>
                  </a:lnTo>
                  <a:lnTo>
                    <a:pt x="1694" y="485"/>
                  </a:lnTo>
                  <a:lnTo>
                    <a:pt x="1694" y="496"/>
                  </a:lnTo>
                  <a:lnTo>
                    <a:pt x="1700" y="507"/>
                  </a:lnTo>
                  <a:lnTo>
                    <a:pt x="1700" y="516"/>
                  </a:lnTo>
                  <a:lnTo>
                    <a:pt x="1705" y="527"/>
                  </a:lnTo>
                  <a:lnTo>
                    <a:pt x="1705" y="537"/>
                  </a:lnTo>
                  <a:lnTo>
                    <a:pt x="1711" y="548"/>
                  </a:lnTo>
                  <a:lnTo>
                    <a:pt x="1711" y="559"/>
                  </a:lnTo>
                  <a:lnTo>
                    <a:pt x="1716" y="571"/>
                  </a:lnTo>
                  <a:lnTo>
                    <a:pt x="1716" y="582"/>
                  </a:lnTo>
                  <a:lnTo>
                    <a:pt x="1722" y="592"/>
                  </a:lnTo>
                  <a:lnTo>
                    <a:pt x="1722" y="603"/>
                  </a:lnTo>
                  <a:lnTo>
                    <a:pt x="1727" y="614"/>
                  </a:lnTo>
                  <a:lnTo>
                    <a:pt x="1727" y="626"/>
                  </a:lnTo>
                  <a:lnTo>
                    <a:pt x="1733" y="637"/>
                  </a:lnTo>
                  <a:lnTo>
                    <a:pt x="1733" y="647"/>
                  </a:lnTo>
                  <a:lnTo>
                    <a:pt x="1738" y="658"/>
                  </a:lnTo>
                  <a:lnTo>
                    <a:pt x="1738" y="669"/>
                  </a:lnTo>
                  <a:lnTo>
                    <a:pt x="1744" y="681"/>
                  </a:lnTo>
                  <a:lnTo>
                    <a:pt x="1744" y="692"/>
                  </a:lnTo>
                  <a:lnTo>
                    <a:pt x="1749" y="701"/>
                  </a:lnTo>
                  <a:lnTo>
                    <a:pt x="1756" y="712"/>
                  </a:lnTo>
                  <a:lnTo>
                    <a:pt x="1756" y="723"/>
                  </a:lnTo>
                  <a:lnTo>
                    <a:pt x="1760" y="736"/>
                  </a:lnTo>
                  <a:lnTo>
                    <a:pt x="1760" y="747"/>
                  </a:lnTo>
                  <a:lnTo>
                    <a:pt x="1767" y="756"/>
                  </a:lnTo>
                  <a:lnTo>
                    <a:pt x="1767" y="767"/>
                  </a:lnTo>
                  <a:lnTo>
                    <a:pt x="1773" y="777"/>
                  </a:lnTo>
                  <a:lnTo>
                    <a:pt x="1773" y="791"/>
                  </a:lnTo>
                  <a:lnTo>
                    <a:pt x="1778" y="800"/>
                  </a:lnTo>
                  <a:lnTo>
                    <a:pt x="1778" y="811"/>
                  </a:lnTo>
                  <a:lnTo>
                    <a:pt x="1784" y="822"/>
                  </a:lnTo>
                  <a:lnTo>
                    <a:pt x="1784" y="832"/>
                  </a:lnTo>
                  <a:lnTo>
                    <a:pt x="1789" y="846"/>
                  </a:lnTo>
                  <a:lnTo>
                    <a:pt x="1789" y="855"/>
                  </a:lnTo>
                  <a:lnTo>
                    <a:pt x="1795" y="866"/>
                  </a:lnTo>
                  <a:lnTo>
                    <a:pt x="1795" y="877"/>
                  </a:lnTo>
                  <a:lnTo>
                    <a:pt x="1800" y="887"/>
                  </a:lnTo>
                  <a:lnTo>
                    <a:pt x="1800" y="898"/>
                  </a:lnTo>
                  <a:lnTo>
                    <a:pt x="1806" y="907"/>
                  </a:lnTo>
                  <a:lnTo>
                    <a:pt x="1806" y="918"/>
                  </a:lnTo>
                  <a:lnTo>
                    <a:pt x="1811" y="929"/>
                  </a:lnTo>
                  <a:lnTo>
                    <a:pt x="1811" y="938"/>
                  </a:lnTo>
                  <a:lnTo>
                    <a:pt x="1817" y="949"/>
                  </a:lnTo>
                  <a:lnTo>
                    <a:pt x="1817" y="958"/>
                  </a:lnTo>
                  <a:lnTo>
                    <a:pt x="1822" y="969"/>
                  </a:lnTo>
                  <a:lnTo>
                    <a:pt x="1828" y="980"/>
                  </a:lnTo>
                  <a:lnTo>
                    <a:pt x="1828" y="989"/>
                  </a:lnTo>
                  <a:lnTo>
                    <a:pt x="1833" y="1000"/>
                  </a:lnTo>
                  <a:lnTo>
                    <a:pt x="1833" y="1011"/>
                  </a:lnTo>
                  <a:lnTo>
                    <a:pt x="1839" y="1020"/>
                  </a:lnTo>
                  <a:lnTo>
                    <a:pt x="1839" y="1031"/>
                  </a:lnTo>
                  <a:lnTo>
                    <a:pt x="1846" y="1040"/>
                  </a:lnTo>
                  <a:lnTo>
                    <a:pt x="1846" y="1051"/>
                  </a:lnTo>
                  <a:lnTo>
                    <a:pt x="1850" y="1059"/>
                  </a:lnTo>
                  <a:lnTo>
                    <a:pt x="1850" y="1068"/>
                  </a:lnTo>
                  <a:lnTo>
                    <a:pt x="1857" y="1079"/>
                  </a:lnTo>
                  <a:lnTo>
                    <a:pt x="1857" y="1090"/>
                  </a:lnTo>
                  <a:lnTo>
                    <a:pt x="1863" y="1095"/>
                  </a:lnTo>
                  <a:lnTo>
                    <a:pt x="1863" y="1106"/>
                  </a:lnTo>
                  <a:lnTo>
                    <a:pt x="1868" y="1114"/>
                  </a:lnTo>
                  <a:lnTo>
                    <a:pt x="1868" y="1123"/>
                  </a:lnTo>
                  <a:lnTo>
                    <a:pt x="1874" y="1134"/>
                  </a:lnTo>
                  <a:lnTo>
                    <a:pt x="1874" y="1141"/>
                  </a:lnTo>
                  <a:lnTo>
                    <a:pt x="1879" y="1150"/>
                  </a:lnTo>
                  <a:lnTo>
                    <a:pt x="1879" y="1158"/>
                  </a:lnTo>
                  <a:lnTo>
                    <a:pt x="1885" y="1169"/>
                  </a:lnTo>
                  <a:lnTo>
                    <a:pt x="1885" y="1174"/>
                  </a:lnTo>
                  <a:lnTo>
                    <a:pt x="1890" y="1181"/>
                  </a:lnTo>
                  <a:lnTo>
                    <a:pt x="1890" y="1192"/>
                  </a:lnTo>
                  <a:lnTo>
                    <a:pt x="1896" y="1198"/>
                  </a:lnTo>
                  <a:lnTo>
                    <a:pt x="1901" y="1205"/>
                  </a:lnTo>
                  <a:lnTo>
                    <a:pt x="1901" y="1213"/>
                  </a:lnTo>
                  <a:lnTo>
                    <a:pt x="1907" y="1222"/>
                  </a:lnTo>
                  <a:lnTo>
                    <a:pt x="1907" y="1229"/>
                  </a:lnTo>
                  <a:lnTo>
                    <a:pt x="1912" y="1236"/>
                  </a:lnTo>
                  <a:lnTo>
                    <a:pt x="1912" y="1244"/>
                  </a:lnTo>
                  <a:lnTo>
                    <a:pt x="1918" y="1249"/>
                  </a:lnTo>
                  <a:lnTo>
                    <a:pt x="1918" y="1257"/>
                  </a:lnTo>
                  <a:lnTo>
                    <a:pt x="1923" y="1264"/>
                  </a:lnTo>
                  <a:lnTo>
                    <a:pt x="1923" y="1271"/>
                  </a:lnTo>
                  <a:lnTo>
                    <a:pt x="1929" y="1277"/>
                  </a:lnTo>
                  <a:lnTo>
                    <a:pt x="1929" y="1284"/>
                  </a:lnTo>
                  <a:lnTo>
                    <a:pt x="1936" y="1288"/>
                  </a:lnTo>
                  <a:lnTo>
                    <a:pt x="1936" y="1295"/>
                  </a:lnTo>
                  <a:lnTo>
                    <a:pt x="1940" y="1302"/>
                  </a:lnTo>
                  <a:lnTo>
                    <a:pt x="1940" y="1304"/>
                  </a:lnTo>
                  <a:lnTo>
                    <a:pt x="1947" y="1312"/>
                  </a:lnTo>
                  <a:lnTo>
                    <a:pt x="1947" y="1319"/>
                  </a:lnTo>
                  <a:lnTo>
                    <a:pt x="1952" y="1323"/>
                  </a:lnTo>
                  <a:lnTo>
                    <a:pt x="1952" y="1330"/>
                  </a:lnTo>
                  <a:lnTo>
                    <a:pt x="1958" y="1332"/>
                  </a:lnTo>
                  <a:lnTo>
                    <a:pt x="1958" y="1335"/>
                  </a:lnTo>
                  <a:lnTo>
                    <a:pt x="1963" y="1343"/>
                  </a:lnTo>
                  <a:lnTo>
                    <a:pt x="1963" y="1346"/>
                  </a:lnTo>
                  <a:lnTo>
                    <a:pt x="1969" y="1350"/>
                  </a:lnTo>
                  <a:lnTo>
                    <a:pt x="1974" y="1357"/>
                  </a:lnTo>
                  <a:lnTo>
                    <a:pt x="1974" y="1359"/>
                  </a:lnTo>
                  <a:lnTo>
                    <a:pt x="1980" y="1363"/>
                  </a:lnTo>
                  <a:lnTo>
                    <a:pt x="1980" y="1366"/>
                  </a:lnTo>
                  <a:lnTo>
                    <a:pt x="1985" y="1370"/>
                  </a:lnTo>
                  <a:lnTo>
                    <a:pt x="1985" y="1374"/>
                  </a:lnTo>
                  <a:lnTo>
                    <a:pt x="1991" y="1377"/>
                  </a:lnTo>
                  <a:lnTo>
                    <a:pt x="1991" y="1381"/>
                  </a:lnTo>
                  <a:lnTo>
                    <a:pt x="1996" y="1383"/>
                  </a:lnTo>
                  <a:lnTo>
                    <a:pt x="2002" y="1387"/>
                  </a:lnTo>
                  <a:lnTo>
                    <a:pt x="2007" y="1390"/>
                  </a:lnTo>
                  <a:lnTo>
                    <a:pt x="2013" y="1394"/>
                  </a:lnTo>
                  <a:lnTo>
                    <a:pt x="2018" y="1398"/>
                  </a:lnTo>
                  <a:lnTo>
                    <a:pt x="2026" y="1401"/>
                  </a:lnTo>
                  <a:lnTo>
                    <a:pt x="2029" y="1405"/>
                  </a:lnTo>
                  <a:lnTo>
                    <a:pt x="2037" y="1405"/>
                  </a:lnTo>
                  <a:lnTo>
                    <a:pt x="2042" y="1405"/>
                  </a:lnTo>
                  <a:lnTo>
                    <a:pt x="2048" y="1405"/>
                  </a:lnTo>
                  <a:lnTo>
                    <a:pt x="2053" y="1405"/>
                  </a:lnTo>
                  <a:lnTo>
                    <a:pt x="2059" y="1401"/>
                  </a:lnTo>
                  <a:lnTo>
                    <a:pt x="2064" y="1398"/>
                  </a:lnTo>
                  <a:lnTo>
                    <a:pt x="2070" y="1394"/>
                  </a:lnTo>
                  <a:lnTo>
                    <a:pt x="2075" y="1390"/>
                  </a:lnTo>
                  <a:lnTo>
                    <a:pt x="2081" y="1387"/>
                  </a:lnTo>
                  <a:lnTo>
                    <a:pt x="2086" y="1383"/>
                  </a:lnTo>
                  <a:lnTo>
                    <a:pt x="2092" y="1381"/>
                  </a:lnTo>
                  <a:lnTo>
                    <a:pt x="2092" y="1377"/>
                  </a:lnTo>
                  <a:lnTo>
                    <a:pt x="2097" y="1374"/>
                  </a:lnTo>
                  <a:lnTo>
                    <a:pt x="2097" y="1370"/>
                  </a:lnTo>
                  <a:lnTo>
                    <a:pt x="2103" y="1366"/>
                  </a:lnTo>
                  <a:lnTo>
                    <a:pt x="2103" y="1363"/>
                  </a:lnTo>
                  <a:lnTo>
                    <a:pt x="2108" y="1359"/>
                  </a:lnTo>
                  <a:lnTo>
                    <a:pt x="2108" y="1357"/>
                  </a:lnTo>
                  <a:lnTo>
                    <a:pt x="2115" y="1350"/>
                  </a:lnTo>
                  <a:lnTo>
                    <a:pt x="2119" y="1346"/>
                  </a:lnTo>
                  <a:lnTo>
                    <a:pt x="2119" y="1343"/>
                  </a:lnTo>
                  <a:lnTo>
                    <a:pt x="2126" y="1335"/>
                  </a:lnTo>
                  <a:lnTo>
                    <a:pt x="2126" y="1332"/>
                  </a:lnTo>
                  <a:lnTo>
                    <a:pt x="2132" y="1330"/>
                  </a:lnTo>
                  <a:lnTo>
                    <a:pt x="2132" y="1323"/>
                  </a:lnTo>
                  <a:lnTo>
                    <a:pt x="2137" y="1319"/>
                  </a:lnTo>
                  <a:lnTo>
                    <a:pt x="2137" y="1312"/>
                  </a:lnTo>
                  <a:lnTo>
                    <a:pt x="2143" y="1304"/>
                  </a:lnTo>
                  <a:lnTo>
                    <a:pt x="2143" y="1302"/>
                  </a:lnTo>
                  <a:lnTo>
                    <a:pt x="2148" y="1295"/>
                  </a:lnTo>
                  <a:lnTo>
                    <a:pt x="2148" y="1288"/>
                  </a:lnTo>
                  <a:lnTo>
                    <a:pt x="2154" y="1284"/>
                  </a:lnTo>
                  <a:lnTo>
                    <a:pt x="2154" y="1277"/>
                  </a:lnTo>
                  <a:lnTo>
                    <a:pt x="2159" y="1271"/>
                  </a:lnTo>
                  <a:lnTo>
                    <a:pt x="2159" y="1264"/>
                  </a:lnTo>
                  <a:lnTo>
                    <a:pt x="2165" y="1257"/>
                  </a:lnTo>
                  <a:lnTo>
                    <a:pt x="2165" y="1249"/>
                  </a:lnTo>
                  <a:lnTo>
                    <a:pt x="2170" y="1244"/>
                  </a:lnTo>
                  <a:lnTo>
                    <a:pt x="2170" y="1236"/>
                  </a:lnTo>
                  <a:lnTo>
                    <a:pt x="2176" y="1229"/>
                  </a:lnTo>
                  <a:lnTo>
                    <a:pt x="2176" y="1222"/>
                  </a:lnTo>
                  <a:lnTo>
                    <a:pt x="2181" y="1213"/>
                  </a:lnTo>
                  <a:lnTo>
                    <a:pt x="2181" y="1205"/>
                  </a:lnTo>
                  <a:lnTo>
                    <a:pt x="2187" y="1198"/>
                  </a:lnTo>
                  <a:lnTo>
                    <a:pt x="2192" y="1192"/>
                  </a:lnTo>
                  <a:lnTo>
                    <a:pt x="2192" y="1181"/>
                  </a:lnTo>
                  <a:lnTo>
                    <a:pt x="2198" y="1174"/>
                  </a:lnTo>
                  <a:lnTo>
                    <a:pt x="2198" y="1169"/>
                  </a:lnTo>
                  <a:lnTo>
                    <a:pt x="2205" y="1158"/>
                  </a:lnTo>
                  <a:lnTo>
                    <a:pt x="2205" y="1150"/>
                  </a:lnTo>
                  <a:lnTo>
                    <a:pt x="2209" y="1141"/>
                  </a:lnTo>
                  <a:lnTo>
                    <a:pt x="2209" y="1134"/>
                  </a:lnTo>
                  <a:lnTo>
                    <a:pt x="2216" y="1123"/>
                  </a:lnTo>
                  <a:lnTo>
                    <a:pt x="2216" y="1114"/>
                  </a:lnTo>
                  <a:lnTo>
                    <a:pt x="2222" y="1106"/>
                  </a:lnTo>
                  <a:lnTo>
                    <a:pt x="2222" y="1095"/>
                  </a:lnTo>
                  <a:lnTo>
                    <a:pt x="2227" y="1090"/>
                  </a:lnTo>
                  <a:lnTo>
                    <a:pt x="2227" y="1079"/>
                  </a:lnTo>
                  <a:lnTo>
                    <a:pt x="2233" y="1068"/>
                  </a:lnTo>
                  <a:lnTo>
                    <a:pt x="2233" y="1059"/>
                  </a:lnTo>
                  <a:lnTo>
                    <a:pt x="2238" y="1051"/>
                  </a:lnTo>
                  <a:lnTo>
                    <a:pt x="2238" y="1040"/>
                  </a:lnTo>
                  <a:lnTo>
                    <a:pt x="2244" y="1031"/>
                  </a:lnTo>
                  <a:lnTo>
                    <a:pt x="2244" y="1020"/>
                  </a:lnTo>
                  <a:lnTo>
                    <a:pt x="2249" y="1011"/>
                  </a:lnTo>
                  <a:lnTo>
                    <a:pt x="2249" y="1000"/>
                  </a:lnTo>
                  <a:lnTo>
                    <a:pt x="2255" y="989"/>
                  </a:lnTo>
                  <a:lnTo>
                    <a:pt x="2255" y="980"/>
                  </a:lnTo>
                  <a:lnTo>
                    <a:pt x="2260" y="969"/>
                  </a:lnTo>
                  <a:lnTo>
                    <a:pt x="2266" y="958"/>
                  </a:lnTo>
                  <a:lnTo>
                    <a:pt x="2266" y="949"/>
                  </a:lnTo>
                  <a:lnTo>
                    <a:pt x="2271" y="938"/>
                  </a:lnTo>
                  <a:lnTo>
                    <a:pt x="2271" y="929"/>
                  </a:lnTo>
                  <a:lnTo>
                    <a:pt x="2277" y="918"/>
                  </a:lnTo>
                  <a:lnTo>
                    <a:pt x="2277" y="907"/>
                  </a:lnTo>
                  <a:lnTo>
                    <a:pt x="2282" y="898"/>
                  </a:lnTo>
                  <a:lnTo>
                    <a:pt x="2282" y="887"/>
                  </a:lnTo>
                  <a:lnTo>
                    <a:pt x="2288" y="877"/>
                  </a:lnTo>
                  <a:lnTo>
                    <a:pt x="2288" y="866"/>
                  </a:lnTo>
                  <a:lnTo>
                    <a:pt x="2293" y="855"/>
                  </a:lnTo>
                  <a:lnTo>
                    <a:pt x="2293" y="846"/>
                  </a:lnTo>
                  <a:lnTo>
                    <a:pt x="2299" y="832"/>
                  </a:lnTo>
                  <a:lnTo>
                    <a:pt x="2299" y="822"/>
                  </a:lnTo>
                  <a:lnTo>
                    <a:pt x="2306" y="811"/>
                  </a:lnTo>
                  <a:lnTo>
                    <a:pt x="2306" y="800"/>
                  </a:lnTo>
                  <a:lnTo>
                    <a:pt x="2311" y="791"/>
                  </a:lnTo>
                  <a:lnTo>
                    <a:pt x="2311" y="777"/>
                  </a:lnTo>
                  <a:lnTo>
                    <a:pt x="2317" y="767"/>
                  </a:lnTo>
                  <a:lnTo>
                    <a:pt x="2317" y="756"/>
                  </a:lnTo>
                  <a:lnTo>
                    <a:pt x="2322" y="747"/>
                  </a:lnTo>
                  <a:lnTo>
                    <a:pt x="2322" y="736"/>
                  </a:lnTo>
                  <a:lnTo>
                    <a:pt x="2328" y="723"/>
                  </a:lnTo>
                  <a:lnTo>
                    <a:pt x="2328" y="712"/>
                  </a:lnTo>
                  <a:lnTo>
                    <a:pt x="2333" y="701"/>
                  </a:lnTo>
                  <a:lnTo>
                    <a:pt x="2339" y="692"/>
                  </a:lnTo>
                  <a:lnTo>
                    <a:pt x="2339" y="681"/>
                  </a:lnTo>
                  <a:lnTo>
                    <a:pt x="2344" y="669"/>
                  </a:lnTo>
                  <a:lnTo>
                    <a:pt x="2344" y="658"/>
                  </a:lnTo>
                  <a:lnTo>
                    <a:pt x="2350" y="647"/>
                  </a:lnTo>
                  <a:lnTo>
                    <a:pt x="2350" y="637"/>
                  </a:lnTo>
                  <a:lnTo>
                    <a:pt x="2355" y="626"/>
                  </a:lnTo>
                  <a:lnTo>
                    <a:pt x="2355" y="614"/>
                  </a:lnTo>
                  <a:lnTo>
                    <a:pt x="2361" y="603"/>
                  </a:lnTo>
                  <a:lnTo>
                    <a:pt x="2361" y="592"/>
                  </a:lnTo>
                  <a:lnTo>
                    <a:pt x="2366" y="582"/>
                  </a:lnTo>
                  <a:lnTo>
                    <a:pt x="2366" y="571"/>
                  </a:lnTo>
                  <a:lnTo>
                    <a:pt x="2372" y="559"/>
                  </a:lnTo>
                  <a:lnTo>
                    <a:pt x="2372" y="548"/>
                  </a:lnTo>
                  <a:lnTo>
                    <a:pt x="2377" y="537"/>
                  </a:lnTo>
                  <a:lnTo>
                    <a:pt x="2377" y="527"/>
                  </a:lnTo>
                  <a:lnTo>
                    <a:pt x="2383" y="516"/>
                  </a:lnTo>
                  <a:lnTo>
                    <a:pt x="2383" y="507"/>
                  </a:lnTo>
                  <a:lnTo>
                    <a:pt x="2388" y="496"/>
                  </a:lnTo>
                  <a:lnTo>
                    <a:pt x="2388" y="485"/>
                  </a:lnTo>
                  <a:lnTo>
                    <a:pt x="2396" y="476"/>
                  </a:lnTo>
                  <a:lnTo>
                    <a:pt x="2396" y="465"/>
                  </a:lnTo>
                  <a:lnTo>
                    <a:pt x="2401" y="456"/>
                  </a:lnTo>
                  <a:lnTo>
                    <a:pt x="2401" y="445"/>
                  </a:lnTo>
                  <a:lnTo>
                    <a:pt x="2407" y="434"/>
                  </a:lnTo>
                  <a:lnTo>
                    <a:pt x="2412" y="425"/>
                  </a:lnTo>
                  <a:lnTo>
                    <a:pt x="2412" y="414"/>
                  </a:lnTo>
                  <a:lnTo>
                    <a:pt x="2418" y="405"/>
                  </a:lnTo>
                  <a:lnTo>
                    <a:pt x="2418" y="394"/>
                  </a:lnTo>
                  <a:lnTo>
                    <a:pt x="2423" y="383"/>
                  </a:lnTo>
                  <a:lnTo>
                    <a:pt x="2423" y="374"/>
                  </a:lnTo>
                  <a:lnTo>
                    <a:pt x="2429" y="363"/>
                  </a:lnTo>
                  <a:lnTo>
                    <a:pt x="2429" y="353"/>
                  </a:lnTo>
                  <a:lnTo>
                    <a:pt x="2434" y="346"/>
                  </a:lnTo>
                  <a:lnTo>
                    <a:pt x="2434" y="335"/>
                  </a:lnTo>
                  <a:lnTo>
                    <a:pt x="2440" y="326"/>
                  </a:lnTo>
                  <a:lnTo>
                    <a:pt x="2440" y="315"/>
                  </a:lnTo>
                  <a:lnTo>
                    <a:pt x="2445" y="308"/>
                  </a:lnTo>
                  <a:lnTo>
                    <a:pt x="2445" y="298"/>
                  </a:lnTo>
                  <a:lnTo>
                    <a:pt x="2451" y="291"/>
                  </a:lnTo>
                  <a:lnTo>
                    <a:pt x="2451" y="280"/>
                  </a:lnTo>
                  <a:lnTo>
                    <a:pt x="2456" y="271"/>
                  </a:lnTo>
                  <a:lnTo>
                    <a:pt x="2456" y="264"/>
                  </a:lnTo>
                  <a:lnTo>
                    <a:pt x="2462" y="253"/>
                  </a:lnTo>
                  <a:lnTo>
                    <a:pt x="2462" y="245"/>
                  </a:lnTo>
                  <a:lnTo>
                    <a:pt x="2467" y="236"/>
                  </a:lnTo>
                  <a:lnTo>
                    <a:pt x="2467" y="229"/>
                  </a:lnTo>
                  <a:lnTo>
                    <a:pt x="2473" y="222"/>
                  </a:lnTo>
                  <a:lnTo>
                    <a:pt x="2473" y="212"/>
                  </a:lnTo>
                  <a:lnTo>
                    <a:pt x="2478" y="205"/>
                  </a:lnTo>
                  <a:lnTo>
                    <a:pt x="2485" y="198"/>
                  </a:lnTo>
                  <a:lnTo>
                    <a:pt x="2485" y="192"/>
                  </a:lnTo>
                  <a:lnTo>
                    <a:pt x="2491" y="181"/>
                  </a:lnTo>
                  <a:lnTo>
                    <a:pt x="2491" y="174"/>
                  </a:lnTo>
                  <a:lnTo>
                    <a:pt x="2496" y="167"/>
                  </a:lnTo>
                  <a:lnTo>
                    <a:pt x="2496" y="161"/>
                  </a:lnTo>
                  <a:lnTo>
                    <a:pt x="2502" y="154"/>
                  </a:lnTo>
                  <a:lnTo>
                    <a:pt x="2502" y="146"/>
                  </a:lnTo>
                  <a:lnTo>
                    <a:pt x="2507" y="141"/>
                  </a:lnTo>
                  <a:lnTo>
                    <a:pt x="2507" y="134"/>
                  </a:lnTo>
                  <a:lnTo>
                    <a:pt x="2513" y="126"/>
                  </a:lnTo>
                  <a:lnTo>
                    <a:pt x="2513" y="119"/>
                  </a:lnTo>
                  <a:lnTo>
                    <a:pt x="2518" y="115"/>
                  </a:lnTo>
                  <a:lnTo>
                    <a:pt x="2518" y="110"/>
                  </a:lnTo>
                  <a:lnTo>
                    <a:pt x="2524" y="102"/>
                  </a:lnTo>
                  <a:lnTo>
                    <a:pt x="2524" y="99"/>
                  </a:lnTo>
                  <a:lnTo>
                    <a:pt x="2529" y="91"/>
                  </a:lnTo>
                  <a:lnTo>
                    <a:pt x="2529" y="86"/>
                  </a:lnTo>
                  <a:lnTo>
                    <a:pt x="2535" y="82"/>
                  </a:lnTo>
                  <a:lnTo>
                    <a:pt x="2535" y="75"/>
                  </a:lnTo>
                  <a:lnTo>
                    <a:pt x="2540" y="71"/>
                  </a:lnTo>
                  <a:lnTo>
                    <a:pt x="2540" y="68"/>
                  </a:lnTo>
                  <a:lnTo>
                    <a:pt x="2546" y="62"/>
                  </a:lnTo>
                  <a:lnTo>
                    <a:pt x="2546" y="59"/>
                  </a:lnTo>
                  <a:lnTo>
                    <a:pt x="2551" y="55"/>
                  </a:lnTo>
                  <a:lnTo>
                    <a:pt x="2557" y="48"/>
                  </a:lnTo>
                  <a:lnTo>
                    <a:pt x="2557" y="44"/>
                  </a:lnTo>
                  <a:lnTo>
                    <a:pt x="2562" y="40"/>
                  </a:lnTo>
                  <a:lnTo>
                    <a:pt x="2562" y="37"/>
                  </a:lnTo>
                  <a:lnTo>
                    <a:pt x="2568" y="35"/>
                  </a:lnTo>
                  <a:lnTo>
                    <a:pt x="2568" y="31"/>
                  </a:lnTo>
                  <a:lnTo>
                    <a:pt x="2575" y="27"/>
                  </a:lnTo>
                  <a:lnTo>
                    <a:pt x="2575" y="24"/>
                  </a:lnTo>
                  <a:lnTo>
                    <a:pt x="2581" y="20"/>
                  </a:lnTo>
                  <a:lnTo>
                    <a:pt x="2586" y="16"/>
                  </a:lnTo>
                  <a:lnTo>
                    <a:pt x="2592" y="13"/>
                  </a:lnTo>
                  <a:lnTo>
                    <a:pt x="2597" y="9"/>
                  </a:lnTo>
                  <a:lnTo>
                    <a:pt x="2603" y="7"/>
                  </a:lnTo>
                  <a:lnTo>
                    <a:pt x="2608" y="4"/>
                  </a:lnTo>
                  <a:lnTo>
                    <a:pt x="2614" y="0"/>
                  </a:lnTo>
                  <a:lnTo>
                    <a:pt x="2619" y="0"/>
                  </a:lnTo>
                  <a:lnTo>
                    <a:pt x="2625" y="0"/>
                  </a:lnTo>
                  <a:lnTo>
                    <a:pt x="2630" y="0"/>
                  </a:lnTo>
                  <a:lnTo>
                    <a:pt x="2636" y="0"/>
                  </a:lnTo>
                  <a:lnTo>
                    <a:pt x="2641" y="4"/>
                  </a:lnTo>
                  <a:lnTo>
                    <a:pt x="2647" y="7"/>
                  </a:lnTo>
                  <a:lnTo>
                    <a:pt x="2652" y="9"/>
                  </a:lnTo>
                  <a:lnTo>
                    <a:pt x="2658" y="13"/>
                  </a:lnTo>
                  <a:lnTo>
                    <a:pt x="2665" y="16"/>
                  </a:lnTo>
                  <a:lnTo>
                    <a:pt x="2670" y="20"/>
                  </a:lnTo>
                  <a:lnTo>
                    <a:pt x="2676" y="24"/>
                  </a:lnTo>
                  <a:lnTo>
                    <a:pt x="2676" y="27"/>
                  </a:lnTo>
                  <a:lnTo>
                    <a:pt x="2681" y="31"/>
                  </a:lnTo>
                  <a:lnTo>
                    <a:pt x="2681" y="35"/>
                  </a:lnTo>
                  <a:lnTo>
                    <a:pt x="2687" y="37"/>
                  </a:lnTo>
                  <a:lnTo>
                    <a:pt x="2687" y="40"/>
                  </a:lnTo>
                  <a:lnTo>
                    <a:pt x="2692" y="44"/>
                  </a:lnTo>
                  <a:lnTo>
                    <a:pt x="2692" y="48"/>
                  </a:lnTo>
                  <a:lnTo>
                    <a:pt x="2698" y="55"/>
                  </a:lnTo>
                  <a:lnTo>
                    <a:pt x="2703" y="59"/>
                  </a:lnTo>
                  <a:lnTo>
                    <a:pt x="2703" y="62"/>
                  </a:lnTo>
                  <a:lnTo>
                    <a:pt x="2709" y="68"/>
                  </a:lnTo>
                  <a:lnTo>
                    <a:pt x="2709" y="71"/>
                  </a:lnTo>
                  <a:lnTo>
                    <a:pt x="2714" y="75"/>
                  </a:lnTo>
                  <a:lnTo>
                    <a:pt x="2714" y="82"/>
                  </a:lnTo>
                  <a:lnTo>
                    <a:pt x="2720" y="86"/>
                  </a:lnTo>
                  <a:lnTo>
                    <a:pt x="2720" y="91"/>
                  </a:lnTo>
                  <a:lnTo>
                    <a:pt x="2725" y="99"/>
                  </a:lnTo>
                  <a:lnTo>
                    <a:pt x="2725" y="102"/>
                  </a:lnTo>
                  <a:lnTo>
                    <a:pt x="2731" y="110"/>
                  </a:lnTo>
                  <a:lnTo>
                    <a:pt x="2731" y="115"/>
                  </a:lnTo>
                  <a:lnTo>
                    <a:pt x="2736" y="119"/>
                  </a:lnTo>
                  <a:lnTo>
                    <a:pt x="2736" y="126"/>
                  </a:lnTo>
                  <a:lnTo>
                    <a:pt x="2742" y="134"/>
                  </a:lnTo>
                  <a:lnTo>
                    <a:pt x="2742" y="141"/>
                  </a:lnTo>
                  <a:lnTo>
                    <a:pt x="2747" y="146"/>
                  </a:lnTo>
                  <a:lnTo>
                    <a:pt x="2747" y="154"/>
                  </a:lnTo>
                  <a:lnTo>
                    <a:pt x="2753" y="161"/>
                  </a:lnTo>
                  <a:lnTo>
                    <a:pt x="2753" y="167"/>
                  </a:lnTo>
                  <a:lnTo>
                    <a:pt x="2760" y="174"/>
                  </a:lnTo>
                  <a:lnTo>
                    <a:pt x="2760" y="181"/>
                  </a:lnTo>
                  <a:lnTo>
                    <a:pt x="2766" y="192"/>
                  </a:lnTo>
                  <a:lnTo>
                    <a:pt x="2766" y="198"/>
                  </a:lnTo>
                  <a:lnTo>
                    <a:pt x="2771" y="205"/>
                  </a:lnTo>
                  <a:lnTo>
                    <a:pt x="2777" y="212"/>
                  </a:lnTo>
                  <a:lnTo>
                    <a:pt x="2777" y="222"/>
                  </a:lnTo>
                  <a:lnTo>
                    <a:pt x="2782" y="229"/>
                  </a:lnTo>
                  <a:lnTo>
                    <a:pt x="2782" y="236"/>
                  </a:lnTo>
                  <a:lnTo>
                    <a:pt x="2788" y="245"/>
                  </a:lnTo>
                  <a:lnTo>
                    <a:pt x="2788" y="253"/>
                  </a:lnTo>
                  <a:lnTo>
                    <a:pt x="2793" y="264"/>
                  </a:lnTo>
                  <a:lnTo>
                    <a:pt x="2793" y="271"/>
                  </a:lnTo>
                  <a:lnTo>
                    <a:pt x="2799" y="280"/>
                  </a:lnTo>
                  <a:lnTo>
                    <a:pt x="2799" y="291"/>
                  </a:lnTo>
                  <a:lnTo>
                    <a:pt x="2804" y="298"/>
                  </a:lnTo>
                  <a:lnTo>
                    <a:pt x="2804" y="308"/>
                  </a:lnTo>
                  <a:lnTo>
                    <a:pt x="2810" y="315"/>
                  </a:lnTo>
                  <a:lnTo>
                    <a:pt x="2810" y="326"/>
                  </a:lnTo>
                  <a:lnTo>
                    <a:pt x="2815" y="335"/>
                  </a:lnTo>
                  <a:lnTo>
                    <a:pt x="2815" y="346"/>
                  </a:lnTo>
                  <a:lnTo>
                    <a:pt x="2821" y="353"/>
                  </a:lnTo>
                  <a:lnTo>
                    <a:pt x="2821" y="363"/>
                  </a:lnTo>
                  <a:lnTo>
                    <a:pt x="2826" y="374"/>
                  </a:lnTo>
                  <a:lnTo>
                    <a:pt x="2826" y="383"/>
                  </a:lnTo>
                  <a:lnTo>
                    <a:pt x="2832" y="394"/>
                  </a:lnTo>
                  <a:lnTo>
                    <a:pt x="2832" y="405"/>
                  </a:lnTo>
                  <a:lnTo>
                    <a:pt x="2839" y="414"/>
                  </a:lnTo>
                  <a:lnTo>
                    <a:pt x="2839" y="425"/>
                  </a:lnTo>
                  <a:lnTo>
                    <a:pt x="2843" y="434"/>
                  </a:lnTo>
                  <a:lnTo>
                    <a:pt x="2850" y="445"/>
                  </a:lnTo>
                  <a:lnTo>
                    <a:pt x="2850" y="456"/>
                  </a:lnTo>
                  <a:lnTo>
                    <a:pt x="2856" y="465"/>
                  </a:lnTo>
                  <a:lnTo>
                    <a:pt x="2856" y="476"/>
                  </a:lnTo>
                  <a:lnTo>
                    <a:pt x="2861" y="485"/>
                  </a:lnTo>
                  <a:lnTo>
                    <a:pt x="2861" y="496"/>
                  </a:lnTo>
                  <a:lnTo>
                    <a:pt x="2867" y="507"/>
                  </a:lnTo>
                  <a:lnTo>
                    <a:pt x="2867" y="516"/>
                  </a:lnTo>
                  <a:lnTo>
                    <a:pt x="2872" y="527"/>
                  </a:lnTo>
                  <a:lnTo>
                    <a:pt x="2872" y="537"/>
                  </a:lnTo>
                  <a:lnTo>
                    <a:pt x="2878" y="548"/>
                  </a:lnTo>
                  <a:lnTo>
                    <a:pt x="2878" y="559"/>
                  </a:lnTo>
                  <a:lnTo>
                    <a:pt x="2883" y="571"/>
                  </a:lnTo>
                  <a:lnTo>
                    <a:pt x="2883" y="582"/>
                  </a:lnTo>
                  <a:lnTo>
                    <a:pt x="2888" y="592"/>
                  </a:lnTo>
                  <a:lnTo>
                    <a:pt x="2888" y="603"/>
                  </a:lnTo>
                  <a:lnTo>
                    <a:pt x="2894" y="614"/>
                  </a:lnTo>
                  <a:lnTo>
                    <a:pt x="2894" y="626"/>
                  </a:lnTo>
                  <a:lnTo>
                    <a:pt x="2899" y="637"/>
                  </a:lnTo>
                  <a:lnTo>
                    <a:pt x="2899" y="647"/>
                  </a:lnTo>
                  <a:lnTo>
                    <a:pt x="2905" y="658"/>
                  </a:lnTo>
                  <a:lnTo>
                    <a:pt x="2905" y="669"/>
                  </a:lnTo>
                  <a:lnTo>
                    <a:pt x="2910" y="681"/>
                  </a:lnTo>
                  <a:lnTo>
                    <a:pt x="2910" y="692"/>
                  </a:lnTo>
                  <a:lnTo>
                    <a:pt x="2916" y="70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82"/>
            <p:cNvSpPr/>
            <p:nvPr/>
          </p:nvSpPr>
          <p:spPr>
            <a:xfrm flipV="1">
              <a:off x="4668840" y="5386320"/>
              <a:ext cx="2517840" cy="827280"/>
            </a:xfrm>
            <a:custGeom>
              <a:avLst/>
              <a:gdLst>
                <a:gd name="textAreaLeft" fmla="*/ 0 w 2517840"/>
                <a:gd name="textAreaRight" fmla="*/ 2518200 w 2517840"/>
                <a:gd name="textAreaTop" fmla="*/ 360 h 827280"/>
                <a:gd name="textAreaBottom" fmla="*/ 828000 h 827280"/>
              </a:gdLst>
              <a:ahLst/>
              <a:rect l="textAreaLeft" t="textAreaTop" r="textAreaRight" b="textAreaBottom"/>
              <a:pathLst>
                <a:path w="2916" h="1405">
                  <a:moveTo>
                    <a:pt x="0" y="701"/>
                  </a:moveTo>
                  <a:lnTo>
                    <a:pt x="5" y="692"/>
                  </a:lnTo>
                  <a:lnTo>
                    <a:pt x="5" y="681"/>
                  </a:lnTo>
                  <a:lnTo>
                    <a:pt x="11" y="669"/>
                  </a:lnTo>
                  <a:lnTo>
                    <a:pt x="11" y="658"/>
                  </a:lnTo>
                  <a:lnTo>
                    <a:pt x="16" y="647"/>
                  </a:lnTo>
                  <a:lnTo>
                    <a:pt x="16" y="637"/>
                  </a:lnTo>
                  <a:lnTo>
                    <a:pt x="22" y="626"/>
                  </a:lnTo>
                  <a:lnTo>
                    <a:pt x="22" y="614"/>
                  </a:lnTo>
                  <a:lnTo>
                    <a:pt x="27" y="603"/>
                  </a:lnTo>
                  <a:lnTo>
                    <a:pt x="27" y="592"/>
                  </a:lnTo>
                  <a:lnTo>
                    <a:pt x="33" y="582"/>
                  </a:lnTo>
                  <a:lnTo>
                    <a:pt x="33" y="571"/>
                  </a:lnTo>
                  <a:lnTo>
                    <a:pt x="40" y="559"/>
                  </a:lnTo>
                  <a:lnTo>
                    <a:pt x="40" y="548"/>
                  </a:lnTo>
                  <a:lnTo>
                    <a:pt x="45" y="537"/>
                  </a:lnTo>
                  <a:lnTo>
                    <a:pt x="45" y="527"/>
                  </a:lnTo>
                  <a:lnTo>
                    <a:pt x="51" y="516"/>
                  </a:lnTo>
                  <a:lnTo>
                    <a:pt x="51" y="507"/>
                  </a:lnTo>
                  <a:lnTo>
                    <a:pt x="56" y="496"/>
                  </a:lnTo>
                  <a:lnTo>
                    <a:pt x="56" y="485"/>
                  </a:lnTo>
                  <a:lnTo>
                    <a:pt x="62" y="476"/>
                  </a:lnTo>
                  <a:lnTo>
                    <a:pt x="62" y="465"/>
                  </a:lnTo>
                  <a:lnTo>
                    <a:pt x="67" y="456"/>
                  </a:lnTo>
                  <a:lnTo>
                    <a:pt x="67" y="445"/>
                  </a:lnTo>
                  <a:lnTo>
                    <a:pt x="73" y="434"/>
                  </a:lnTo>
                  <a:lnTo>
                    <a:pt x="78" y="425"/>
                  </a:lnTo>
                  <a:lnTo>
                    <a:pt x="78" y="414"/>
                  </a:lnTo>
                  <a:lnTo>
                    <a:pt x="84" y="405"/>
                  </a:lnTo>
                  <a:lnTo>
                    <a:pt x="84" y="394"/>
                  </a:lnTo>
                  <a:lnTo>
                    <a:pt x="89" y="383"/>
                  </a:lnTo>
                  <a:lnTo>
                    <a:pt x="89" y="374"/>
                  </a:lnTo>
                  <a:lnTo>
                    <a:pt x="95" y="363"/>
                  </a:lnTo>
                  <a:lnTo>
                    <a:pt x="95" y="353"/>
                  </a:lnTo>
                  <a:lnTo>
                    <a:pt x="100" y="346"/>
                  </a:lnTo>
                  <a:lnTo>
                    <a:pt x="100" y="335"/>
                  </a:lnTo>
                  <a:lnTo>
                    <a:pt x="106" y="326"/>
                  </a:lnTo>
                  <a:lnTo>
                    <a:pt x="106" y="315"/>
                  </a:lnTo>
                  <a:lnTo>
                    <a:pt x="111" y="308"/>
                  </a:lnTo>
                  <a:lnTo>
                    <a:pt x="111" y="298"/>
                  </a:lnTo>
                  <a:lnTo>
                    <a:pt x="117" y="291"/>
                  </a:lnTo>
                  <a:lnTo>
                    <a:pt x="117" y="280"/>
                  </a:lnTo>
                  <a:lnTo>
                    <a:pt x="122" y="271"/>
                  </a:lnTo>
                  <a:lnTo>
                    <a:pt x="122" y="264"/>
                  </a:lnTo>
                  <a:lnTo>
                    <a:pt x="128" y="253"/>
                  </a:lnTo>
                  <a:lnTo>
                    <a:pt x="128" y="245"/>
                  </a:lnTo>
                  <a:lnTo>
                    <a:pt x="135" y="236"/>
                  </a:lnTo>
                  <a:lnTo>
                    <a:pt x="135" y="229"/>
                  </a:lnTo>
                  <a:lnTo>
                    <a:pt x="141" y="222"/>
                  </a:lnTo>
                  <a:lnTo>
                    <a:pt x="141" y="212"/>
                  </a:lnTo>
                  <a:lnTo>
                    <a:pt x="146" y="205"/>
                  </a:lnTo>
                  <a:lnTo>
                    <a:pt x="152" y="198"/>
                  </a:lnTo>
                  <a:lnTo>
                    <a:pt x="152" y="192"/>
                  </a:lnTo>
                  <a:lnTo>
                    <a:pt x="157" y="181"/>
                  </a:lnTo>
                  <a:lnTo>
                    <a:pt x="157" y="174"/>
                  </a:lnTo>
                  <a:lnTo>
                    <a:pt x="163" y="167"/>
                  </a:lnTo>
                  <a:lnTo>
                    <a:pt x="163" y="161"/>
                  </a:lnTo>
                  <a:lnTo>
                    <a:pt x="168" y="154"/>
                  </a:lnTo>
                  <a:lnTo>
                    <a:pt x="168" y="146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9" y="126"/>
                  </a:lnTo>
                  <a:lnTo>
                    <a:pt x="179" y="119"/>
                  </a:lnTo>
                  <a:lnTo>
                    <a:pt x="185" y="115"/>
                  </a:lnTo>
                  <a:lnTo>
                    <a:pt x="185" y="110"/>
                  </a:lnTo>
                  <a:lnTo>
                    <a:pt x="190" y="102"/>
                  </a:lnTo>
                  <a:lnTo>
                    <a:pt x="190" y="99"/>
                  </a:lnTo>
                  <a:lnTo>
                    <a:pt x="196" y="91"/>
                  </a:lnTo>
                  <a:lnTo>
                    <a:pt x="196" y="86"/>
                  </a:lnTo>
                  <a:lnTo>
                    <a:pt x="201" y="82"/>
                  </a:lnTo>
                  <a:lnTo>
                    <a:pt x="201" y="75"/>
                  </a:lnTo>
                  <a:lnTo>
                    <a:pt x="207" y="71"/>
                  </a:lnTo>
                  <a:lnTo>
                    <a:pt x="207" y="68"/>
                  </a:lnTo>
                  <a:lnTo>
                    <a:pt x="212" y="62"/>
                  </a:lnTo>
                  <a:lnTo>
                    <a:pt x="212" y="59"/>
                  </a:lnTo>
                  <a:lnTo>
                    <a:pt x="218" y="55"/>
                  </a:lnTo>
                  <a:lnTo>
                    <a:pt x="225" y="48"/>
                  </a:lnTo>
                  <a:lnTo>
                    <a:pt x="225" y="44"/>
                  </a:lnTo>
                  <a:lnTo>
                    <a:pt x="230" y="40"/>
                  </a:lnTo>
                  <a:lnTo>
                    <a:pt x="230" y="37"/>
                  </a:lnTo>
                  <a:lnTo>
                    <a:pt x="236" y="35"/>
                  </a:lnTo>
                  <a:lnTo>
                    <a:pt x="236" y="31"/>
                  </a:lnTo>
                  <a:lnTo>
                    <a:pt x="241" y="27"/>
                  </a:lnTo>
                  <a:lnTo>
                    <a:pt x="241" y="24"/>
                  </a:lnTo>
                  <a:lnTo>
                    <a:pt x="247" y="20"/>
                  </a:lnTo>
                  <a:lnTo>
                    <a:pt x="252" y="16"/>
                  </a:lnTo>
                  <a:lnTo>
                    <a:pt x="258" y="13"/>
                  </a:lnTo>
                  <a:lnTo>
                    <a:pt x="263" y="9"/>
                  </a:lnTo>
                  <a:lnTo>
                    <a:pt x="269" y="7"/>
                  </a:lnTo>
                  <a:lnTo>
                    <a:pt x="274" y="4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296" y="0"/>
                  </a:lnTo>
                  <a:lnTo>
                    <a:pt x="302" y="0"/>
                  </a:lnTo>
                  <a:lnTo>
                    <a:pt x="307" y="4"/>
                  </a:lnTo>
                  <a:lnTo>
                    <a:pt x="315" y="7"/>
                  </a:lnTo>
                  <a:lnTo>
                    <a:pt x="320" y="9"/>
                  </a:lnTo>
                  <a:lnTo>
                    <a:pt x="326" y="13"/>
                  </a:lnTo>
                  <a:lnTo>
                    <a:pt x="331" y="16"/>
                  </a:lnTo>
                  <a:lnTo>
                    <a:pt x="337" y="20"/>
                  </a:lnTo>
                  <a:lnTo>
                    <a:pt x="342" y="24"/>
                  </a:lnTo>
                  <a:lnTo>
                    <a:pt x="342" y="27"/>
                  </a:lnTo>
                  <a:lnTo>
                    <a:pt x="348" y="31"/>
                  </a:lnTo>
                  <a:lnTo>
                    <a:pt x="348" y="35"/>
                  </a:lnTo>
                  <a:lnTo>
                    <a:pt x="353" y="37"/>
                  </a:lnTo>
                  <a:lnTo>
                    <a:pt x="353" y="40"/>
                  </a:lnTo>
                  <a:lnTo>
                    <a:pt x="359" y="44"/>
                  </a:lnTo>
                  <a:lnTo>
                    <a:pt x="359" y="48"/>
                  </a:lnTo>
                  <a:lnTo>
                    <a:pt x="364" y="55"/>
                  </a:lnTo>
                  <a:lnTo>
                    <a:pt x="370" y="59"/>
                  </a:lnTo>
                  <a:lnTo>
                    <a:pt x="370" y="62"/>
                  </a:lnTo>
                  <a:lnTo>
                    <a:pt x="375" y="68"/>
                  </a:lnTo>
                  <a:lnTo>
                    <a:pt x="375" y="71"/>
                  </a:lnTo>
                  <a:lnTo>
                    <a:pt x="381" y="75"/>
                  </a:lnTo>
                  <a:lnTo>
                    <a:pt x="381" y="82"/>
                  </a:lnTo>
                  <a:lnTo>
                    <a:pt x="386" y="86"/>
                  </a:lnTo>
                  <a:lnTo>
                    <a:pt x="386" y="91"/>
                  </a:lnTo>
                  <a:lnTo>
                    <a:pt x="392" y="99"/>
                  </a:lnTo>
                  <a:lnTo>
                    <a:pt x="392" y="102"/>
                  </a:lnTo>
                  <a:lnTo>
                    <a:pt x="397" y="110"/>
                  </a:lnTo>
                  <a:lnTo>
                    <a:pt x="397" y="115"/>
                  </a:lnTo>
                  <a:lnTo>
                    <a:pt x="404" y="119"/>
                  </a:lnTo>
                  <a:lnTo>
                    <a:pt x="404" y="126"/>
                  </a:lnTo>
                  <a:lnTo>
                    <a:pt x="410" y="134"/>
                  </a:lnTo>
                  <a:lnTo>
                    <a:pt x="410" y="141"/>
                  </a:lnTo>
                  <a:lnTo>
                    <a:pt x="415" y="146"/>
                  </a:lnTo>
                  <a:lnTo>
                    <a:pt x="415" y="154"/>
                  </a:lnTo>
                  <a:lnTo>
                    <a:pt x="421" y="161"/>
                  </a:lnTo>
                  <a:lnTo>
                    <a:pt x="421" y="167"/>
                  </a:lnTo>
                  <a:lnTo>
                    <a:pt x="426" y="174"/>
                  </a:lnTo>
                  <a:lnTo>
                    <a:pt x="426" y="181"/>
                  </a:lnTo>
                  <a:lnTo>
                    <a:pt x="432" y="192"/>
                  </a:lnTo>
                  <a:lnTo>
                    <a:pt x="432" y="198"/>
                  </a:lnTo>
                  <a:lnTo>
                    <a:pt x="437" y="205"/>
                  </a:lnTo>
                  <a:lnTo>
                    <a:pt x="443" y="212"/>
                  </a:lnTo>
                  <a:lnTo>
                    <a:pt x="443" y="222"/>
                  </a:lnTo>
                  <a:lnTo>
                    <a:pt x="448" y="229"/>
                  </a:lnTo>
                  <a:lnTo>
                    <a:pt x="448" y="236"/>
                  </a:lnTo>
                  <a:lnTo>
                    <a:pt x="454" y="245"/>
                  </a:lnTo>
                  <a:lnTo>
                    <a:pt x="454" y="253"/>
                  </a:lnTo>
                  <a:lnTo>
                    <a:pt x="459" y="264"/>
                  </a:lnTo>
                  <a:lnTo>
                    <a:pt x="459" y="271"/>
                  </a:lnTo>
                  <a:lnTo>
                    <a:pt x="465" y="280"/>
                  </a:lnTo>
                  <a:lnTo>
                    <a:pt x="465" y="291"/>
                  </a:lnTo>
                  <a:lnTo>
                    <a:pt x="470" y="298"/>
                  </a:lnTo>
                  <a:lnTo>
                    <a:pt x="470" y="308"/>
                  </a:lnTo>
                  <a:lnTo>
                    <a:pt x="476" y="315"/>
                  </a:lnTo>
                  <a:lnTo>
                    <a:pt x="476" y="326"/>
                  </a:lnTo>
                  <a:lnTo>
                    <a:pt x="481" y="335"/>
                  </a:lnTo>
                  <a:lnTo>
                    <a:pt x="481" y="346"/>
                  </a:lnTo>
                  <a:lnTo>
                    <a:pt x="487" y="353"/>
                  </a:lnTo>
                  <a:lnTo>
                    <a:pt x="487" y="363"/>
                  </a:lnTo>
                  <a:lnTo>
                    <a:pt x="494" y="374"/>
                  </a:lnTo>
                  <a:lnTo>
                    <a:pt x="494" y="383"/>
                  </a:lnTo>
                  <a:lnTo>
                    <a:pt x="500" y="394"/>
                  </a:lnTo>
                  <a:lnTo>
                    <a:pt x="500" y="405"/>
                  </a:lnTo>
                  <a:lnTo>
                    <a:pt x="505" y="414"/>
                  </a:lnTo>
                  <a:lnTo>
                    <a:pt x="505" y="425"/>
                  </a:lnTo>
                  <a:lnTo>
                    <a:pt x="511" y="434"/>
                  </a:lnTo>
                  <a:lnTo>
                    <a:pt x="516" y="445"/>
                  </a:lnTo>
                  <a:lnTo>
                    <a:pt x="516" y="456"/>
                  </a:lnTo>
                  <a:lnTo>
                    <a:pt x="522" y="465"/>
                  </a:lnTo>
                  <a:lnTo>
                    <a:pt x="522" y="476"/>
                  </a:lnTo>
                  <a:lnTo>
                    <a:pt x="527" y="485"/>
                  </a:lnTo>
                  <a:lnTo>
                    <a:pt x="527" y="496"/>
                  </a:lnTo>
                  <a:lnTo>
                    <a:pt x="533" y="507"/>
                  </a:lnTo>
                  <a:lnTo>
                    <a:pt x="533" y="516"/>
                  </a:lnTo>
                  <a:lnTo>
                    <a:pt x="538" y="527"/>
                  </a:lnTo>
                  <a:lnTo>
                    <a:pt x="538" y="537"/>
                  </a:lnTo>
                  <a:lnTo>
                    <a:pt x="544" y="548"/>
                  </a:lnTo>
                  <a:lnTo>
                    <a:pt x="544" y="559"/>
                  </a:lnTo>
                  <a:lnTo>
                    <a:pt x="549" y="571"/>
                  </a:lnTo>
                  <a:lnTo>
                    <a:pt x="549" y="582"/>
                  </a:lnTo>
                  <a:lnTo>
                    <a:pt x="555" y="592"/>
                  </a:lnTo>
                  <a:lnTo>
                    <a:pt x="555" y="603"/>
                  </a:lnTo>
                  <a:lnTo>
                    <a:pt x="560" y="614"/>
                  </a:lnTo>
                  <a:lnTo>
                    <a:pt x="560" y="626"/>
                  </a:lnTo>
                  <a:lnTo>
                    <a:pt x="566" y="637"/>
                  </a:lnTo>
                  <a:lnTo>
                    <a:pt x="566" y="647"/>
                  </a:lnTo>
                  <a:lnTo>
                    <a:pt x="571" y="658"/>
                  </a:lnTo>
                  <a:lnTo>
                    <a:pt x="571" y="669"/>
                  </a:lnTo>
                  <a:lnTo>
                    <a:pt x="577" y="681"/>
                  </a:lnTo>
                  <a:lnTo>
                    <a:pt x="577" y="692"/>
                  </a:lnTo>
                  <a:lnTo>
                    <a:pt x="584" y="701"/>
                  </a:lnTo>
                  <a:lnTo>
                    <a:pt x="588" y="712"/>
                  </a:lnTo>
                  <a:lnTo>
                    <a:pt x="588" y="723"/>
                  </a:lnTo>
                  <a:lnTo>
                    <a:pt x="595" y="736"/>
                  </a:lnTo>
                  <a:lnTo>
                    <a:pt x="595" y="747"/>
                  </a:lnTo>
                  <a:lnTo>
                    <a:pt x="600" y="756"/>
                  </a:lnTo>
                  <a:lnTo>
                    <a:pt x="600" y="767"/>
                  </a:lnTo>
                  <a:lnTo>
                    <a:pt x="606" y="777"/>
                  </a:lnTo>
                  <a:lnTo>
                    <a:pt x="606" y="791"/>
                  </a:lnTo>
                  <a:lnTo>
                    <a:pt x="611" y="800"/>
                  </a:lnTo>
                  <a:lnTo>
                    <a:pt x="611" y="811"/>
                  </a:lnTo>
                  <a:lnTo>
                    <a:pt x="617" y="822"/>
                  </a:lnTo>
                  <a:lnTo>
                    <a:pt x="617" y="832"/>
                  </a:lnTo>
                  <a:lnTo>
                    <a:pt x="622" y="846"/>
                  </a:lnTo>
                  <a:lnTo>
                    <a:pt x="622" y="855"/>
                  </a:lnTo>
                  <a:lnTo>
                    <a:pt x="628" y="866"/>
                  </a:lnTo>
                  <a:lnTo>
                    <a:pt x="628" y="877"/>
                  </a:lnTo>
                  <a:lnTo>
                    <a:pt x="633" y="887"/>
                  </a:lnTo>
                  <a:lnTo>
                    <a:pt x="633" y="898"/>
                  </a:lnTo>
                  <a:lnTo>
                    <a:pt x="639" y="907"/>
                  </a:lnTo>
                  <a:lnTo>
                    <a:pt x="639" y="918"/>
                  </a:lnTo>
                  <a:lnTo>
                    <a:pt x="644" y="929"/>
                  </a:lnTo>
                  <a:lnTo>
                    <a:pt x="644" y="938"/>
                  </a:lnTo>
                  <a:lnTo>
                    <a:pt x="650" y="949"/>
                  </a:lnTo>
                  <a:lnTo>
                    <a:pt x="650" y="958"/>
                  </a:lnTo>
                  <a:lnTo>
                    <a:pt x="655" y="969"/>
                  </a:lnTo>
                  <a:lnTo>
                    <a:pt x="661" y="980"/>
                  </a:lnTo>
                  <a:lnTo>
                    <a:pt x="661" y="989"/>
                  </a:lnTo>
                  <a:lnTo>
                    <a:pt x="666" y="1000"/>
                  </a:lnTo>
                  <a:lnTo>
                    <a:pt x="666" y="1011"/>
                  </a:lnTo>
                  <a:lnTo>
                    <a:pt x="674" y="1020"/>
                  </a:lnTo>
                  <a:lnTo>
                    <a:pt x="674" y="1031"/>
                  </a:lnTo>
                  <a:lnTo>
                    <a:pt x="677" y="1040"/>
                  </a:lnTo>
                  <a:lnTo>
                    <a:pt x="677" y="1051"/>
                  </a:lnTo>
                  <a:lnTo>
                    <a:pt x="685" y="1059"/>
                  </a:lnTo>
                  <a:lnTo>
                    <a:pt x="685" y="1068"/>
                  </a:lnTo>
                  <a:lnTo>
                    <a:pt x="690" y="1079"/>
                  </a:lnTo>
                  <a:lnTo>
                    <a:pt x="690" y="1090"/>
                  </a:lnTo>
                  <a:lnTo>
                    <a:pt x="696" y="1095"/>
                  </a:lnTo>
                  <a:lnTo>
                    <a:pt x="696" y="1106"/>
                  </a:lnTo>
                  <a:lnTo>
                    <a:pt x="701" y="1114"/>
                  </a:lnTo>
                  <a:lnTo>
                    <a:pt x="701" y="1123"/>
                  </a:lnTo>
                  <a:lnTo>
                    <a:pt x="707" y="1134"/>
                  </a:lnTo>
                  <a:lnTo>
                    <a:pt x="707" y="1141"/>
                  </a:lnTo>
                  <a:lnTo>
                    <a:pt x="712" y="1150"/>
                  </a:lnTo>
                  <a:lnTo>
                    <a:pt x="712" y="1158"/>
                  </a:lnTo>
                  <a:lnTo>
                    <a:pt x="718" y="1169"/>
                  </a:lnTo>
                  <a:lnTo>
                    <a:pt x="718" y="1174"/>
                  </a:lnTo>
                  <a:lnTo>
                    <a:pt x="723" y="1181"/>
                  </a:lnTo>
                  <a:lnTo>
                    <a:pt x="723" y="1192"/>
                  </a:lnTo>
                  <a:lnTo>
                    <a:pt x="729" y="1198"/>
                  </a:lnTo>
                  <a:lnTo>
                    <a:pt x="734" y="1205"/>
                  </a:lnTo>
                  <a:lnTo>
                    <a:pt x="734" y="1213"/>
                  </a:lnTo>
                  <a:lnTo>
                    <a:pt x="740" y="1222"/>
                  </a:lnTo>
                  <a:lnTo>
                    <a:pt x="740" y="1229"/>
                  </a:lnTo>
                  <a:lnTo>
                    <a:pt x="745" y="1236"/>
                  </a:lnTo>
                  <a:lnTo>
                    <a:pt x="745" y="1244"/>
                  </a:lnTo>
                  <a:lnTo>
                    <a:pt x="751" y="1249"/>
                  </a:lnTo>
                  <a:lnTo>
                    <a:pt x="751" y="1257"/>
                  </a:lnTo>
                  <a:lnTo>
                    <a:pt x="756" y="1264"/>
                  </a:lnTo>
                  <a:lnTo>
                    <a:pt x="756" y="1271"/>
                  </a:lnTo>
                  <a:lnTo>
                    <a:pt x="764" y="1277"/>
                  </a:lnTo>
                  <a:lnTo>
                    <a:pt x="764" y="1284"/>
                  </a:lnTo>
                  <a:lnTo>
                    <a:pt x="767" y="1288"/>
                  </a:lnTo>
                  <a:lnTo>
                    <a:pt x="767" y="1295"/>
                  </a:lnTo>
                  <a:lnTo>
                    <a:pt x="775" y="1302"/>
                  </a:lnTo>
                  <a:lnTo>
                    <a:pt x="775" y="1304"/>
                  </a:lnTo>
                  <a:lnTo>
                    <a:pt x="780" y="1312"/>
                  </a:lnTo>
                  <a:lnTo>
                    <a:pt x="780" y="1319"/>
                  </a:lnTo>
                  <a:lnTo>
                    <a:pt x="785" y="1323"/>
                  </a:lnTo>
                  <a:lnTo>
                    <a:pt x="785" y="1330"/>
                  </a:lnTo>
                  <a:lnTo>
                    <a:pt x="791" y="1332"/>
                  </a:lnTo>
                  <a:lnTo>
                    <a:pt x="791" y="1335"/>
                  </a:lnTo>
                  <a:lnTo>
                    <a:pt x="796" y="1343"/>
                  </a:lnTo>
                  <a:lnTo>
                    <a:pt x="796" y="1346"/>
                  </a:lnTo>
                  <a:lnTo>
                    <a:pt x="802" y="1350"/>
                  </a:lnTo>
                  <a:lnTo>
                    <a:pt x="807" y="1357"/>
                  </a:lnTo>
                  <a:lnTo>
                    <a:pt x="807" y="1359"/>
                  </a:lnTo>
                  <a:lnTo>
                    <a:pt x="813" y="1363"/>
                  </a:lnTo>
                  <a:lnTo>
                    <a:pt x="813" y="1366"/>
                  </a:lnTo>
                  <a:lnTo>
                    <a:pt x="818" y="1370"/>
                  </a:lnTo>
                  <a:lnTo>
                    <a:pt x="818" y="1374"/>
                  </a:lnTo>
                  <a:lnTo>
                    <a:pt x="824" y="1377"/>
                  </a:lnTo>
                  <a:lnTo>
                    <a:pt x="824" y="1381"/>
                  </a:lnTo>
                  <a:lnTo>
                    <a:pt x="829" y="1383"/>
                  </a:lnTo>
                  <a:lnTo>
                    <a:pt x="835" y="1387"/>
                  </a:lnTo>
                  <a:lnTo>
                    <a:pt x="840" y="1390"/>
                  </a:lnTo>
                  <a:lnTo>
                    <a:pt x="846" y="1394"/>
                  </a:lnTo>
                  <a:lnTo>
                    <a:pt x="853" y="1398"/>
                  </a:lnTo>
                  <a:lnTo>
                    <a:pt x="857" y="1401"/>
                  </a:lnTo>
                  <a:lnTo>
                    <a:pt x="864" y="1405"/>
                  </a:lnTo>
                  <a:lnTo>
                    <a:pt x="870" y="1405"/>
                  </a:lnTo>
                  <a:lnTo>
                    <a:pt x="875" y="1405"/>
                  </a:lnTo>
                  <a:lnTo>
                    <a:pt x="881" y="1405"/>
                  </a:lnTo>
                  <a:lnTo>
                    <a:pt x="886" y="1405"/>
                  </a:lnTo>
                  <a:lnTo>
                    <a:pt x="892" y="1401"/>
                  </a:lnTo>
                  <a:lnTo>
                    <a:pt x="897" y="1398"/>
                  </a:lnTo>
                  <a:lnTo>
                    <a:pt x="903" y="1394"/>
                  </a:lnTo>
                  <a:lnTo>
                    <a:pt x="908" y="1390"/>
                  </a:lnTo>
                  <a:lnTo>
                    <a:pt x="914" y="1387"/>
                  </a:lnTo>
                  <a:lnTo>
                    <a:pt x="919" y="1383"/>
                  </a:lnTo>
                  <a:lnTo>
                    <a:pt x="925" y="1381"/>
                  </a:lnTo>
                  <a:lnTo>
                    <a:pt x="925" y="1377"/>
                  </a:lnTo>
                  <a:lnTo>
                    <a:pt x="930" y="1374"/>
                  </a:lnTo>
                  <a:lnTo>
                    <a:pt x="930" y="1370"/>
                  </a:lnTo>
                  <a:lnTo>
                    <a:pt x="936" y="1366"/>
                  </a:lnTo>
                  <a:lnTo>
                    <a:pt x="936" y="1363"/>
                  </a:lnTo>
                  <a:lnTo>
                    <a:pt x="943" y="1359"/>
                  </a:lnTo>
                  <a:lnTo>
                    <a:pt x="943" y="1357"/>
                  </a:lnTo>
                  <a:lnTo>
                    <a:pt x="947" y="1350"/>
                  </a:lnTo>
                  <a:lnTo>
                    <a:pt x="954" y="1346"/>
                  </a:lnTo>
                  <a:lnTo>
                    <a:pt x="954" y="1343"/>
                  </a:lnTo>
                  <a:lnTo>
                    <a:pt x="960" y="1335"/>
                  </a:lnTo>
                  <a:lnTo>
                    <a:pt x="960" y="1332"/>
                  </a:lnTo>
                  <a:lnTo>
                    <a:pt x="965" y="1330"/>
                  </a:lnTo>
                  <a:lnTo>
                    <a:pt x="965" y="1323"/>
                  </a:lnTo>
                  <a:lnTo>
                    <a:pt x="971" y="1319"/>
                  </a:lnTo>
                  <a:lnTo>
                    <a:pt x="971" y="1312"/>
                  </a:lnTo>
                  <a:lnTo>
                    <a:pt x="976" y="1304"/>
                  </a:lnTo>
                  <a:lnTo>
                    <a:pt x="976" y="1302"/>
                  </a:lnTo>
                  <a:lnTo>
                    <a:pt x="982" y="1295"/>
                  </a:lnTo>
                  <a:lnTo>
                    <a:pt x="982" y="1288"/>
                  </a:lnTo>
                  <a:lnTo>
                    <a:pt x="987" y="1284"/>
                  </a:lnTo>
                  <a:lnTo>
                    <a:pt x="987" y="1277"/>
                  </a:lnTo>
                  <a:lnTo>
                    <a:pt x="992" y="1271"/>
                  </a:lnTo>
                  <a:lnTo>
                    <a:pt x="992" y="1264"/>
                  </a:lnTo>
                  <a:lnTo>
                    <a:pt x="998" y="1257"/>
                  </a:lnTo>
                  <a:lnTo>
                    <a:pt x="998" y="1249"/>
                  </a:lnTo>
                  <a:lnTo>
                    <a:pt x="1003" y="1244"/>
                  </a:lnTo>
                  <a:lnTo>
                    <a:pt x="1003" y="1236"/>
                  </a:lnTo>
                  <a:lnTo>
                    <a:pt x="1009" y="1229"/>
                  </a:lnTo>
                  <a:lnTo>
                    <a:pt x="1009" y="1222"/>
                  </a:lnTo>
                  <a:lnTo>
                    <a:pt x="1014" y="1213"/>
                  </a:lnTo>
                  <a:lnTo>
                    <a:pt x="1014" y="1205"/>
                  </a:lnTo>
                  <a:lnTo>
                    <a:pt x="1020" y="1198"/>
                  </a:lnTo>
                  <a:lnTo>
                    <a:pt x="1025" y="1192"/>
                  </a:lnTo>
                  <a:lnTo>
                    <a:pt x="1025" y="1181"/>
                  </a:lnTo>
                  <a:lnTo>
                    <a:pt x="1033" y="1174"/>
                  </a:lnTo>
                  <a:lnTo>
                    <a:pt x="1033" y="1169"/>
                  </a:lnTo>
                  <a:lnTo>
                    <a:pt x="1036" y="1158"/>
                  </a:lnTo>
                  <a:lnTo>
                    <a:pt x="1036" y="1150"/>
                  </a:lnTo>
                  <a:lnTo>
                    <a:pt x="1044" y="1141"/>
                  </a:lnTo>
                  <a:lnTo>
                    <a:pt x="1044" y="1134"/>
                  </a:lnTo>
                  <a:lnTo>
                    <a:pt x="1049" y="1123"/>
                  </a:lnTo>
                  <a:lnTo>
                    <a:pt x="1049" y="1114"/>
                  </a:lnTo>
                  <a:lnTo>
                    <a:pt x="1055" y="1106"/>
                  </a:lnTo>
                  <a:lnTo>
                    <a:pt x="1055" y="1095"/>
                  </a:lnTo>
                  <a:lnTo>
                    <a:pt x="1060" y="1090"/>
                  </a:lnTo>
                  <a:lnTo>
                    <a:pt x="1060" y="1079"/>
                  </a:lnTo>
                  <a:lnTo>
                    <a:pt x="1066" y="1068"/>
                  </a:lnTo>
                  <a:lnTo>
                    <a:pt x="1066" y="1059"/>
                  </a:lnTo>
                  <a:lnTo>
                    <a:pt x="1071" y="1051"/>
                  </a:lnTo>
                  <a:lnTo>
                    <a:pt x="1071" y="1040"/>
                  </a:lnTo>
                  <a:lnTo>
                    <a:pt x="1077" y="1031"/>
                  </a:lnTo>
                  <a:lnTo>
                    <a:pt x="1077" y="1020"/>
                  </a:lnTo>
                  <a:lnTo>
                    <a:pt x="1082" y="1011"/>
                  </a:lnTo>
                  <a:lnTo>
                    <a:pt x="1082" y="1000"/>
                  </a:lnTo>
                  <a:lnTo>
                    <a:pt x="1088" y="989"/>
                  </a:lnTo>
                  <a:lnTo>
                    <a:pt x="1088" y="980"/>
                  </a:lnTo>
                  <a:lnTo>
                    <a:pt x="1093" y="969"/>
                  </a:lnTo>
                  <a:lnTo>
                    <a:pt x="1099" y="958"/>
                  </a:lnTo>
                  <a:lnTo>
                    <a:pt x="1099" y="949"/>
                  </a:lnTo>
                  <a:lnTo>
                    <a:pt x="1104" y="938"/>
                  </a:lnTo>
                  <a:lnTo>
                    <a:pt x="1104" y="929"/>
                  </a:lnTo>
                  <a:lnTo>
                    <a:pt x="1110" y="918"/>
                  </a:lnTo>
                  <a:lnTo>
                    <a:pt x="1110" y="907"/>
                  </a:lnTo>
                  <a:lnTo>
                    <a:pt x="1115" y="898"/>
                  </a:lnTo>
                  <a:lnTo>
                    <a:pt x="1115" y="887"/>
                  </a:lnTo>
                  <a:lnTo>
                    <a:pt x="1123" y="877"/>
                  </a:lnTo>
                  <a:lnTo>
                    <a:pt x="1123" y="866"/>
                  </a:lnTo>
                  <a:lnTo>
                    <a:pt x="1126" y="855"/>
                  </a:lnTo>
                  <a:lnTo>
                    <a:pt x="1126" y="846"/>
                  </a:lnTo>
                  <a:lnTo>
                    <a:pt x="1134" y="832"/>
                  </a:lnTo>
                  <a:lnTo>
                    <a:pt x="1134" y="822"/>
                  </a:lnTo>
                  <a:lnTo>
                    <a:pt x="1139" y="811"/>
                  </a:lnTo>
                  <a:lnTo>
                    <a:pt x="1139" y="800"/>
                  </a:lnTo>
                  <a:lnTo>
                    <a:pt x="1145" y="791"/>
                  </a:lnTo>
                  <a:lnTo>
                    <a:pt x="1145" y="777"/>
                  </a:lnTo>
                  <a:lnTo>
                    <a:pt x="1150" y="767"/>
                  </a:lnTo>
                  <a:lnTo>
                    <a:pt x="1150" y="756"/>
                  </a:lnTo>
                  <a:lnTo>
                    <a:pt x="1156" y="747"/>
                  </a:lnTo>
                  <a:lnTo>
                    <a:pt x="1156" y="736"/>
                  </a:lnTo>
                  <a:lnTo>
                    <a:pt x="1161" y="723"/>
                  </a:lnTo>
                  <a:lnTo>
                    <a:pt x="1161" y="712"/>
                  </a:lnTo>
                  <a:lnTo>
                    <a:pt x="1167" y="701"/>
                  </a:lnTo>
                  <a:lnTo>
                    <a:pt x="1172" y="692"/>
                  </a:lnTo>
                  <a:lnTo>
                    <a:pt x="1172" y="681"/>
                  </a:lnTo>
                  <a:lnTo>
                    <a:pt x="1178" y="669"/>
                  </a:lnTo>
                  <a:lnTo>
                    <a:pt x="1178" y="658"/>
                  </a:lnTo>
                  <a:lnTo>
                    <a:pt x="1183" y="647"/>
                  </a:lnTo>
                  <a:lnTo>
                    <a:pt x="1183" y="637"/>
                  </a:lnTo>
                  <a:lnTo>
                    <a:pt x="1189" y="626"/>
                  </a:lnTo>
                  <a:lnTo>
                    <a:pt x="1189" y="614"/>
                  </a:lnTo>
                  <a:lnTo>
                    <a:pt x="1194" y="603"/>
                  </a:lnTo>
                  <a:lnTo>
                    <a:pt x="1194" y="592"/>
                  </a:lnTo>
                  <a:lnTo>
                    <a:pt x="1199" y="582"/>
                  </a:lnTo>
                  <a:lnTo>
                    <a:pt x="1199" y="571"/>
                  </a:lnTo>
                  <a:lnTo>
                    <a:pt x="1205" y="559"/>
                  </a:lnTo>
                  <a:lnTo>
                    <a:pt x="1205" y="548"/>
                  </a:lnTo>
                  <a:lnTo>
                    <a:pt x="1210" y="537"/>
                  </a:lnTo>
                  <a:lnTo>
                    <a:pt x="1210" y="527"/>
                  </a:lnTo>
                  <a:lnTo>
                    <a:pt x="1216" y="516"/>
                  </a:lnTo>
                  <a:lnTo>
                    <a:pt x="1216" y="507"/>
                  </a:lnTo>
                  <a:lnTo>
                    <a:pt x="1223" y="496"/>
                  </a:lnTo>
                  <a:lnTo>
                    <a:pt x="1223" y="485"/>
                  </a:lnTo>
                  <a:lnTo>
                    <a:pt x="1229" y="476"/>
                  </a:lnTo>
                  <a:lnTo>
                    <a:pt x="1229" y="465"/>
                  </a:lnTo>
                  <a:lnTo>
                    <a:pt x="1234" y="456"/>
                  </a:lnTo>
                  <a:lnTo>
                    <a:pt x="1234" y="445"/>
                  </a:lnTo>
                  <a:lnTo>
                    <a:pt x="1240" y="434"/>
                  </a:lnTo>
                  <a:lnTo>
                    <a:pt x="1245" y="425"/>
                  </a:lnTo>
                  <a:lnTo>
                    <a:pt x="1245" y="414"/>
                  </a:lnTo>
                  <a:lnTo>
                    <a:pt x="1251" y="405"/>
                  </a:lnTo>
                  <a:lnTo>
                    <a:pt x="1251" y="394"/>
                  </a:lnTo>
                  <a:lnTo>
                    <a:pt x="1256" y="383"/>
                  </a:lnTo>
                  <a:lnTo>
                    <a:pt x="1256" y="374"/>
                  </a:lnTo>
                  <a:lnTo>
                    <a:pt x="1262" y="363"/>
                  </a:lnTo>
                  <a:lnTo>
                    <a:pt x="1262" y="353"/>
                  </a:lnTo>
                  <a:lnTo>
                    <a:pt x="1267" y="346"/>
                  </a:lnTo>
                  <a:lnTo>
                    <a:pt x="1267" y="335"/>
                  </a:lnTo>
                  <a:lnTo>
                    <a:pt x="1273" y="326"/>
                  </a:lnTo>
                  <a:lnTo>
                    <a:pt x="1273" y="315"/>
                  </a:lnTo>
                  <a:lnTo>
                    <a:pt x="1278" y="308"/>
                  </a:lnTo>
                  <a:lnTo>
                    <a:pt x="1278" y="298"/>
                  </a:lnTo>
                  <a:lnTo>
                    <a:pt x="1284" y="291"/>
                  </a:lnTo>
                  <a:lnTo>
                    <a:pt x="1284" y="280"/>
                  </a:lnTo>
                  <a:lnTo>
                    <a:pt x="1289" y="271"/>
                  </a:lnTo>
                  <a:lnTo>
                    <a:pt x="1289" y="264"/>
                  </a:lnTo>
                  <a:lnTo>
                    <a:pt x="1295" y="253"/>
                  </a:lnTo>
                  <a:lnTo>
                    <a:pt x="1295" y="245"/>
                  </a:lnTo>
                  <a:lnTo>
                    <a:pt x="1300" y="236"/>
                  </a:lnTo>
                  <a:lnTo>
                    <a:pt x="1300" y="229"/>
                  </a:lnTo>
                  <a:lnTo>
                    <a:pt x="1306" y="222"/>
                  </a:lnTo>
                  <a:lnTo>
                    <a:pt x="1306" y="212"/>
                  </a:lnTo>
                  <a:lnTo>
                    <a:pt x="1313" y="205"/>
                  </a:lnTo>
                  <a:lnTo>
                    <a:pt x="1319" y="198"/>
                  </a:lnTo>
                  <a:lnTo>
                    <a:pt x="1319" y="192"/>
                  </a:lnTo>
                  <a:lnTo>
                    <a:pt x="1324" y="181"/>
                  </a:lnTo>
                  <a:lnTo>
                    <a:pt x="1324" y="174"/>
                  </a:lnTo>
                  <a:lnTo>
                    <a:pt x="1330" y="167"/>
                  </a:lnTo>
                  <a:lnTo>
                    <a:pt x="1330" y="161"/>
                  </a:lnTo>
                  <a:lnTo>
                    <a:pt x="1335" y="154"/>
                  </a:lnTo>
                  <a:lnTo>
                    <a:pt x="1335" y="146"/>
                  </a:lnTo>
                  <a:lnTo>
                    <a:pt x="1341" y="141"/>
                  </a:lnTo>
                  <a:lnTo>
                    <a:pt x="1341" y="134"/>
                  </a:lnTo>
                  <a:lnTo>
                    <a:pt x="1346" y="126"/>
                  </a:lnTo>
                  <a:lnTo>
                    <a:pt x="1346" y="119"/>
                  </a:lnTo>
                  <a:lnTo>
                    <a:pt x="1352" y="115"/>
                  </a:lnTo>
                  <a:lnTo>
                    <a:pt x="1352" y="110"/>
                  </a:lnTo>
                  <a:lnTo>
                    <a:pt x="1357" y="102"/>
                  </a:lnTo>
                  <a:lnTo>
                    <a:pt x="1357" y="99"/>
                  </a:lnTo>
                  <a:lnTo>
                    <a:pt x="1363" y="91"/>
                  </a:lnTo>
                  <a:lnTo>
                    <a:pt x="1363" y="86"/>
                  </a:lnTo>
                  <a:lnTo>
                    <a:pt x="1368" y="82"/>
                  </a:lnTo>
                  <a:lnTo>
                    <a:pt x="1368" y="75"/>
                  </a:lnTo>
                  <a:lnTo>
                    <a:pt x="1374" y="71"/>
                  </a:lnTo>
                  <a:lnTo>
                    <a:pt x="1374" y="68"/>
                  </a:lnTo>
                  <a:lnTo>
                    <a:pt x="1379" y="62"/>
                  </a:lnTo>
                  <a:lnTo>
                    <a:pt x="1379" y="59"/>
                  </a:lnTo>
                  <a:lnTo>
                    <a:pt x="1385" y="55"/>
                  </a:lnTo>
                  <a:lnTo>
                    <a:pt x="1390" y="48"/>
                  </a:lnTo>
                  <a:lnTo>
                    <a:pt x="1390" y="44"/>
                  </a:lnTo>
                  <a:lnTo>
                    <a:pt x="1397" y="40"/>
                  </a:lnTo>
                  <a:lnTo>
                    <a:pt x="1397" y="37"/>
                  </a:lnTo>
                  <a:lnTo>
                    <a:pt x="1403" y="35"/>
                  </a:lnTo>
                  <a:lnTo>
                    <a:pt x="1403" y="31"/>
                  </a:lnTo>
                  <a:lnTo>
                    <a:pt x="1408" y="27"/>
                  </a:lnTo>
                  <a:lnTo>
                    <a:pt x="1408" y="24"/>
                  </a:lnTo>
                  <a:lnTo>
                    <a:pt x="1414" y="20"/>
                  </a:lnTo>
                  <a:lnTo>
                    <a:pt x="1419" y="16"/>
                  </a:lnTo>
                  <a:lnTo>
                    <a:pt x="1425" y="13"/>
                  </a:lnTo>
                  <a:lnTo>
                    <a:pt x="1430" y="9"/>
                  </a:lnTo>
                  <a:lnTo>
                    <a:pt x="1436" y="7"/>
                  </a:lnTo>
                  <a:lnTo>
                    <a:pt x="1441" y="4"/>
                  </a:lnTo>
                  <a:lnTo>
                    <a:pt x="1447" y="0"/>
                  </a:lnTo>
                  <a:lnTo>
                    <a:pt x="1452" y="0"/>
                  </a:lnTo>
                  <a:lnTo>
                    <a:pt x="1458" y="0"/>
                  </a:lnTo>
                  <a:lnTo>
                    <a:pt x="1463" y="0"/>
                  </a:lnTo>
                  <a:lnTo>
                    <a:pt x="1469" y="0"/>
                  </a:lnTo>
                  <a:lnTo>
                    <a:pt x="1474" y="4"/>
                  </a:lnTo>
                  <a:lnTo>
                    <a:pt x="1480" y="7"/>
                  </a:lnTo>
                  <a:lnTo>
                    <a:pt x="1487" y="9"/>
                  </a:lnTo>
                  <a:lnTo>
                    <a:pt x="1493" y="13"/>
                  </a:lnTo>
                  <a:lnTo>
                    <a:pt x="1498" y="16"/>
                  </a:lnTo>
                  <a:lnTo>
                    <a:pt x="1504" y="20"/>
                  </a:lnTo>
                  <a:lnTo>
                    <a:pt x="1509" y="24"/>
                  </a:lnTo>
                  <a:lnTo>
                    <a:pt x="1509" y="27"/>
                  </a:lnTo>
                  <a:lnTo>
                    <a:pt x="1515" y="31"/>
                  </a:lnTo>
                  <a:lnTo>
                    <a:pt x="1515" y="35"/>
                  </a:lnTo>
                  <a:lnTo>
                    <a:pt x="1520" y="37"/>
                  </a:lnTo>
                  <a:lnTo>
                    <a:pt x="1520" y="40"/>
                  </a:lnTo>
                  <a:lnTo>
                    <a:pt x="1526" y="44"/>
                  </a:lnTo>
                  <a:lnTo>
                    <a:pt x="1526" y="48"/>
                  </a:lnTo>
                  <a:lnTo>
                    <a:pt x="1531" y="55"/>
                  </a:lnTo>
                  <a:lnTo>
                    <a:pt x="1537" y="59"/>
                  </a:lnTo>
                  <a:lnTo>
                    <a:pt x="1537" y="62"/>
                  </a:lnTo>
                  <a:lnTo>
                    <a:pt x="1542" y="68"/>
                  </a:lnTo>
                  <a:lnTo>
                    <a:pt x="1542" y="71"/>
                  </a:lnTo>
                  <a:lnTo>
                    <a:pt x="1548" y="75"/>
                  </a:lnTo>
                  <a:lnTo>
                    <a:pt x="1548" y="82"/>
                  </a:lnTo>
                  <a:lnTo>
                    <a:pt x="1553" y="86"/>
                  </a:lnTo>
                  <a:lnTo>
                    <a:pt x="1553" y="91"/>
                  </a:lnTo>
                  <a:lnTo>
                    <a:pt x="1559" y="99"/>
                  </a:lnTo>
                  <a:lnTo>
                    <a:pt x="1559" y="102"/>
                  </a:lnTo>
                  <a:lnTo>
                    <a:pt x="1564" y="110"/>
                  </a:lnTo>
                  <a:lnTo>
                    <a:pt x="1564" y="115"/>
                  </a:lnTo>
                  <a:lnTo>
                    <a:pt x="1570" y="119"/>
                  </a:lnTo>
                  <a:lnTo>
                    <a:pt x="1570" y="126"/>
                  </a:lnTo>
                  <a:lnTo>
                    <a:pt x="1577" y="134"/>
                  </a:lnTo>
                  <a:lnTo>
                    <a:pt x="1577" y="141"/>
                  </a:lnTo>
                  <a:lnTo>
                    <a:pt x="1582" y="146"/>
                  </a:lnTo>
                  <a:lnTo>
                    <a:pt x="1582" y="154"/>
                  </a:lnTo>
                  <a:lnTo>
                    <a:pt x="1588" y="161"/>
                  </a:lnTo>
                  <a:lnTo>
                    <a:pt x="1588" y="167"/>
                  </a:lnTo>
                  <a:lnTo>
                    <a:pt x="1593" y="174"/>
                  </a:lnTo>
                  <a:lnTo>
                    <a:pt x="1593" y="181"/>
                  </a:lnTo>
                  <a:lnTo>
                    <a:pt x="1599" y="192"/>
                  </a:lnTo>
                  <a:lnTo>
                    <a:pt x="1599" y="198"/>
                  </a:lnTo>
                  <a:lnTo>
                    <a:pt x="1604" y="205"/>
                  </a:lnTo>
                  <a:lnTo>
                    <a:pt x="1610" y="212"/>
                  </a:lnTo>
                  <a:lnTo>
                    <a:pt x="1610" y="222"/>
                  </a:lnTo>
                  <a:lnTo>
                    <a:pt x="1615" y="229"/>
                  </a:lnTo>
                  <a:lnTo>
                    <a:pt x="1615" y="236"/>
                  </a:lnTo>
                  <a:lnTo>
                    <a:pt x="1621" y="245"/>
                  </a:lnTo>
                  <a:lnTo>
                    <a:pt x="1621" y="253"/>
                  </a:lnTo>
                  <a:lnTo>
                    <a:pt x="1626" y="264"/>
                  </a:lnTo>
                  <a:lnTo>
                    <a:pt x="1626" y="271"/>
                  </a:lnTo>
                  <a:lnTo>
                    <a:pt x="1632" y="280"/>
                  </a:lnTo>
                  <a:lnTo>
                    <a:pt x="1632" y="291"/>
                  </a:lnTo>
                  <a:lnTo>
                    <a:pt x="1637" y="298"/>
                  </a:lnTo>
                  <a:lnTo>
                    <a:pt x="1637" y="308"/>
                  </a:lnTo>
                  <a:lnTo>
                    <a:pt x="1643" y="315"/>
                  </a:lnTo>
                  <a:lnTo>
                    <a:pt x="1643" y="326"/>
                  </a:lnTo>
                  <a:lnTo>
                    <a:pt x="1648" y="335"/>
                  </a:lnTo>
                  <a:lnTo>
                    <a:pt x="1648" y="346"/>
                  </a:lnTo>
                  <a:lnTo>
                    <a:pt x="1654" y="353"/>
                  </a:lnTo>
                  <a:lnTo>
                    <a:pt x="1654" y="363"/>
                  </a:lnTo>
                  <a:lnTo>
                    <a:pt x="1659" y="374"/>
                  </a:lnTo>
                  <a:lnTo>
                    <a:pt x="1659" y="383"/>
                  </a:lnTo>
                  <a:lnTo>
                    <a:pt x="1667" y="394"/>
                  </a:lnTo>
                  <a:lnTo>
                    <a:pt x="1667" y="405"/>
                  </a:lnTo>
                  <a:lnTo>
                    <a:pt x="1670" y="414"/>
                  </a:lnTo>
                  <a:lnTo>
                    <a:pt x="1670" y="425"/>
                  </a:lnTo>
                  <a:lnTo>
                    <a:pt x="1678" y="434"/>
                  </a:lnTo>
                  <a:lnTo>
                    <a:pt x="1683" y="445"/>
                  </a:lnTo>
                  <a:lnTo>
                    <a:pt x="1683" y="456"/>
                  </a:lnTo>
                  <a:lnTo>
                    <a:pt x="1689" y="465"/>
                  </a:lnTo>
                  <a:lnTo>
                    <a:pt x="1689" y="476"/>
                  </a:lnTo>
                  <a:lnTo>
                    <a:pt x="1694" y="485"/>
                  </a:lnTo>
                  <a:lnTo>
                    <a:pt x="1694" y="496"/>
                  </a:lnTo>
                  <a:lnTo>
                    <a:pt x="1700" y="507"/>
                  </a:lnTo>
                  <a:lnTo>
                    <a:pt x="1700" y="516"/>
                  </a:lnTo>
                  <a:lnTo>
                    <a:pt x="1705" y="527"/>
                  </a:lnTo>
                  <a:lnTo>
                    <a:pt x="1705" y="537"/>
                  </a:lnTo>
                  <a:lnTo>
                    <a:pt x="1711" y="548"/>
                  </a:lnTo>
                  <a:lnTo>
                    <a:pt x="1711" y="559"/>
                  </a:lnTo>
                  <a:lnTo>
                    <a:pt x="1716" y="571"/>
                  </a:lnTo>
                  <a:lnTo>
                    <a:pt x="1716" y="582"/>
                  </a:lnTo>
                  <a:lnTo>
                    <a:pt x="1722" y="592"/>
                  </a:lnTo>
                  <a:lnTo>
                    <a:pt x="1722" y="603"/>
                  </a:lnTo>
                  <a:lnTo>
                    <a:pt x="1727" y="614"/>
                  </a:lnTo>
                  <a:lnTo>
                    <a:pt x="1727" y="626"/>
                  </a:lnTo>
                  <a:lnTo>
                    <a:pt x="1733" y="637"/>
                  </a:lnTo>
                  <a:lnTo>
                    <a:pt x="1733" y="647"/>
                  </a:lnTo>
                  <a:lnTo>
                    <a:pt x="1738" y="658"/>
                  </a:lnTo>
                  <a:lnTo>
                    <a:pt x="1738" y="669"/>
                  </a:lnTo>
                  <a:lnTo>
                    <a:pt x="1744" y="681"/>
                  </a:lnTo>
                  <a:lnTo>
                    <a:pt x="1744" y="692"/>
                  </a:lnTo>
                  <a:lnTo>
                    <a:pt x="1749" y="701"/>
                  </a:lnTo>
                  <a:lnTo>
                    <a:pt x="1756" y="712"/>
                  </a:lnTo>
                  <a:lnTo>
                    <a:pt x="1756" y="723"/>
                  </a:lnTo>
                  <a:lnTo>
                    <a:pt x="1760" y="736"/>
                  </a:lnTo>
                  <a:lnTo>
                    <a:pt x="1760" y="747"/>
                  </a:lnTo>
                  <a:lnTo>
                    <a:pt x="1767" y="756"/>
                  </a:lnTo>
                  <a:lnTo>
                    <a:pt x="1767" y="767"/>
                  </a:lnTo>
                  <a:lnTo>
                    <a:pt x="1773" y="777"/>
                  </a:lnTo>
                  <a:lnTo>
                    <a:pt x="1773" y="791"/>
                  </a:lnTo>
                  <a:lnTo>
                    <a:pt x="1778" y="800"/>
                  </a:lnTo>
                  <a:lnTo>
                    <a:pt x="1778" y="811"/>
                  </a:lnTo>
                  <a:lnTo>
                    <a:pt x="1784" y="822"/>
                  </a:lnTo>
                  <a:lnTo>
                    <a:pt x="1784" y="832"/>
                  </a:lnTo>
                  <a:lnTo>
                    <a:pt x="1789" y="846"/>
                  </a:lnTo>
                  <a:lnTo>
                    <a:pt x="1789" y="855"/>
                  </a:lnTo>
                  <a:lnTo>
                    <a:pt x="1795" y="866"/>
                  </a:lnTo>
                  <a:lnTo>
                    <a:pt x="1795" y="877"/>
                  </a:lnTo>
                  <a:lnTo>
                    <a:pt x="1800" y="887"/>
                  </a:lnTo>
                  <a:lnTo>
                    <a:pt x="1800" y="898"/>
                  </a:lnTo>
                  <a:lnTo>
                    <a:pt x="1806" y="907"/>
                  </a:lnTo>
                  <a:lnTo>
                    <a:pt x="1806" y="918"/>
                  </a:lnTo>
                  <a:lnTo>
                    <a:pt x="1811" y="929"/>
                  </a:lnTo>
                  <a:lnTo>
                    <a:pt x="1811" y="938"/>
                  </a:lnTo>
                  <a:lnTo>
                    <a:pt x="1817" y="949"/>
                  </a:lnTo>
                  <a:lnTo>
                    <a:pt x="1817" y="958"/>
                  </a:lnTo>
                  <a:lnTo>
                    <a:pt x="1822" y="969"/>
                  </a:lnTo>
                  <a:lnTo>
                    <a:pt x="1828" y="980"/>
                  </a:lnTo>
                  <a:lnTo>
                    <a:pt x="1828" y="989"/>
                  </a:lnTo>
                  <a:lnTo>
                    <a:pt x="1833" y="1000"/>
                  </a:lnTo>
                  <a:lnTo>
                    <a:pt x="1833" y="1011"/>
                  </a:lnTo>
                  <a:lnTo>
                    <a:pt x="1839" y="1020"/>
                  </a:lnTo>
                  <a:lnTo>
                    <a:pt x="1839" y="1031"/>
                  </a:lnTo>
                  <a:lnTo>
                    <a:pt x="1846" y="1040"/>
                  </a:lnTo>
                  <a:lnTo>
                    <a:pt x="1846" y="1051"/>
                  </a:lnTo>
                  <a:lnTo>
                    <a:pt x="1850" y="1059"/>
                  </a:lnTo>
                  <a:lnTo>
                    <a:pt x="1850" y="1068"/>
                  </a:lnTo>
                  <a:lnTo>
                    <a:pt x="1857" y="1079"/>
                  </a:lnTo>
                  <a:lnTo>
                    <a:pt x="1857" y="1090"/>
                  </a:lnTo>
                  <a:lnTo>
                    <a:pt x="1863" y="1095"/>
                  </a:lnTo>
                  <a:lnTo>
                    <a:pt x="1863" y="1106"/>
                  </a:lnTo>
                  <a:lnTo>
                    <a:pt x="1868" y="1114"/>
                  </a:lnTo>
                  <a:lnTo>
                    <a:pt x="1868" y="1123"/>
                  </a:lnTo>
                  <a:lnTo>
                    <a:pt x="1874" y="1134"/>
                  </a:lnTo>
                  <a:lnTo>
                    <a:pt x="1874" y="1141"/>
                  </a:lnTo>
                  <a:lnTo>
                    <a:pt x="1879" y="1150"/>
                  </a:lnTo>
                  <a:lnTo>
                    <a:pt x="1879" y="1158"/>
                  </a:lnTo>
                  <a:lnTo>
                    <a:pt x="1885" y="1169"/>
                  </a:lnTo>
                  <a:lnTo>
                    <a:pt x="1885" y="1174"/>
                  </a:lnTo>
                  <a:lnTo>
                    <a:pt x="1890" y="1181"/>
                  </a:lnTo>
                  <a:lnTo>
                    <a:pt x="1890" y="1192"/>
                  </a:lnTo>
                  <a:lnTo>
                    <a:pt x="1896" y="1198"/>
                  </a:lnTo>
                  <a:lnTo>
                    <a:pt x="1901" y="1205"/>
                  </a:lnTo>
                  <a:lnTo>
                    <a:pt x="1901" y="1213"/>
                  </a:lnTo>
                  <a:lnTo>
                    <a:pt x="1907" y="1222"/>
                  </a:lnTo>
                  <a:lnTo>
                    <a:pt x="1907" y="1229"/>
                  </a:lnTo>
                  <a:lnTo>
                    <a:pt x="1912" y="1236"/>
                  </a:lnTo>
                  <a:lnTo>
                    <a:pt x="1912" y="1244"/>
                  </a:lnTo>
                  <a:lnTo>
                    <a:pt x="1918" y="1249"/>
                  </a:lnTo>
                  <a:lnTo>
                    <a:pt x="1918" y="1257"/>
                  </a:lnTo>
                  <a:lnTo>
                    <a:pt x="1923" y="1264"/>
                  </a:lnTo>
                  <a:lnTo>
                    <a:pt x="1923" y="1271"/>
                  </a:lnTo>
                  <a:lnTo>
                    <a:pt x="1929" y="1277"/>
                  </a:lnTo>
                  <a:lnTo>
                    <a:pt x="1929" y="1284"/>
                  </a:lnTo>
                  <a:lnTo>
                    <a:pt x="1936" y="1288"/>
                  </a:lnTo>
                  <a:lnTo>
                    <a:pt x="1936" y="1295"/>
                  </a:lnTo>
                  <a:lnTo>
                    <a:pt x="1940" y="1302"/>
                  </a:lnTo>
                  <a:lnTo>
                    <a:pt x="1940" y="1304"/>
                  </a:lnTo>
                  <a:lnTo>
                    <a:pt x="1947" y="1312"/>
                  </a:lnTo>
                  <a:lnTo>
                    <a:pt x="1947" y="1319"/>
                  </a:lnTo>
                  <a:lnTo>
                    <a:pt x="1952" y="1323"/>
                  </a:lnTo>
                  <a:lnTo>
                    <a:pt x="1952" y="1330"/>
                  </a:lnTo>
                  <a:lnTo>
                    <a:pt x="1958" y="1332"/>
                  </a:lnTo>
                  <a:lnTo>
                    <a:pt x="1958" y="1335"/>
                  </a:lnTo>
                  <a:lnTo>
                    <a:pt x="1963" y="1343"/>
                  </a:lnTo>
                  <a:lnTo>
                    <a:pt x="1963" y="1346"/>
                  </a:lnTo>
                  <a:lnTo>
                    <a:pt x="1969" y="1350"/>
                  </a:lnTo>
                  <a:lnTo>
                    <a:pt x="1974" y="1357"/>
                  </a:lnTo>
                  <a:lnTo>
                    <a:pt x="1974" y="1359"/>
                  </a:lnTo>
                  <a:lnTo>
                    <a:pt x="1980" y="1363"/>
                  </a:lnTo>
                  <a:lnTo>
                    <a:pt x="1980" y="1366"/>
                  </a:lnTo>
                  <a:lnTo>
                    <a:pt x="1985" y="1370"/>
                  </a:lnTo>
                  <a:lnTo>
                    <a:pt x="1985" y="1374"/>
                  </a:lnTo>
                  <a:lnTo>
                    <a:pt x="1991" y="1377"/>
                  </a:lnTo>
                  <a:lnTo>
                    <a:pt x="1991" y="1381"/>
                  </a:lnTo>
                  <a:lnTo>
                    <a:pt x="1996" y="1383"/>
                  </a:lnTo>
                  <a:lnTo>
                    <a:pt x="2002" y="1387"/>
                  </a:lnTo>
                  <a:lnTo>
                    <a:pt x="2007" y="1390"/>
                  </a:lnTo>
                  <a:lnTo>
                    <a:pt x="2013" y="1394"/>
                  </a:lnTo>
                  <a:lnTo>
                    <a:pt x="2018" y="1398"/>
                  </a:lnTo>
                  <a:lnTo>
                    <a:pt x="2026" y="1401"/>
                  </a:lnTo>
                  <a:lnTo>
                    <a:pt x="2029" y="1405"/>
                  </a:lnTo>
                  <a:lnTo>
                    <a:pt x="2037" y="1405"/>
                  </a:lnTo>
                  <a:lnTo>
                    <a:pt x="2042" y="1405"/>
                  </a:lnTo>
                  <a:lnTo>
                    <a:pt x="2048" y="1405"/>
                  </a:lnTo>
                  <a:lnTo>
                    <a:pt x="2053" y="1405"/>
                  </a:lnTo>
                  <a:lnTo>
                    <a:pt x="2059" y="1401"/>
                  </a:lnTo>
                  <a:lnTo>
                    <a:pt x="2064" y="1398"/>
                  </a:lnTo>
                  <a:lnTo>
                    <a:pt x="2070" y="1394"/>
                  </a:lnTo>
                  <a:lnTo>
                    <a:pt x="2075" y="1390"/>
                  </a:lnTo>
                  <a:lnTo>
                    <a:pt x="2081" y="1387"/>
                  </a:lnTo>
                  <a:lnTo>
                    <a:pt x="2086" y="1383"/>
                  </a:lnTo>
                  <a:lnTo>
                    <a:pt x="2092" y="1381"/>
                  </a:lnTo>
                  <a:lnTo>
                    <a:pt x="2092" y="1377"/>
                  </a:lnTo>
                  <a:lnTo>
                    <a:pt x="2097" y="1374"/>
                  </a:lnTo>
                  <a:lnTo>
                    <a:pt x="2097" y="1370"/>
                  </a:lnTo>
                  <a:lnTo>
                    <a:pt x="2103" y="1366"/>
                  </a:lnTo>
                  <a:lnTo>
                    <a:pt x="2103" y="1363"/>
                  </a:lnTo>
                  <a:lnTo>
                    <a:pt x="2108" y="1359"/>
                  </a:lnTo>
                  <a:lnTo>
                    <a:pt x="2108" y="1357"/>
                  </a:lnTo>
                  <a:lnTo>
                    <a:pt x="2115" y="1350"/>
                  </a:lnTo>
                  <a:lnTo>
                    <a:pt x="2119" y="1346"/>
                  </a:lnTo>
                  <a:lnTo>
                    <a:pt x="2119" y="1343"/>
                  </a:lnTo>
                  <a:lnTo>
                    <a:pt x="2126" y="1335"/>
                  </a:lnTo>
                  <a:lnTo>
                    <a:pt x="2126" y="1332"/>
                  </a:lnTo>
                  <a:lnTo>
                    <a:pt x="2132" y="1330"/>
                  </a:lnTo>
                  <a:lnTo>
                    <a:pt x="2132" y="1323"/>
                  </a:lnTo>
                  <a:lnTo>
                    <a:pt x="2137" y="1319"/>
                  </a:lnTo>
                  <a:lnTo>
                    <a:pt x="2137" y="1312"/>
                  </a:lnTo>
                  <a:lnTo>
                    <a:pt x="2143" y="1304"/>
                  </a:lnTo>
                  <a:lnTo>
                    <a:pt x="2143" y="1302"/>
                  </a:lnTo>
                  <a:lnTo>
                    <a:pt x="2148" y="1295"/>
                  </a:lnTo>
                  <a:lnTo>
                    <a:pt x="2148" y="1288"/>
                  </a:lnTo>
                  <a:lnTo>
                    <a:pt x="2154" y="1284"/>
                  </a:lnTo>
                  <a:lnTo>
                    <a:pt x="2154" y="1277"/>
                  </a:lnTo>
                  <a:lnTo>
                    <a:pt x="2159" y="1271"/>
                  </a:lnTo>
                  <a:lnTo>
                    <a:pt x="2159" y="1264"/>
                  </a:lnTo>
                  <a:lnTo>
                    <a:pt x="2165" y="1257"/>
                  </a:lnTo>
                  <a:lnTo>
                    <a:pt x="2165" y="1249"/>
                  </a:lnTo>
                  <a:lnTo>
                    <a:pt x="2170" y="1244"/>
                  </a:lnTo>
                  <a:lnTo>
                    <a:pt x="2170" y="1236"/>
                  </a:lnTo>
                  <a:lnTo>
                    <a:pt x="2176" y="1229"/>
                  </a:lnTo>
                  <a:lnTo>
                    <a:pt x="2176" y="1222"/>
                  </a:lnTo>
                  <a:lnTo>
                    <a:pt x="2181" y="1213"/>
                  </a:lnTo>
                  <a:lnTo>
                    <a:pt x="2181" y="1205"/>
                  </a:lnTo>
                  <a:lnTo>
                    <a:pt x="2187" y="1198"/>
                  </a:lnTo>
                  <a:lnTo>
                    <a:pt x="2192" y="1192"/>
                  </a:lnTo>
                  <a:lnTo>
                    <a:pt x="2192" y="1181"/>
                  </a:lnTo>
                  <a:lnTo>
                    <a:pt x="2198" y="1174"/>
                  </a:lnTo>
                  <a:lnTo>
                    <a:pt x="2198" y="1169"/>
                  </a:lnTo>
                  <a:lnTo>
                    <a:pt x="2205" y="1158"/>
                  </a:lnTo>
                  <a:lnTo>
                    <a:pt x="2205" y="1150"/>
                  </a:lnTo>
                  <a:lnTo>
                    <a:pt x="2209" y="1141"/>
                  </a:lnTo>
                  <a:lnTo>
                    <a:pt x="2209" y="1134"/>
                  </a:lnTo>
                  <a:lnTo>
                    <a:pt x="2216" y="1123"/>
                  </a:lnTo>
                  <a:lnTo>
                    <a:pt x="2216" y="1114"/>
                  </a:lnTo>
                  <a:lnTo>
                    <a:pt x="2222" y="1106"/>
                  </a:lnTo>
                  <a:lnTo>
                    <a:pt x="2222" y="1095"/>
                  </a:lnTo>
                  <a:lnTo>
                    <a:pt x="2227" y="1090"/>
                  </a:lnTo>
                  <a:lnTo>
                    <a:pt x="2227" y="1079"/>
                  </a:lnTo>
                  <a:lnTo>
                    <a:pt x="2233" y="1068"/>
                  </a:lnTo>
                  <a:lnTo>
                    <a:pt x="2233" y="1059"/>
                  </a:lnTo>
                  <a:lnTo>
                    <a:pt x="2238" y="1051"/>
                  </a:lnTo>
                  <a:lnTo>
                    <a:pt x="2238" y="1040"/>
                  </a:lnTo>
                  <a:lnTo>
                    <a:pt x="2244" y="1031"/>
                  </a:lnTo>
                  <a:lnTo>
                    <a:pt x="2244" y="1020"/>
                  </a:lnTo>
                  <a:lnTo>
                    <a:pt x="2249" y="1011"/>
                  </a:lnTo>
                  <a:lnTo>
                    <a:pt x="2249" y="1000"/>
                  </a:lnTo>
                  <a:lnTo>
                    <a:pt x="2255" y="989"/>
                  </a:lnTo>
                  <a:lnTo>
                    <a:pt x="2255" y="980"/>
                  </a:lnTo>
                  <a:lnTo>
                    <a:pt x="2260" y="969"/>
                  </a:lnTo>
                  <a:lnTo>
                    <a:pt x="2266" y="958"/>
                  </a:lnTo>
                  <a:lnTo>
                    <a:pt x="2266" y="949"/>
                  </a:lnTo>
                  <a:lnTo>
                    <a:pt x="2271" y="938"/>
                  </a:lnTo>
                  <a:lnTo>
                    <a:pt x="2271" y="929"/>
                  </a:lnTo>
                  <a:lnTo>
                    <a:pt x="2277" y="918"/>
                  </a:lnTo>
                  <a:lnTo>
                    <a:pt x="2277" y="907"/>
                  </a:lnTo>
                  <a:lnTo>
                    <a:pt x="2282" y="898"/>
                  </a:lnTo>
                  <a:lnTo>
                    <a:pt x="2282" y="887"/>
                  </a:lnTo>
                  <a:lnTo>
                    <a:pt x="2288" y="877"/>
                  </a:lnTo>
                  <a:lnTo>
                    <a:pt x="2288" y="866"/>
                  </a:lnTo>
                  <a:lnTo>
                    <a:pt x="2293" y="855"/>
                  </a:lnTo>
                  <a:lnTo>
                    <a:pt x="2293" y="846"/>
                  </a:lnTo>
                  <a:lnTo>
                    <a:pt x="2299" y="832"/>
                  </a:lnTo>
                  <a:lnTo>
                    <a:pt x="2299" y="822"/>
                  </a:lnTo>
                  <a:lnTo>
                    <a:pt x="2306" y="811"/>
                  </a:lnTo>
                  <a:lnTo>
                    <a:pt x="2306" y="800"/>
                  </a:lnTo>
                  <a:lnTo>
                    <a:pt x="2311" y="791"/>
                  </a:lnTo>
                  <a:lnTo>
                    <a:pt x="2311" y="777"/>
                  </a:lnTo>
                  <a:lnTo>
                    <a:pt x="2317" y="767"/>
                  </a:lnTo>
                  <a:lnTo>
                    <a:pt x="2317" y="756"/>
                  </a:lnTo>
                  <a:lnTo>
                    <a:pt x="2322" y="747"/>
                  </a:lnTo>
                  <a:lnTo>
                    <a:pt x="2322" y="736"/>
                  </a:lnTo>
                  <a:lnTo>
                    <a:pt x="2328" y="723"/>
                  </a:lnTo>
                  <a:lnTo>
                    <a:pt x="2328" y="712"/>
                  </a:lnTo>
                  <a:lnTo>
                    <a:pt x="2333" y="701"/>
                  </a:lnTo>
                  <a:lnTo>
                    <a:pt x="2339" y="692"/>
                  </a:lnTo>
                  <a:lnTo>
                    <a:pt x="2339" y="681"/>
                  </a:lnTo>
                  <a:lnTo>
                    <a:pt x="2344" y="669"/>
                  </a:lnTo>
                  <a:lnTo>
                    <a:pt x="2344" y="658"/>
                  </a:lnTo>
                  <a:lnTo>
                    <a:pt x="2350" y="647"/>
                  </a:lnTo>
                  <a:lnTo>
                    <a:pt x="2350" y="637"/>
                  </a:lnTo>
                  <a:lnTo>
                    <a:pt x="2355" y="626"/>
                  </a:lnTo>
                  <a:lnTo>
                    <a:pt x="2355" y="614"/>
                  </a:lnTo>
                  <a:lnTo>
                    <a:pt x="2361" y="603"/>
                  </a:lnTo>
                  <a:lnTo>
                    <a:pt x="2361" y="592"/>
                  </a:lnTo>
                  <a:lnTo>
                    <a:pt x="2366" y="582"/>
                  </a:lnTo>
                  <a:lnTo>
                    <a:pt x="2366" y="571"/>
                  </a:lnTo>
                  <a:lnTo>
                    <a:pt x="2372" y="559"/>
                  </a:lnTo>
                  <a:lnTo>
                    <a:pt x="2372" y="548"/>
                  </a:lnTo>
                  <a:lnTo>
                    <a:pt x="2377" y="537"/>
                  </a:lnTo>
                  <a:lnTo>
                    <a:pt x="2377" y="527"/>
                  </a:lnTo>
                  <a:lnTo>
                    <a:pt x="2383" y="516"/>
                  </a:lnTo>
                  <a:lnTo>
                    <a:pt x="2383" y="507"/>
                  </a:lnTo>
                  <a:lnTo>
                    <a:pt x="2388" y="496"/>
                  </a:lnTo>
                  <a:lnTo>
                    <a:pt x="2388" y="485"/>
                  </a:lnTo>
                  <a:lnTo>
                    <a:pt x="2396" y="476"/>
                  </a:lnTo>
                  <a:lnTo>
                    <a:pt x="2396" y="465"/>
                  </a:lnTo>
                  <a:lnTo>
                    <a:pt x="2401" y="456"/>
                  </a:lnTo>
                  <a:lnTo>
                    <a:pt x="2401" y="445"/>
                  </a:lnTo>
                  <a:lnTo>
                    <a:pt x="2407" y="434"/>
                  </a:lnTo>
                  <a:lnTo>
                    <a:pt x="2412" y="425"/>
                  </a:lnTo>
                  <a:lnTo>
                    <a:pt x="2412" y="414"/>
                  </a:lnTo>
                  <a:lnTo>
                    <a:pt x="2418" y="405"/>
                  </a:lnTo>
                  <a:lnTo>
                    <a:pt x="2418" y="394"/>
                  </a:lnTo>
                  <a:lnTo>
                    <a:pt x="2423" y="383"/>
                  </a:lnTo>
                  <a:lnTo>
                    <a:pt x="2423" y="374"/>
                  </a:lnTo>
                  <a:lnTo>
                    <a:pt x="2429" y="363"/>
                  </a:lnTo>
                  <a:lnTo>
                    <a:pt x="2429" y="353"/>
                  </a:lnTo>
                  <a:lnTo>
                    <a:pt x="2434" y="346"/>
                  </a:lnTo>
                  <a:lnTo>
                    <a:pt x="2434" y="335"/>
                  </a:lnTo>
                  <a:lnTo>
                    <a:pt x="2440" y="326"/>
                  </a:lnTo>
                  <a:lnTo>
                    <a:pt x="2440" y="315"/>
                  </a:lnTo>
                  <a:lnTo>
                    <a:pt x="2445" y="308"/>
                  </a:lnTo>
                  <a:lnTo>
                    <a:pt x="2445" y="298"/>
                  </a:lnTo>
                  <a:lnTo>
                    <a:pt x="2451" y="291"/>
                  </a:lnTo>
                  <a:lnTo>
                    <a:pt x="2451" y="280"/>
                  </a:lnTo>
                  <a:lnTo>
                    <a:pt x="2456" y="271"/>
                  </a:lnTo>
                  <a:lnTo>
                    <a:pt x="2456" y="264"/>
                  </a:lnTo>
                  <a:lnTo>
                    <a:pt x="2462" y="253"/>
                  </a:lnTo>
                  <a:lnTo>
                    <a:pt x="2462" y="245"/>
                  </a:lnTo>
                  <a:lnTo>
                    <a:pt x="2467" y="236"/>
                  </a:lnTo>
                  <a:lnTo>
                    <a:pt x="2467" y="229"/>
                  </a:lnTo>
                  <a:lnTo>
                    <a:pt x="2473" y="222"/>
                  </a:lnTo>
                  <a:lnTo>
                    <a:pt x="2473" y="212"/>
                  </a:lnTo>
                  <a:lnTo>
                    <a:pt x="2478" y="205"/>
                  </a:lnTo>
                  <a:lnTo>
                    <a:pt x="2485" y="198"/>
                  </a:lnTo>
                  <a:lnTo>
                    <a:pt x="2485" y="192"/>
                  </a:lnTo>
                  <a:lnTo>
                    <a:pt x="2491" y="181"/>
                  </a:lnTo>
                  <a:lnTo>
                    <a:pt x="2491" y="174"/>
                  </a:lnTo>
                  <a:lnTo>
                    <a:pt x="2496" y="167"/>
                  </a:lnTo>
                  <a:lnTo>
                    <a:pt x="2496" y="161"/>
                  </a:lnTo>
                  <a:lnTo>
                    <a:pt x="2502" y="154"/>
                  </a:lnTo>
                  <a:lnTo>
                    <a:pt x="2502" y="146"/>
                  </a:lnTo>
                  <a:lnTo>
                    <a:pt x="2507" y="141"/>
                  </a:lnTo>
                  <a:lnTo>
                    <a:pt x="2507" y="134"/>
                  </a:lnTo>
                  <a:lnTo>
                    <a:pt x="2513" y="126"/>
                  </a:lnTo>
                  <a:lnTo>
                    <a:pt x="2513" y="119"/>
                  </a:lnTo>
                  <a:lnTo>
                    <a:pt x="2518" y="115"/>
                  </a:lnTo>
                  <a:lnTo>
                    <a:pt x="2518" y="110"/>
                  </a:lnTo>
                  <a:lnTo>
                    <a:pt x="2524" y="102"/>
                  </a:lnTo>
                  <a:lnTo>
                    <a:pt x="2524" y="99"/>
                  </a:lnTo>
                  <a:lnTo>
                    <a:pt x="2529" y="91"/>
                  </a:lnTo>
                  <a:lnTo>
                    <a:pt x="2529" y="86"/>
                  </a:lnTo>
                  <a:lnTo>
                    <a:pt x="2535" y="82"/>
                  </a:lnTo>
                  <a:lnTo>
                    <a:pt x="2535" y="75"/>
                  </a:lnTo>
                  <a:lnTo>
                    <a:pt x="2540" y="71"/>
                  </a:lnTo>
                  <a:lnTo>
                    <a:pt x="2540" y="68"/>
                  </a:lnTo>
                  <a:lnTo>
                    <a:pt x="2546" y="62"/>
                  </a:lnTo>
                  <a:lnTo>
                    <a:pt x="2546" y="59"/>
                  </a:lnTo>
                  <a:lnTo>
                    <a:pt x="2551" y="55"/>
                  </a:lnTo>
                  <a:lnTo>
                    <a:pt x="2557" y="48"/>
                  </a:lnTo>
                  <a:lnTo>
                    <a:pt x="2557" y="44"/>
                  </a:lnTo>
                  <a:lnTo>
                    <a:pt x="2562" y="40"/>
                  </a:lnTo>
                  <a:lnTo>
                    <a:pt x="2562" y="37"/>
                  </a:lnTo>
                  <a:lnTo>
                    <a:pt x="2568" y="35"/>
                  </a:lnTo>
                  <a:lnTo>
                    <a:pt x="2568" y="31"/>
                  </a:lnTo>
                  <a:lnTo>
                    <a:pt x="2575" y="27"/>
                  </a:lnTo>
                  <a:lnTo>
                    <a:pt x="2575" y="24"/>
                  </a:lnTo>
                  <a:lnTo>
                    <a:pt x="2581" y="20"/>
                  </a:lnTo>
                  <a:lnTo>
                    <a:pt x="2586" y="16"/>
                  </a:lnTo>
                  <a:lnTo>
                    <a:pt x="2592" y="13"/>
                  </a:lnTo>
                  <a:lnTo>
                    <a:pt x="2597" y="9"/>
                  </a:lnTo>
                  <a:lnTo>
                    <a:pt x="2603" y="7"/>
                  </a:lnTo>
                  <a:lnTo>
                    <a:pt x="2608" y="4"/>
                  </a:lnTo>
                  <a:lnTo>
                    <a:pt x="2614" y="0"/>
                  </a:lnTo>
                  <a:lnTo>
                    <a:pt x="2619" y="0"/>
                  </a:lnTo>
                  <a:lnTo>
                    <a:pt x="2625" y="0"/>
                  </a:lnTo>
                  <a:lnTo>
                    <a:pt x="2630" y="0"/>
                  </a:lnTo>
                  <a:lnTo>
                    <a:pt x="2636" y="0"/>
                  </a:lnTo>
                  <a:lnTo>
                    <a:pt x="2641" y="4"/>
                  </a:lnTo>
                  <a:lnTo>
                    <a:pt x="2647" y="7"/>
                  </a:lnTo>
                  <a:lnTo>
                    <a:pt x="2652" y="9"/>
                  </a:lnTo>
                  <a:lnTo>
                    <a:pt x="2658" y="13"/>
                  </a:lnTo>
                  <a:lnTo>
                    <a:pt x="2665" y="16"/>
                  </a:lnTo>
                  <a:lnTo>
                    <a:pt x="2670" y="20"/>
                  </a:lnTo>
                  <a:lnTo>
                    <a:pt x="2676" y="24"/>
                  </a:lnTo>
                  <a:lnTo>
                    <a:pt x="2676" y="27"/>
                  </a:lnTo>
                  <a:lnTo>
                    <a:pt x="2681" y="31"/>
                  </a:lnTo>
                  <a:lnTo>
                    <a:pt x="2681" y="35"/>
                  </a:lnTo>
                  <a:lnTo>
                    <a:pt x="2687" y="37"/>
                  </a:lnTo>
                  <a:lnTo>
                    <a:pt x="2687" y="40"/>
                  </a:lnTo>
                  <a:lnTo>
                    <a:pt x="2692" y="44"/>
                  </a:lnTo>
                  <a:lnTo>
                    <a:pt x="2692" y="48"/>
                  </a:lnTo>
                  <a:lnTo>
                    <a:pt x="2698" y="55"/>
                  </a:lnTo>
                  <a:lnTo>
                    <a:pt x="2703" y="59"/>
                  </a:lnTo>
                  <a:lnTo>
                    <a:pt x="2703" y="62"/>
                  </a:lnTo>
                  <a:lnTo>
                    <a:pt x="2709" y="68"/>
                  </a:lnTo>
                  <a:lnTo>
                    <a:pt x="2709" y="71"/>
                  </a:lnTo>
                  <a:lnTo>
                    <a:pt x="2714" y="75"/>
                  </a:lnTo>
                  <a:lnTo>
                    <a:pt x="2714" y="82"/>
                  </a:lnTo>
                  <a:lnTo>
                    <a:pt x="2720" y="86"/>
                  </a:lnTo>
                  <a:lnTo>
                    <a:pt x="2720" y="91"/>
                  </a:lnTo>
                  <a:lnTo>
                    <a:pt x="2725" y="99"/>
                  </a:lnTo>
                  <a:lnTo>
                    <a:pt x="2725" y="102"/>
                  </a:lnTo>
                  <a:lnTo>
                    <a:pt x="2731" y="110"/>
                  </a:lnTo>
                  <a:lnTo>
                    <a:pt x="2731" y="115"/>
                  </a:lnTo>
                  <a:lnTo>
                    <a:pt x="2736" y="119"/>
                  </a:lnTo>
                  <a:lnTo>
                    <a:pt x="2736" y="126"/>
                  </a:lnTo>
                  <a:lnTo>
                    <a:pt x="2742" y="134"/>
                  </a:lnTo>
                  <a:lnTo>
                    <a:pt x="2742" y="141"/>
                  </a:lnTo>
                  <a:lnTo>
                    <a:pt x="2747" y="146"/>
                  </a:lnTo>
                  <a:lnTo>
                    <a:pt x="2747" y="154"/>
                  </a:lnTo>
                  <a:lnTo>
                    <a:pt x="2753" y="161"/>
                  </a:lnTo>
                  <a:lnTo>
                    <a:pt x="2753" y="167"/>
                  </a:lnTo>
                  <a:lnTo>
                    <a:pt x="2760" y="174"/>
                  </a:lnTo>
                  <a:lnTo>
                    <a:pt x="2760" y="181"/>
                  </a:lnTo>
                  <a:lnTo>
                    <a:pt x="2766" y="192"/>
                  </a:lnTo>
                  <a:lnTo>
                    <a:pt x="2766" y="198"/>
                  </a:lnTo>
                  <a:lnTo>
                    <a:pt x="2771" y="205"/>
                  </a:lnTo>
                  <a:lnTo>
                    <a:pt x="2777" y="212"/>
                  </a:lnTo>
                  <a:lnTo>
                    <a:pt x="2777" y="222"/>
                  </a:lnTo>
                  <a:lnTo>
                    <a:pt x="2782" y="229"/>
                  </a:lnTo>
                  <a:lnTo>
                    <a:pt x="2782" y="236"/>
                  </a:lnTo>
                  <a:lnTo>
                    <a:pt x="2788" y="245"/>
                  </a:lnTo>
                  <a:lnTo>
                    <a:pt x="2788" y="253"/>
                  </a:lnTo>
                  <a:lnTo>
                    <a:pt x="2793" y="264"/>
                  </a:lnTo>
                  <a:lnTo>
                    <a:pt x="2793" y="271"/>
                  </a:lnTo>
                  <a:lnTo>
                    <a:pt x="2799" y="280"/>
                  </a:lnTo>
                  <a:lnTo>
                    <a:pt x="2799" y="291"/>
                  </a:lnTo>
                  <a:lnTo>
                    <a:pt x="2804" y="298"/>
                  </a:lnTo>
                  <a:lnTo>
                    <a:pt x="2804" y="308"/>
                  </a:lnTo>
                  <a:lnTo>
                    <a:pt x="2810" y="315"/>
                  </a:lnTo>
                  <a:lnTo>
                    <a:pt x="2810" y="326"/>
                  </a:lnTo>
                  <a:lnTo>
                    <a:pt x="2815" y="335"/>
                  </a:lnTo>
                  <a:lnTo>
                    <a:pt x="2815" y="346"/>
                  </a:lnTo>
                  <a:lnTo>
                    <a:pt x="2821" y="353"/>
                  </a:lnTo>
                  <a:lnTo>
                    <a:pt x="2821" y="363"/>
                  </a:lnTo>
                  <a:lnTo>
                    <a:pt x="2826" y="374"/>
                  </a:lnTo>
                  <a:lnTo>
                    <a:pt x="2826" y="383"/>
                  </a:lnTo>
                  <a:lnTo>
                    <a:pt x="2832" y="394"/>
                  </a:lnTo>
                  <a:lnTo>
                    <a:pt x="2832" y="405"/>
                  </a:lnTo>
                  <a:lnTo>
                    <a:pt x="2839" y="414"/>
                  </a:lnTo>
                  <a:lnTo>
                    <a:pt x="2839" y="425"/>
                  </a:lnTo>
                  <a:lnTo>
                    <a:pt x="2843" y="434"/>
                  </a:lnTo>
                  <a:lnTo>
                    <a:pt x="2850" y="445"/>
                  </a:lnTo>
                  <a:lnTo>
                    <a:pt x="2850" y="456"/>
                  </a:lnTo>
                  <a:lnTo>
                    <a:pt x="2856" y="465"/>
                  </a:lnTo>
                  <a:lnTo>
                    <a:pt x="2856" y="476"/>
                  </a:lnTo>
                  <a:lnTo>
                    <a:pt x="2861" y="485"/>
                  </a:lnTo>
                  <a:lnTo>
                    <a:pt x="2861" y="496"/>
                  </a:lnTo>
                  <a:lnTo>
                    <a:pt x="2867" y="507"/>
                  </a:lnTo>
                  <a:lnTo>
                    <a:pt x="2867" y="516"/>
                  </a:lnTo>
                  <a:lnTo>
                    <a:pt x="2872" y="527"/>
                  </a:lnTo>
                  <a:lnTo>
                    <a:pt x="2872" y="537"/>
                  </a:lnTo>
                  <a:lnTo>
                    <a:pt x="2878" y="548"/>
                  </a:lnTo>
                  <a:lnTo>
                    <a:pt x="2878" y="559"/>
                  </a:lnTo>
                  <a:lnTo>
                    <a:pt x="2883" y="571"/>
                  </a:lnTo>
                  <a:lnTo>
                    <a:pt x="2883" y="582"/>
                  </a:lnTo>
                  <a:lnTo>
                    <a:pt x="2888" y="592"/>
                  </a:lnTo>
                  <a:lnTo>
                    <a:pt x="2888" y="603"/>
                  </a:lnTo>
                  <a:lnTo>
                    <a:pt x="2894" y="614"/>
                  </a:lnTo>
                  <a:lnTo>
                    <a:pt x="2894" y="626"/>
                  </a:lnTo>
                  <a:lnTo>
                    <a:pt x="2899" y="637"/>
                  </a:lnTo>
                  <a:lnTo>
                    <a:pt x="2899" y="647"/>
                  </a:lnTo>
                  <a:lnTo>
                    <a:pt x="2905" y="658"/>
                  </a:lnTo>
                  <a:lnTo>
                    <a:pt x="2905" y="669"/>
                  </a:lnTo>
                  <a:lnTo>
                    <a:pt x="2910" y="681"/>
                  </a:lnTo>
                  <a:lnTo>
                    <a:pt x="2910" y="692"/>
                  </a:lnTo>
                  <a:lnTo>
                    <a:pt x="2916" y="70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83"/>
            <p:cNvSpPr/>
            <p:nvPr/>
          </p:nvSpPr>
          <p:spPr>
            <a:xfrm flipV="1">
              <a:off x="4908600" y="3682800"/>
              <a:ext cx="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4"/>
                <p:cNvSpPr txBox="1"/>
                <p:nvPr/>
              </p:nvSpPr>
              <p:spPr>
                <a:xfrm>
                  <a:off x="5065560" y="367992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85"/>
            <p:cNvSpPr/>
            <p:nvPr/>
          </p:nvSpPr>
          <p:spPr>
            <a:xfrm flipV="1">
              <a:off x="5672160" y="453384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186"/>
                <p:cNvSpPr txBox="1"/>
                <p:nvPr/>
              </p:nvSpPr>
              <p:spPr>
                <a:xfrm>
                  <a:off x="5803920" y="4476600"/>
                  <a:ext cx="339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87"/>
            <p:cNvSpPr/>
            <p:nvPr/>
          </p:nvSpPr>
          <p:spPr>
            <a:xfrm flipV="1">
              <a:off x="5427720" y="53848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Object 188"/>
                <p:cNvSpPr txBox="1"/>
                <p:nvPr/>
              </p:nvSpPr>
              <p:spPr>
                <a:xfrm>
                  <a:off x="5519520" y="5275080"/>
                  <a:ext cx="4730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6" name="Rectangle 193"/>
          <p:cNvSpPr/>
          <p:nvPr/>
        </p:nvSpPr>
        <p:spPr>
          <a:xfrm>
            <a:off x="3610080" y="23004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94"/>
          <p:cNvSpPr/>
          <p:nvPr/>
        </p:nvSpPr>
        <p:spPr>
          <a:xfrm>
            <a:off x="7157520" y="33130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97"/>
          <p:cNvGrpSpPr/>
          <p:nvPr/>
        </p:nvGrpSpPr>
        <p:grpSpPr>
          <a:xfrm>
            <a:off x="8491680" y="3262320"/>
            <a:ext cx="83880" cy="2092320"/>
            <a:chOff x="8491680" y="3262320"/>
            <a:chExt cx="83880" cy="2092320"/>
          </a:xfrm>
        </p:grpSpPr>
        <p:sp>
          <p:nvSpPr>
            <p:cNvPr id="219" name="Line 195"/>
            <p:cNvSpPr/>
            <p:nvPr/>
          </p:nvSpPr>
          <p:spPr>
            <a:xfrm flipV="1">
              <a:off x="8532720" y="3341520"/>
              <a:ext cx="1800" cy="2013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6"/>
            <p:cNvSpPr/>
            <p:nvPr/>
          </p:nvSpPr>
          <p:spPr>
            <a:xfrm>
              <a:off x="8491680" y="3262320"/>
              <a:ext cx="83880" cy="842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06" h="106">
                  <a:moveTo>
                    <a:pt x="106" y="106"/>
                  </a:moveTo>
                  <a:lnTo>
                    <a:pt x="52" y="0"/>
                  </a:lnTo>
                  <a:lnTo>
                    <a:pt x="0" y="106"/>
                  </a:lnTo>
                  <a:lnTo>
                    <a:pt x="106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198"/>
          <p:cNvSpPr/>
          <p:nvPr/>
        </p:nvSpPr>
        <p:spPr>
          <a:xfrm>
            <a:off x="8926560" y="4137120"/>
            <a:ext cx="2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00"/>
          <p:cNvSpPr/>
          <p:nvPr/>
        </p:nvSpPr>
        <p:spPr>
          <a:xfrm>
            <a:off x="9049680" y="4214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3"/>
          <p:cNvGrpSpPr/>
          <p:nvPr/>
        </p:nvGrpSpPr>
        <p:grpSpPr>
          <a:xfrm>
            <a:off x="7624800" y="4384800"/>
            <a:ext cx="2014560" cy="83880"/>
            <a:chOff x="7624800" y="4384800"/>
            <a:chExt cx="2014560" cy="83880"/>
          </a:xfrm>
        </p:grpSpPr>
        <p:sp>
          <p:nvSpPr>
            <p:cNvPr id="224" name="Line 201"/>
            <p:cNvSpPr/>
            <p:nvPr/>
          </p:nvSpPr>
          <p:spPr>
            <a:xfrm>
              <a:off x="7624800" y="4424400"/>
              <a:ext cx="19335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2"/>
            <p:cNvSpPr/>
            <p:nvPr/>
          </p:nvSpPr>
          <p:spPr>
            <a:xfrm>
              <a:off x="9556920" y="4384800"/>
              <a:ext cx="82440" cy="838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06" h="106">
                  <a:moveTo>
                    <a:pt x="0" y="106"/>
                  </a:moveTo>
                  <a:lnTo>
                    <a:pt x="106" y="52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06"/>
          <p:cNvGrpSpPr/>
          <p:nvPr/>
        </p:nvGrpSpPr>
        <p:grpSpPr>
          <a:xfrm>
            <a:off x="8188200" y="3573360"/>
            <a:ext cx="340920" cy="846000"/>
            <a:chOff x="8188200" y="3573360"/>
            <a:chExt cx="340920" cy="846000"/>
          </a:xfrm>
        </p:grpSpPr>
        <p:sp>
          <p:nvSpPr>
            <p:cNvPr id="227" name="Freeform 204"/>
            <p:cNvSpPr/>
            <p:nvPr/>
          </p:nvSpPr>
          <p:spPr>
            <a:xfrm>
              <a:off x="8222400" y="3650040"/>
              <a:ext cx="306720" cy="7693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769320"/>
                <a:gd name="textAreaBottom" fmla="*/ 769680 h 769320"/>
              </a:gdLst>
              <a:ahLst/>
              <a:rect l="textAreaLeft" t="textAreaTop" r="textAreaRight" b="textAreaBottom"/>
              <a:pathLst>
                <a:path w="448" h="1103">
                  <a:moveTo>
                    <a:pt x="434" y="1103"/>
                  </a:moveTo>
                  <a:lnTo>
                    <a:pt x="448" y="1098"/>
                  </a:lnTo>
                  <a:lnTo>
                    <a:pt x="15" y="0"/>
                  </a:lnTo>
                  <a:lnTo>
                    <a:pt x="0" y="5"/>
                  </a:lnTo>
                  <a:lnTo>
                    <a:pt x="434" y="1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05"/>
            <p:cNvSpPr/>
            <p:nvPr/>
          </p:nvSpPr>
          <p:spPr>
            <a:xfrm>
              <a:off x="8188200" y="3573360"/>
              <a:ext cx="78120" cy="94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15" h="136">
                  <a:moveTo>
                    <a:pt x="115" y="91"/>
                  </a:moveTo>
                  <a:lnTo>
                    <a:pt x="13" y="0"/>
                  </a:lnTo>
                  <a:lnTo>
                    <a:pt x="0" y="136"/>
                  </a:lnTo>
                  <a:lnTo>
                    <a:pt x="115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207"/>
          <p:cNvSpPr/>
          <p:nvPr/>
        </p:nvSpPr>
        <p:spPr>
          <a:xfrm>
            <a:off x="7581960" y="4124160"/>
            <a:ext cx="1622520" cy="702000"/>
          </a:xfrm>
          <a:custGeom>
            <a:avLst/>
            <a:gdLst>
              <a:gd name="textAreaLeft" fmla="*/ 0 w 1622520"/>
              <a:gd name="textAreaRight" fmla="*/ 1622880 w 162252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480" h="1073">
                <a:moveTo>
                  <a:pt x="2480" y="14"/>
                </a:moveTo>
                <a:lnTo>
                  <a:pt x="2475" y="0"/>
                </a:lnTo>
                <a:lnTo>
                  <a:pt x="0" y="1059"/>
                </a:lnTo>
                <a:lnTo>
                  <a:pt x="5" y="1073"/>
                </a:lnTo>
                <a:lnTo>
                  <a:pt x="248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208"/>
          <p:cNvSpPr/>
          <p:nvPr/>
        </p:nvSpPr>
        <p:spPr>
          <a:xfrm>
            <a:off x="9180360" y="4086360"/>
            <a:ext cx="109800" cy="88920"/>
          </a:xfrm>
          <a:custGeom>
            <a:avLst/>
            <a:gdLst>
              <a:gd name="textAreaLeft" fmla="*/ 0 w 109800"/>
              <a:gd name="textAreaRight" fmla="*/ 110160 w 1098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38" h="112">
                <a:moveTo>
                  <a:pt x="49" y="112"/>
                </a:moveTo>
                <a:lnTo>
                  <a:pt x="138" y="7"/>
                </a:lnTo>
                <a:lnTo>
                  <a:pt x="0" y="0"/>
                </a:lnTo>
                <a:lnTo>
                  <a:pt x="49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209"/>
          <p:cNvSpPr/>
          <p:nvPr/>
        </p:nvSpPr>
        <p:spPr>
          <a:xfrm>
            <a:off x="7551720" y="4756320"/>
            <a:ext cx="108000" cy="88560"/>
          </a:xfrm>
          <a:custGeom>
            <a:avLst/>
            <a:gdLst>
              <a:gd name="textAreaLeft" fmla="*/ 0 w 108000"/>
              <a:gd name="textAreaRight" fmla="*/ 108360 w 108000"/>
              <a:gd name="textAreaTop" fmla="*/ 0 h 88560"/>
              <a:gd name="textAreaBottom" fmla="*/ 88920 h 88560"/>
            </a:gdLst>
            <a:ahLst/>
            <a:rect l="textAreaLeft" t="textAreaTop" r="textAreaRight" b="textAreaBottom"/>
            <a:pathLst>
              <a:path w="136" h="112">
                <a:moveTo>
                  <a:pt x="88" y="0"/>
                </a:moveTo>
                <a:lnTo>
                  <a:pt x="0" y="106"/>
                </a:lnTo>
                <a:lnTo>
                  <a:pt x="136" y="112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1"/>
          <p:cNvSpPr/>
          <p:nvPr/>
        </p:nvSpPr>
        <p:spPr>
          <a:xfrm>
            <a:off x="9356760" y="3871800"/>
            <a:ext cx="2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19"/>
          <p:cNvSpPr/>
          <p:nvPr/>
        </p:nvSpPr>
        <p:spPr>
          <a:xfrm>
            <a:off x="7650000" y="4857840"/>
            <a:ext cx="44460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225"/>
          <p:cNvSpPr/>
          <p:nvPr/>
        </p:nvSpPr>
        <p:spPr>
          <a:xfrm>
            <a:off x="8956800" y="4233960"/>
            <a:ext cx="133200" cy="168120"/>
          </a:xfrm>
          <a:custGeom>
            <a:avLst/>
            <a:gdLst>
              <a:gd name="textAreaLeft" fmla="*/ 0 w 133200"/>
              <a:gd name="textAreaRight" fmla="*/ 133560 w 13320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84" h="106">
                <a:moveTo>
                  <a:pt x="72" y="106"/>
                </a:moveTo>
                <a:cubicBezTo>
                  <a:pt x="72" y="96"/>
                  <a:pt x="84" y="63"/>
                  <a:pt x="72" y="45"/>
                </a:cubicBezTo>
                <a:cubicBezTo>
                  <a:pt x="60" y="27"/>
                  <a:pt x="15" y="9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26"/>
          <p:cNvSpPr/>
          <p:nvPr/>
        </p:nvSpPr>
        <p:spPr>
          <a:xfrm flipH="1" flipV="1">
            <a:off x="8959680" y="4218120"/>
            <a:ext cx="106560" cy="8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27"/>
              <p:cNvSpPr txBox="1"/>
              <p:nvPr/>
            </p:nvSpPr>
            <p:spPr>
              <a:xfrm>
                <a:off x="9180360" y="4160880"/>
                <a:ext cx="289080" cy="2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28"/>
              <p:cNvSpPr txBox="1"/>
              <p:nvPr/>
            </p:nvSpPr>
            <p:spPr>
              <a:xfrm>
                <a:off x="9283680" y="3890880"/>
                <a:ext cx="2332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29"/>
              <p:cNvSpPr txBox="1"/>
              <p:nvPr/>
            </p:nvSpPr>
            <p:spPr>
              <a:xfrm>
                <a:off x="8040600" y="3238560"/>
                <a:ext cx="2239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0"/>
              <p:cNvSpPr txBox="1"/>
              <p:nvPr/>
            </p:nvSpPr>
            <p:spPr>
              <a:xfrm>
                <a:off x="7765920" y="4691160"/>
                <a:ext cx="20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610080" y="23004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770160" y="1312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6"/>
          <p:cNvSpPr/>
          <p:nvPr/>
        </p:nvSpPr>
        <p:spPr>
          <a:xfrm>
            <a:off x="6775560" y="1841400"/>
            <a:ext cx="1268280" cy="1397160"/>
          </a:xfrm>
          <a:prstGeom prst="ellipse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7427880" y="2502000"/>
            <a:ext cx="1217160" cy="99720"/>
            <a:chOff x="7427880" y="2502000"/>
            <a:chExt cx="1217160" cy="99720"/>
          </a:xfrm>
        </p:grpSpPr>
        <p:sp>
          <p:nvSpPr>
            <p:cNvPr id="244" name="Line 8"/>
            <p:cNvSpPr/>
            <p:nvPr/>
          </p:nvSpPr>
          <p:spPr>
            <a:xfrm>
              <a:off x="7427880" y="2550960"/>
              <a:ext cx="1121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"/>
            <p:cNvSpPr/>
            <p:nvPr/>
          </p:nvSpPr>
          <p:spPr>
            <a:xfrm>
              <a:off x="8545680" y="2502000"/>
              <a:ext cx="99360" cy="997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19" h="119">
                  <a:moveTo>
                    <a:pt x="0" y="119"/>
                  </a:moveTo>
                  <a:lnTo>
                    <a:pt x="119" y="61"/>
                  </a:lnTo>
                  <a:lnTo>
                    <a:pt x="0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0"/>
          <p:cNvGrpSpPr/>
          <p:nvPr/>
        </p:nvGrpSpPr>
        <p:grpSpPr>
          <a:xfrm>
            <a:off x="7391520" y="1322280"/>
            <a:ext cx="101160" cy="1227960"/>
            <a:chOff x="7391520" y="1322280"/>
            <a:chExt cx="101160" cy="1227960"/>
          </a:xfrm>
        </p:grpSpPr>
        <p:sp>
          <p:nvSpPr>
            <p:cNvPr id="247" name="Line 11"/>
            <p:cNvSpPr/>
            <p:nvPr/>
          </p:nvSpPr>
          <p:spPr>
            <a:xfrm flipV="1">
              <a:off x="7440480" y="1420200"/>
              <a:ext cx="1800" cy="1130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"/>
            <p:cNvSpPr/>
            <p:nvPr/>
          </p:nvSpPr>
          <p:spPr>
            <a:xfrm>
              <a:off x="7391520" y="1322280"/>
              <a:ext cx="101160" cy="103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9" h="121">
                  <a:moveTo>
                    <a:pt x="119" y="121"/>
                  </a:moveTo>
                  <a:lnTo>
                    <a:pt x="59" y="0"/>
                  </a:lnTo>
                  <a:lnTo>
                    <a:pt x="0" y="121"/>
                  </a:lnTo>
                  <a:lnTo>
                    <a:pt x="11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3"/>
          <p:cNvSpPr/>
          <p:nvPr/>
        </p:nvSpPr>
        <p:spPr>
          <a:xfrm>
            <a:off x="8158320" y="2603520"/>
            <a:ext cx="26820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8391240" y="26082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7132680" y="1506600"/>
            <a:ext cx="2840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372080" y="15098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7437600" y="2068560"/>
            <a:ext cx="563040" cy="489960"/>
            <a:chOff x="7437600" y="2068560"/>
            <a:chExt cx="563040" cy="489960"/>
          </a:xfrm>
        </p:grpSpPr>
        <p:sp>
          <p:nvSpPr>
            <p:cNvPr id="254" name="Freeform 18"/>
            <p:cNvSpPr/>
            <p:nvPr/>
          </p:nvSpPr>
          <p:spPr>
            <a:xfrm>
              <a:off x="7437600" y="2117520"/>
              <a:ext cx="509400" cy="44100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608" h="522">
                  <a:moveTo>
                    <a:pt x="0" y="504"/>
                  </a:moveTo>
                  <a:lnTo>
                    <a:pt x="13" y="522"/>
                  </a:lnTo>
                  <a:lnTo>
                    <a:pt x="608" y="18"/>
                  </a:lnTo>
                  <a:lnTo>
                    <a:pt x="596" y="0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9"/>
            <p:cNvSpPr/>
            <p:nvPr/>
          </p:nvSpPr>
          <p:spPr>
            <a:xfrm>
              <a:off x="7885080" y="2068560"/>
              <a:ext cx="115560" cy="116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Rectangle 20"/>
          <p:cNvSpPr/>
          <p:nvPr/>
        </p:nvSpPr>
        <p:spPr>
          <a:xfrm>
            <a:off x="8466120" y="2614680"/>
            <a:ext cx="1922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8594280" y="2614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2"/>
          <p:cNvSpPr/>
          <p:nvPr/>
        </p:nvSpPr>
        <p:spPr>
          <a:xfrm>
            <a:off x="7675560" y="2332080"/>
            <a:ext cx="61920" cy="226800"/>
          </a:xfrm>
          <a:custGeom>
            <a:avLst/>
            <a:gdLst>
              <a:gd name="textAreaLeft" fmla="*/ 0 w 61920"/>
              <a:gd name="textAreaRight" fmla="*/ 62280 w 61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75" h="267">
                <a:moveTo>
                  <a:pt x="0" y="0"/>
                </a:moveTo>
                <a:lnTo>
                  <a:pt x="22" y="20"/>
                </a:lnTo>
                <a:lnTo>
                  <a:pt x="39" y="44"/>
                </a:lnTo>
                <a:lnTo>
                  <a:pt x="53" y="71"/>
                </a:lnTo>
                <a:lnTo>
                  <a:pt x="64" y="100"/>
                </a:lnTo>
                <a:lnTo>
                  <a:pt x="72" y="132"/>
                </a:lnTo>
                <a:lnTo>
                  <a:pt x="75" y="165"/>
                </a:lnTo>
                <a:lnTo>
                  <a:pt x="73" y="198"/>
                </a:lnTo>
                <a:lnTo>
                  <a:pt x="68" y="232"/>
                </a:lnTo>
                <a:lnTo>
                  <a:pt x="62" y="251"/>
                </a:lnTo>
                <a:lnTo>
                  <a:pt x="57" y="26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7773840" y="2293920"/>
            <a:ext cx="21924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7851240" y="2306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25"/>
          <p:cNvGrpSpPr/>
          <p:nvPr/>
        </p:nvGrpSpPr>
        <p:grpSpPr>
          <a:xfrm>
            <a:off x="7440480" y="2495520"/>
            <a:ext cx="661680" cy="115560"/>
            <a:chOff x="7440480" y="2495520"/>
            <a:chExt cx="661680" cy="115560"/>
          </a:xfrm>
        </p:grpSpPr>
        <p:sp>
          <p:nvSpPr>
            <p:cNvPr id="262" name="Rectangle 26"/>
            <p:cNvSpPr/>
            <p:nvPr/>
          </p:nvSpPr>
          <p:spPr>
            <a:xfrm>
              <a:off x="7440480" y="2542320"/>
              <a:ext cx="60156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7"/>
            <p:cNvSpPr/>
            <p:nvPr/>
          </p:nvSpPr>
          <p:spPr>
            <a:xfrm>
              <a:off x="7986960" y="2495520"/>
              <a:ext cx="115200" cy="115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32"/>
          <p:cNvSpPr/>
          <p:nvPr/>
        </p:nvSpPr>
        <p:spPr>
          <a:xfrm>
            <a:off x="7147080" y="2243160"/>
            <a:ext cx="1648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3"/>
          <p:cNvSpPr/>
          <p:nvPr/>
        </p:nvSpPr>
        <p:spPr>
          <a:xfrm>
            <a:off x="7467480" y="1517760"/>
            <a:ext cx="1908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7596000" y="1517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7569360" y="2062080"/>
            <a:ext cx="166680" cy="2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6"/>
          <p:cNvSpPr/>
          <p:nvPr/>
        </p:nvSpPr>
        <p:spPr>
          <a:xfrm>
            <a:off x="7603200" y="20653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7"/>
          <p:cNvSpPr/>
          <p:nvPr/>
        </p:nvSpPr>
        <p:spPr>
          <a:xfrm>
            <a:off x="7697520" y="20653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3"/>
          <p:cNvSpPr/>
          <p:nvPr/>
        </p:nvSpPr>
        <p:spPr>
          <a:xfrm>
            <a:off x="8736120" y="1454040"/>
            <a:ext cx="26820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5"/>
              <p:cNvSpPr txBox="1"/>
              <p:nvPr/>
            </p:nvSpPr>
            <p:spPr>
              <a:xfrm>
                <a:off x="7238880" y="2600280"/>
                <a:ext cx="59688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56"/>
          <p:cNvSpPr/>
          <p:nvPr/>
        </p:nvSpPr>
        <p:spPr>
          <a:xfrm>
            <a:off x="966960" y="1109520"/>
            <a:ext cx="27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uler’s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57"/>
              <p:cNvSpPr txBox="1"/>
              <p:nvPr/>
            </p:nvSpPr>
            <p:spPr>
              <a:xfrm>
                <a:off x="523800" y="1660680"/>
                <a:ext cx="6131160" cy="19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i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iω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y</m:t>
                        </m:r>
                        <m:r>
                          <m:t xml:space="preserve">+</m:t>
                        </m:r>
                        <m:r>
                          <m:t xml:space="preserve">iωx</m:t>
                        </m:r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iω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Line 58"/>
          <p:cNvSpPr/>
          <p:nvPr/>
        </p:nvSpPr>
        <p:spPr>
          <a:xfrm flipH="1" flipV="1">
            <a:off x="7679880" y="2336760"/>
            <a:ext cx="6372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9"/>
              <p:cNvSpPr txBox="1"/>
              <p:nvPr/>
            </p:nvSpPr>
            <p:spPr>
              <a:xfrm>
                <a:off x="7978680" y="1762200"/>
                <a:ext cx="82872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ω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" name="Text Box 60"/>
          <p:cNvSpPr/>
          <p:nvPr/>
        </p:nvSpPr>
        <p:spPr>
          <a:xfrm>
            <a:off x="906480" y="3843360"/>
            <a:ext cx="291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nju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1"/>
              <p:cNvSpPr txBox="1"/>
              <p:nvPr/>
            </p:nvSpPr>
            <p:spPr>
              <a:xfrm>
                <a:off x="3678120" y="3749760"/>
                <a:ext cx="2506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ω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2"/>
              <p:cNvSpPr txBox="1"/>
              <p:nvPr/>
            </p:nvSpPr>
            <p:spPr>
              <a:xfrm>
                <a:off x="861840" y="4535640"/>
                <a:ext cx="3349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i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104840" y="1673280"/>
            <a:ext cx="792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879480" y="1216080"/>
            <a:ext cx="8394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rier Se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ny periodic motion can be represent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ransformation)       a series of sines and cos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Efficient computer algorithm to reduce computation time required to evaluate discrete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914400" y="2928960"/>
            <a:ext cx="519264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value :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value :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square val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mean square val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be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5"/>
              <p:cNvSpPr txBox="1"/>
              <p:nvPr/>
            </p:nvSpPr>
            <p:spPr>
              <a:xfrm>
                <a:off x="3767040" y="3705120"/>
                <a:ext cx="200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t xml:space="preserve">ℓ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3613320" y="4417920"/>
                <a:ext cx="2224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=</m:t>
                    </m:r>
                    <m:limLow>
                      <m:e>
                        <m:r>
                          <m:t xml:space="preserve">ℓ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4046400" y="5151600"/>
                <a:ext cx="5176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bar>
                          <m:barPr>
                            <m:pos m:val="top"/>
                          </m:bar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ba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8"/>
              <p:cNvSpPr txBox="1"/>
              <p:nvPr/>
            </p:nvSpPr>
            <p:spPr>
              <a:xfrm>
                <a:off x="2311560" y="5757840"/>
                <a:ext cx="5057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P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880320" y="2852640"/>
                <a:ext cx="195084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7972560" y="3375000"/>
                <a:ext cx="3078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867360" y="3697200"/>
                <a:ext cx="2595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2"/>
              <p:cNvSpPr txBox="1"/>
              <p:nvPr/>
            </p:nvSpPr>
            <p:spPr>
              <a:xfrm>
                <a:off x="7989840" y="4292640"/>
                <a:ext cx="371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3"/>
              <p:cNvSpPr txBox="1"/>
              <p:nvPr/>
            </p:nvSpPr>
            <p:spPr>
              <a:xfrm>
                <a:off x="7993080" y="4986360"/>
                <a:ext cx="371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Line 14"/>
          <p:cNvSpPr/>
          <p:nvPr/>
        </p:nvSpPr>
        <p:spPr>
          <a:xfrm>
            <a:off x="6270480" y="2941560"/>
            <a:ext cx="0" cy="2675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30T13:46:56Z</dcterms:created>
  <dc:creator>문희곤</dc:creator>
  <dc:description/>
  <dc:language>en-US</dc:language>
  <cp:lastModifiedBy>USER</cp:lastModifiedBy>
  <cp:lastPrinted>2015-09-16T00:52:09Z</cp:lastPrinted>
  <dcterms:modified xsi:type="dcterms:W3CDTF">2015-09-16T01:04:50Z</dcterms:modified>
  <cp:revision>153</cp:revision>
  <dc:subject/>
  <dc:title>슬라이드 제목 없음</dc:title>
</cp:coreProperties>
</file>